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41DD7-8F9D-44F9-804A-AD5E7EE7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915E3-383F-4B58-8EE6-14751CD1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2C49A-909C-4A59-B431-9736D42D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031A4-9889-4629-A22D-106111E8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9318-7F68-4FCF-9595-4C8FC5B2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36EC-46FE-4744-9DDB-2F04A6EC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B3B5-007F-422C-A6C9-83F9942B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F77E-00E5-4162-BC2D-BA6F3057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4891-E404-42B8-88FE-FBFA40CC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BDBE-95BF-496D-8FF9-C37F7002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0BCE-E736-4A59-9A85-32DDD2CD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7F91E-BBC8-45CB-B855-2FF58443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0816-4E22-48F2-BADA-78FDC87C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CE63-E928-4A6C-8045-4FCE3E19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7646-CBE2-4753-BBA8-DE5C1897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5FDF-2B3D-4C1E-9357-888413CD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E967-7FF8-47F2-8CEF-83DB57A7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9828B-14C8-47C7-AEF9-5B1C16F9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1094B-A0A0-4A9B-BAB0-1A08CF33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80AD5-E383-457D-97CD-2E8CF63C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89417-AAA5-422F-B0E1-64228E7D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EC1D0-AE3C-492D-A056-CF79E46B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574FD-6B5A-487B-9D73-33DF2853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8A805-45AD-45F6-87BC-CDD9E51D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9CAA-412E-4F7C-8E36-0309C7342105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626F-5EEC-4BBB-9EFE-CCEAAB0E5442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Program – 6. 11.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9.00 – 10.15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→ Oblasti činnosti výchovného poradce – péče o žáky se speciálními vzdělávacími potřebami – 2. část, péče o žáky nadané a žáky s neprospěch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10.15 – 10.30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 </a:t>
            </a:r>
            <a:r>
              <a:rPr b="0" lang="cs-CZ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10.30 – 11.45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 → problémy spojené se školní docházkou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11.45 – 12.00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 </a:t>
            </a:r>
            <a:r>
              <a:rPr b="0" lang="cs-CZ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12.00 – 13.00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→ kariérní poradenstv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. Oblast - řešení problémů spojených se školní docházk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 této oblasti patří řešení neomluvené absence a zvýšené omluvené ab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řešení neomluvené absen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v souladu s metodickým pokynem k jednotnému postupu při uvolňování a omlouvání žáků z vyučování, prevenci a postihu záškoláctví, kázeňské postihy za neomluvenou absenci jsou přesně popsány ve školním řá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lice účinná je pro nás spolupráce s kurátorem pro mláde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d roku 2003 jsme se zabývali i zvýšenou omluvenou absenc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občas je za ní schované skryté záškoláctví, hlavním cílem v této oblasti je však prevence neprospěchu nebo zhoršování prospěchu, vedení žáků k povinnosti doplňovat si zameškané uč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absence přesáhne 100 hodin, vyvolá třídní učitel jednání buď sám nebo za přítomnosti výchovného poradce – vždy začíná jako preventivní pohovor, často vznikne prostor i pro řešení jiných problémů spojených se vzdělávání ž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 jednání o neomluvené i zvýšené omluvené absenci se vždy pořizuje zápis, jeho závěry jsou pro všechny strany závaz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chny postupy a pravidla péče o žáky v této oblasti popisuje školní legislativa - Vnitřní předpis ZŠ Rosice pro řešení případů neomluvené absence a zvýšené omluvené ab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. Oblast - kariérní porad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úloha výchovného poradce → zprostředkovávání informací a administrativní činnosti, ne hodnocení a doporučování konkrétních středních šk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nzivní práce je zaměřena na žáky 8. a 9. ročníků, potřebné informace míří i k zájemcům  o studium na víceletých gymnáziích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zkumy a návštěvy ve třídách - předání informací o typech škol, možnostech vzdělávání a následného uplatnění, organizaci přijímacího řízení,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formační nástěnky – informace o důležitých termínech, o přípravě k přijímacím zkouškám,    o typech škol, změnách v legislativě, vyplňování přihlášek, z úřadu práce, prezentace letáků ze škol, termíny dnů otevřených dveří,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prava podkladů na webové stránky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lánky do školního časopisu Rosník a místního časopisu Ro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 Veletrhu středních škol na ZŠ Rosice – hlavní prezentační akce, možnost oslovit jak rodiče a žáky, tak zástupce středních šk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s náboráři pouze na této akci, výjimečně v rámci vyučování – narušování výu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ce organizačně náročná, ale velmi dobrá zpětná vaz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jišťování skupinových návštěv žáků v informačních a poradenských střediscích úřad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 vydávání zápisových lístků a jejich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 podávání přihlášek – vydávání, kontrola, evidence, vrácení přihlášek žák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odnocování úspěšnosti přijímacího 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dividuální konzultace pro žáky a rodič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5. Oblast - prevence a řešení závadového chování a sociálně patologických jev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last prevence je hlavní náplní práce školního metodika prevence a podrobně je rozpracovaná v minimálním preventivním progr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ýchovný poradce se na této oblasti podílí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pravou a realizací adaptačního pobytu pro žáky 4. a 6. ročníků – kontakt se žáky → navázání pocitu vzájemné důvěry, lepší spolupráce se žáky při řešení případných problémů v budoucnu, odpočinek od „kancelářské prác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zultace pro učitele a pomoc při řešení každodenních problémů – nekázeň žáků ve vyučování, problematická jednání s rodiči,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zultace pro učitele při řešení problémů ve třídních kolektiv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dnávání hrubých přestupků proti školnímu řádu, podklady pro zápisy z jednání, účast na jednáních výchovné k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s odborem sociální prevence – pokud škola vyčerpá všechny možnosti řešení problému a situace se nezlepší, má se kam obrátit (např. umísťování žáků na resocializační pobyty do středisek výchovné péč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efektivnímu řešení závadového chování žáků je třeba, aby učitelé ve škole spolupracovali a sjednotili svoje postu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kladní   škola   Rosice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atut školního poradenskéh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Hlavní oblasti čin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va a vzdělávání žáků se specifickými vzdělávacími potřeb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éče o žáky nadané a žáky s neprospěc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émy se školní docházkou – neomluvená a vysoká omluvená ab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iérní poradenství – profesní orientace žá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vence a řešení závadového chování a sociálně patologických jev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218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oblasti se vztahuje následující školní legislativa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Vnitřní předpis ZŠ Rosice ke sjednocení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dnocení a klasifikace ch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Vnitřní předpis ZŠ Rosice k prevenci a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ikanování mezi žá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. Vnitřní předpis ZŠ Rosice pro post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 případě výskytu zneužívání, držení č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tribuce návykových lát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. Oblast - výchova a vzdělávání žáků se specifickými vzdělávacími potřeb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ajišťování nebo zprostředkování diagnostiky speciálních vzdělávacích potře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→ koordinace vyšetření žáků ve školských poradenských zařízeních – vydávání dotazníků, kontrola jejich vyplnění, evidence, zajištění odeslání, evidence došlých zpráv, uložení hlavních závěrů do databáze, předání kopie zprávy z vyšetření 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cká pomoc při přípravě IVP pro integrované žáky – sledování vývoje legislativy, příprava podkladů pro tvorbu IVP – formulář a „kuchařka“ jak plán vytvoř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rola a evidence hotových IVP, vedení spisové dokument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íl na projednávání IVP s rodič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odnocování efektivity – zpětná vazba od rodičů, třídních učitelů, případně učitelů jednotlivých předmětů i žáků, na základě vyhodnocení péče návrh odměn za péči o integrované žá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běžnou péči o tyto žáky zajišťují speciální pedagog a školní psycho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chny postupy a pravidla péče o žáky s SVP popisuje školní legislativa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nitřní předpis ZŠ Rosice k integraci a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ělávání žáků se speciálními vzdělávací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Vnitřní předpis ZŠ Rosice ke slovním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dnocení žáků se speciálními vzdělávací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Oblast - péče o nadané žáky a žáky      s neprospěc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ordinace vyhledávání žáků, jejichž vývoj a vzdělávání vyžadují zvláštní pozornost a přípravy návrhů na další péči o tyto žáky → vyhodnocování podnětů od TU, závěrů pedagogických 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ále větší pozornost je věnovaná mimořádně nadaným žákům – integrace mimořádně nadaných žáků a práce podle IV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žáků s neprospěchem hledání příčin – nejčastěji nechuť žáků pracovat a plnit zadané úkoly – jako velmi účinné se ukázalo společné projednání problému za přítomnosti třídního učitele, vyučujícího problémového předmětu a zákonného zástupce za přítomnosti ž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nání má povinnost vyvolat třídní učitel na konci 1. a 3. čtvrtletí pokud je žák z nějakého předmětu hodnocen 5 nebo 4 – 5, z jednání je vždy pořízen zápis, který podepíší všichni účastníci jedn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vný poradce pouze eviduje zápisy z jednání a zasáhne pouze na žádost TU – např. pokud se současně projednává kázeňský probl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je příčinou jiný problém – např. rodinné problémy, špatné postavení v třídním kolektivu, nediagnostikované poruchy učení nebo chování apod. - pomáhá VP společně s třídním učitelem, případně zákonnými zástupci žáka, hledat řeš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chny postupy a pravidla péče o žáky v této oblasti popisuje školní legislativa - Vnitřní předpis ZŠ Rosice k zajištění péče o žáky neprospívající a žáky mimořádně nada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5-11-08T20:54:29Z</dcterms:modified>
  <cp:revision>95</cp:revision>
  <dc:subject/>
  <dc:title>Výchovný poradce  v systému poradenských služeb na ZŠ Rosice</dc:title>
</cp:coreProperties>
</file>