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5F95-15D9-45BB-84D0-2EA46200D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0C7F-438D-4935-870E-65A09D85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115D-9928-409F-B937-78CC3D37D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BE53-3D79-49D2-9E46-74610F5B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DFB0-7337-42D9-BEAA-D7BB6322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2624-69E3-481F-AA20-FFF829E0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9CAB-F636-4839-8B7C-5E2F5D4C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F7FE-BED8-428C-A7E7-3E8371B4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46F5-B1EB-4624-A7ED-D970885B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4D94-4366-49D4-B4A0-C5716287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C5D7-3A22-47F8-9A45-9A19CABB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E2BE-1C41-48C0-B0E6-2C2F8BF1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B70B-6CC1-4685-ADF8-A900F6F7118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19120" y="189000"/>
            <a:ext cx="8013600" cy="6215760"/>
          </a:xfrm>
          <a:prstGeom prst="rect">
            <a:avLst/>
          </a:prstGeom>
          <a:solidFill>
            <a:srgbClr val="f0fda1">
              <a:alpha val="83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Získávání a měření nízkých tla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Jednotky tlaku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Pa = N / 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at = kp / cm2 = 0,9807.105 Pa (technická atmosfé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b = 105 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atm = 760 torr = 1,01325.105 Pa (fyzikální atmosfé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torr = 1,3332.102 Pa = tlak 1 mm sloupce H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0.1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ývě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odní a pístová vývě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Object 5"/>
          <p:cNvGraphicFramePr/>
          <p:nvPr/>
        </p:nvGraphicFramePr>
        <p:xfrm>
          <a:off x="1692360" y="3213000"/>
          <a:ext cx="163836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213000"/>
                    <a:ext cx="1638360" cy="312444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5" name="Picture 9" descr="V2"/>
          <p:cNvPicPr/>
          <p:nvPr/>
        </p:nvPicPr>
        <p:blipFill>
          <a:blip r:embed="rId3">
            <a:lum contrast="66000"/>
          </a:blip>
          <a:stretch/>
        </p:blipFill>
        <p:spPr>
          <a:xfrm>
            <a:off x="4788000" y="3213000"/>
            <a:ext cx="2171520" cy="1800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447840" y="568440"/>
            <a:ext cx="8084880" cy="496980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Langmuirův – Dushmanův vakuoměr              Penningův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VA6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1125360"/>
            <a:ext cx="1940040" cy="3505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VRAK1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356000" y="2205000"/>
            <a:ext cx="3811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7"/>
          <p:cNvSpPr/>
          <p:nvPr/>
        </p:nvSpPr>
        <p:spPr>
          <a:xfrm>
            <a:off x="799560" y="568440"/>
            <a:ext cx="7605720" cy="55803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Lopatková rotač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V6"/>
          <p:cNvPicPr/>
          <p:nvPr/>
        </p:nvPicPr>
        <p:blipFill>
          <a:blip r:embed="rId1">
            <a:biLevel thresh="50000"/>
            <a:lum contrast="100000"/>
          </a:blip>
          <a:stretch/>
        </p:blipFill>
        <p:spPr>
          <a:xfrm>
            <a:off x="2050920" y="1557360"/>
            <a:ext cx="4934160" cy="4054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92200" y="568440"/>
            <a:ext cx="78674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ývěva s kolujícím rotor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V7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1700280"/>
            <a:ext cx="6046920" cy="3454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519120" y="568440"/>
            <a:ext cx="7869240" cy="57531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ootsova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V9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843280" y="1484280"/>
            <a:ext cx="4228920" cy="407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592200" y="568440"/>
            <a:ext cx="78674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urbomolekulár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V10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211640" y="1052640"/>
            <a:ext cx="1743120" cy="2047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4" name="Picture 6" descr="V11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258920" y="3429000"/>
            <a:ext cx="6305400" cy="2333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519120" y="496800"/>
            <a:ext cx="80852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ifúz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ondenzační a getrovací vývěv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V12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556000" y="1052640"/>
            <a:ext cx="5035320" cy="462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519120" y="496800"/>
            <a:ext cx="8156520" cy="594612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0.2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Měření nízkých tla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acleodův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VA1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32000" y="1844640"/>
            <a:ext cx="2116080" cy="4164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9" name="Picture 6" descr="VA2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3780000" y="2708280"/>
            <a:ext cx="4559040" cy="255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663480" y="639720"/>
            <a:ext cx="7869240" cy="57531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embránové manome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VA3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971640" y="2133720"/>
            <a:ext cx="7359480" cy="206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519120" y="568440"/>
            <a:ext cx="8156520" cy="54874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olekulární vakuoměr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           Ionizační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VA4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907920"/>
            <a:ext cx="1485720" cy="4044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4" name="Picture 6" descr="VA5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5364000" y="1628640"/>
            <a:ext cx="2732400" cy="3002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5:05:11Z</dcterms:created>
  <dc:creator>Vladislav Navrátil</dc:creator>
  <dc:description/>
  <dc:language>en-US</dc:language>
  <cp:lastModifiedBy>navratil</cp:lastModifiedBy>
  <dcterms:modified xsi:type="dcterms:W3CDTF">2014-10-02T13:05:32Z</dcterms:modified>
  <cp:revision>6</cp:revision>
  <dc:subject/>
  <dc:title>Snímek 1</dc:title>
</cp:coreProperties>
</file>