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CB1-62A2-48DA-9189-649300CB0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51F-CD83-465C-A7F1-83465D0A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4089-31AA-4B0C-BD6E-658BC90C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216-FA23-4577-90B2-644A2244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FCF0-2678-4A5A-80BE-6AE9478D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DBC-FDD8-47F4-A80E-DA6F8582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8392-52E8-4893-BC46-70F161802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F07D-49C9-4DB5-9FD5-F5802DAD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68ED-FDD1-4CBC-B0AB-617A014C7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2514-16A1-4129-8D04-8E569B4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966F-829B-4B9F-B7CC-386683C7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CA8B-40F1-4AAB-9FD5-5A194C3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C97B9-A929-45E6-A12B-952894F5F58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Object 5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Picture 9" descr="V2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VA6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VRAK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7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V6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V7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V9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V10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Picture 6" descr="V11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V1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1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Picture 6" descr="VA2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VA3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VA4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Picture 6" descr="VA5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navratil</cp:lastModifiedBy>
  <dcterms:modified xsi:type="dcterms:W3CDTF">2014-10-02T13:05:32Z</dcterms:modified>
  <cp:revision>6</cp:revision>
  <dc:subject/>
  <dc:title>Snímek 1</dc:title>
</cp:coreProperties>
</file>