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0BD-2BA1-494A-9EA8-4FB8C5CD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321-5452-4271-96F7-2FDF3B2F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650-622A-4AA4-9AD7-A19A89EB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20-53AD-46D1-BC6B-9EC7EFFE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EDD-C6AB-44C4-AE4B-451AFE82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40A-FB9B-4E85-A9F6-452FF6D7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FDF-03EE-4F75-8879-6437078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772-8FFA-4BCC-99F8-650095F9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8C8-5F4C-41DF-8828-C391BF17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3BC-526A-4C77-99F9-28AC042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2B9-CDE6-4E55-9CB1-AE7CCF7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9AA-00AB-4DFF-92C2-26DFADA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048-D459-4900-9DE3-E653DFAA05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Picture 9" descr="V2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VRAK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6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V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6" descr="V1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V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6" descr="VA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VA3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A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6" descr="VA5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navratil</cp:lastModifiedBy>
  <dcterms:modified xsi:type="dcterms:W3CDTF">2014-10-02T13:05:32Z</dcterms:modified>
  <cp:revision>6</cp:revision>
  <dc:subject/>
  <dc:title>Snímek 1</dc:title>
</cp:coreProperties>
</file>