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C56F-18BB-4AD4-80EF-21FF581FF68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Zástupný symbol pro datum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9.9.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Zástupný symbol pro číslo snímku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BE83-82A7-470C-AFAB-56E06792C42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B7CF-F8A4-40D2-9C6B-D4C1F74399D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ástupný symbol pro datum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8.4.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6FEF-23EF-449F-AC19-B1D7B000546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Zástupný symbol pro datum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8.4.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0C6AF-FA70-49A2-80FC-456385D27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0CAEB-138C-489A-AAD9-C9608E93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B977A-228A-45A1-89F4-5D8989B24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865C6-97C7-4BE6-954E-1DFBC5E28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CDC5-EEC8-4391-90D2-A3E9F95CD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1F8F2-4BC2-446D-B91B-221275A0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DDFA-A9F1-4EF9-A0FF-CCF869E2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D5FDE-D2E8-4454-8B32-7264D80F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ED93-B870-4E1C-AB06-F7DED6D1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069C8-1A02-49A7-8C94-EC7AD4D5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B1A2-D647-46BD-8199-2F1DB684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E8F45-2B0D-4C15-8D8C-7608A5C1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7178-19BE-4585-A872-DA426E70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03961-8304-47A8-B174-64E3A31E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D594-D2FB-42E5-AC1A-AAF3CE31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ADB03-E006-4FE4-9A5E-B084D8FEE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FE0B-17F2-4C94-AFC3-5239C73E5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FCE47-659B-4C48-A287-E9274289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8F069-5CAA-4711-9C7C-ABE4840D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EDB72-733A-46D2-A130-941184D2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0C577-5845-4982-A91B-47405AE9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57AB9-8146-4F16-8092-2ADBF43F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1A491-10DD-422F-92AD-DC047C22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C864B-3932-4FD7-8F07-E1528CBD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34EE-79A3-47E1-9A2C-9A9DCF84F10E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9DF4-7065-4D8E-BA58-2C0DDEAA05CE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Metodick&#233;%20materi&#225;ly%20-%2030.9.2016/Standardn&#237;%20&#269;innosti%20&#353;koln&#237;ho%20metodika%20prevence.docx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lenkaond@seznam.cz" TargetMode="External"/><Relationship Id="rId2" Type="http://schemas.openxmlformats.org/officeDocument/2006/relationships/hyperlink" Target="file:///&#218;kol%20-%20dotazn&#237;k.doc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352;kolsk&#253;%20z&#225;kon%20-%20paragraf%2022.doc" TargetMode="External"/><Relationship Id="rId2" Type="http://schemas.openxmlformats.org/officeDocument/2006/relationships/hyperlink" Target="file:///Metodick&#233;%20materi&#225;ly%20-%2030.9.2016/Pozv&#225;n&#237;%20k%20jedn&#225;n&#237;%20do%20&#353;koly.doc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000000"/>
                </a:solidFill>
                <a:uFillTx/>
                <a:latin typeface="Arial"/>
              </a:rPr>
              <a:t>Program – 30. 9.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9.00 – 10.30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→ základní informace o studiu; představení posluchačů, motivace ke studiu, očeká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0.30 – 10.45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→ přestáv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0.45 – 11.45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→ výchovný poradce a platné právní předpi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1.45 – 12.00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→ přestáv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2.00 – 13.00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→ hlavní změny spojené s inkluzí a společným vzděláváním platné od 1. 9. 2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250560" y="1557360"/>
            <a:ext cx="84358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§ 7 – 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ditel základní, střední a vyšší odborné školy zabezpečuje poskytování poradenských služeb ve škole </a:t>
            </a:r>
            <a:r>
              <a:rPr b="1" lang="cs-CZ" sz="2400" spc="-1" strike="noStrike" u="sng">
                <a:solidFill>
                  <a:srgbClr val="ff0000"/>
                </a:solidFill>
                <a:uFillTx/>
                <a:latin typeface="Arial"/>
              </a:rPr>
              <a:t>školním poradenským pracovištěm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, ve kterém působí zpravidla výchovný poradce a školní metodik prevence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teří spolupracují zejména s třídními učiteli, učiteli výchov, případně dalšími pedagogickými pracovníky školy. Poskytování poradenských služeb ve škole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ůže být zajišťováno i školním psychologem nebo školním speciálním pedagoge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 škole jsou zajišťovány poradenské služby v rozsahu odpovídajícím počtu a vzdělávacím potřebám žáků školy zaměřené 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oskytování podpůrných opatření pro žáky se speciálními vzdělávacími potřeb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Z vyhlášky č. 197/2016 o poskytování poradenských služeb ve školách a školských zařízen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250560" y="620640"/>
            <a:ext cx="843588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sledování a vyhodnocování účinnosti zvolených podpůrných opat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evenci školní neúspěš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riérové poradenství spojující vzdělávací, informační a poradenskou podporu vhodné volbě vzdělávací cesty a pozdějšímu profesnímu uplatně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odporu vzdělávání a sociálního začleňování žáků  z odlišného kulturního prostřední a s odlišnými životními podmínk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poru vzdělávání žáků nadaných a mimořádně nadan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ůběžnou a dlouhodobou péči o žáky s výchovnými či vzdělávacími obtížemi a vytváření příznivého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sociálního klimatu pro přijímání kulturních a jiných odlišností ve škole a školském za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250560" y="620640"/>
            <a:ext cx="84358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včasnou intervenci při aktuálních problémech          u jednotlivých žáků a třídních kolektiv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ředcházení všem formám rizikového chování včetně různých forem šikany a diskrimin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růběžné vyhodnocování účinnosti preventivních programů uskutečňovaných škol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metodickou podporu učitelům při použití psychologických a speciálně pedagogických postupů ve vzdělávací činnosti ško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spolupráci a komunikaci mezi školou a zákonnými zástup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spolupráci školy při poskytování poradenských služeb se školskými poradenskými zařízení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0000"/>
                </a:solidFill>
                <a:uFillTx/>
                <a:latin typeface="Arial"/>
              </a:rPr>
              <a:t>Škola zpracovává a uskutečňuje program poradenských služeb ve škole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, který zahrnuje popis činností a vymezení odpovědnosti pedagogických pracovníků uvedených v odstavci 1, preventivní program školy včetně strategie předcházení školní neúspěšnosti, šikaně a dalším projevům rizikového ch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edagogičtí pracovními uvedení v odstavci 1 se podílejí na zajišťování podpůrných opatření pro žáky se speciálními vzdělávacími potřebami, poskytují součinnost ŠPZ a spolupracují s orgány veřejné moci  za účelem ochrany práv žák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Příloha č. 3 k vyhlášce č. 197/20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. Standardní činnosti výchovného porad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oradenské činnosti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Kariérové poradenství a poradenská pomoc při rozhodování o další vzdělávací a profesní cestě žáků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yhledávání a orientační šetření žáků, jejichž vývoj a vzdělávání vyžadují zvláštní pozornost a příprava návrhů na další péči, včetně spolupráci na přípravě, kontrole a evidenci PLPP pro žáky s potřebou podpůrného opatření v 1. stup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ajišťování vstupní nebo průběžné diagnostiky speciálních vzdělávacích potřeb a mimořádného nadání a intervenčních činností pro žáky se speciálními vzdělávacími potřebami nebo mimořádně nadané žáky ve školských poradenských zařízení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áce se školskými poradenskými zařízeními při zajišťování podpůrných opatření pro žáky se SVP a intervenčních činností pro žáky se SV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prava podmínek pro vzdělávání žáků se SVP ve škole, koordinace poskytování poradenských služeb těmto žákům školou a školskými poradenskými zařízeními a koordinace vzdělávacích opatření u těch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kytování služeb kariérového poradenství pro žáky se speciálními vzdělávacími potřebami a zejména pro žáky uvedené v § 16 odst. 9 školského záko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Metodické a informační činnos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todická pomoc pedagogickým pracovníkům ško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spcBef>
                <a:spcPts val="499"/>
              </a:spcBef>
              <a:buClr>
                <a:srgbClr val="9999cc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otázkách kariérového rozhodování žá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spcBef>
                <a:spcPts val="499"/>
              </a:spcBef>
              <a:buClr>
                <a:srgbClr val="9999cc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 přípravou a vyhodnocováním plánu pedagogické podp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spcBef>
                <a:spcPts val="499"/>
              </a:spcBef>
              <a:buClr>
                <a:srgbClr val="9999cc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 naplňováním podpůrných opatření ve vzdělávání žáků se SV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spcBef>
                <a:spcPts val="499"/>
              </a:spcBef>
              <a:buClr>
                <a:srgbClr val="9999cc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 tvorbou a vyhodnocováním individuálních vzdělávacích plán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spcBef>
                <a:spcPts val="499"/>
              </a:spcBef>
              <a:buClr>
                <a:srgbClr val="9999cc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práci s nadanými a mimořádně nadanými žá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prostředkování nových metod pedagogické diagnostiky a intervence pedagogickým pracovníkům ško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todická pomoc pedagogickým pracovníkům školy v otázkách kariérového rozhodování žáků, integrace, IVP, práce s nadanými žáky ap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dávání odborných informací z oblasti kariérového poradenství a péče o žáky se SVP pedagogickým pracovníkům ško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kytování informací o činnosti školy, školských a dalších poradenských zařízeních v regionu, o jejich zaměření, kompetencích a o možnostech využívání jejich služeb žákům a jejich zákonným zástupců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hromažďování odborných zpráv a informací o žácích v poradenské péči dalších poradenských zařízení a jejich zajištění v souladu s předpisy o ochraně osobních údaj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dení písemných záznamů umožňujících doložit rozsah a obsah činnosti výchovného poradce, navržená a realizovaná opatř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Standardní činnosti školního metodika prev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tandardní činnosti školního psycholo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tandardní činnosti školního speciálního pedago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ěkteré činnosti uvedené ve standardech pro jednotlivé poradenské pracovníky se překrývají, proto je důležité stanovit ve škole poradenským pracovníkům pracovní náplně, které budou co nejpřesněji vymezovat jejich činnost a odpovídat velikosti jejich pracovního úvazku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Dokumenty související 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éčí o žáky se speciálními vzdělávacími potřebami a žáky nadanými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on č. 561/2004 Sb. o předškolním, základním, středním, vyšším odborném a jiném vzdělání (školský zákon) →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§16 - §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yhláška č. 27/2016 Sb.o vzdělávání dětí, žáků a studentů se speciálními vzdělávacími potřebami a dětí, žáků a studentů mimořádně nadaných v platném znění – nová vyhláška, která nahrazuje vyhlášku 73/2005 – ukázka nové vyhláš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Představení: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Mgr. Lenka Ondráčk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2 výchovná poradkyně na ZŠ, 9 let vedoucí školního poradenskéh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 r. 2013 lektorka a jednatelka vzdělávací agentury EDUPRAXE, s.r.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 </a:t>
            </a:r>
            <a:r>
              <a:rPr b="0" lang="cs-CZ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lenkaond@seznam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1. úk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učná charakteristika poradenských služeb ve vaší 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plnit </a:t>
            </a:r>
            <a:r>
              <a:rPr b="0" lang="cs-CZ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dotazník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elektronicky odeslat do 7. 10. 20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Dokumenty souvisejíc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 kariérním poradenstvím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on č. 561/2004 Sb. o předškolním, základním, středním, vyšším odborném a jiném vzdělání (školský zákon) v platném znění, hodně změn v souvislosti s poslední novelou 178/2016 →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§ 59 - § 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yhláška č. 671/2004 Sb., kterou se stanoví podrobnosti o organizaci přijímacího řízení ke vzdělávání ve středních školách,ve znění vyhlášky č. 422/2006 Sb., č. 46/2008 Sb.,č. 394/2008 Sb., č. 86/2012 a č.245/20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Dokumenty související s odměňováním výchovného poradce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yhláška č. 317/2005 Sb., o dalším vzdělávání pedagogických pracovníků, akreditační komisi a kariérním systému pedagogických pracovníků →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§ 8 je věnován studiu pro výchovné porad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řízení vlády č. 75/2005 Sb., o stanovení rozsahu přímé vyučovací, přímé výchovné, přímé speciálně pedagogické a přímé pedagogicko-psychologické činnosti pedagogický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íra vyučovací povinnosti výchovných poradců je dána nařízením vlády č. 75/2005 Sb., o stanovení rozsahu přímé vyučovací, přímé výchovné, přímé speciálně pedagogické a přímé pedagogicko-psychologické činnosti pedagogických pracovníků. Podle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§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 3 odstavce 3 této vyhlášky, se učiteli - výchovnému poradci snižuje týdenní rozsah přímé vyučovací činn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základní škole s počtem žák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 150 o 1 hodinu týdně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 250 o 2 hodiny týdně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 550 o 3 hodiny týdně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 800 o 4 hodiny týdně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d 800 o 5 hodin týdn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todický pokyn k odměňování pedagogických pracovníků a ostatních zaměstnanců škol a školských zařízení a jejich zařazování do platových tříd podle katalogu prací č.j. 10300/2010-25 (platný od 1.10.20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ařazení do 13. platové třídy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ýkon specializované metodologické činnosti v oblasti pedagogiky a psychologie, k jejímuž výkonu je nezbytné získání specializace stanovené zvláštním právním předpisem. Uvedenou třídu zřizovatel nebo zaměstnavatel přizná, požaduje-li vykonávání náročnějších činností, tj. „specializované metodologické činnosti v oblasti pedagogiky a psychologie“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Za specializované metodologické činnosti z oblasti pedagogiky a psychologie lze v práci výchovného poradce považovat činnosti přesahující standardní činnosti výchovného poradce (standardní činnosti výchov.poradce stanoví příloha č. 3 k vyhlášce č. 72/2005 Sb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yto činnosti spočívají v tvorbě a analýze metod práce při vykonávání odborných činností výchovného poradce, např. odborná práce se zájmovými dotazníky a profesiogramy, s žáky se speciálními vzdělávacími potřebami, odborná pomoc žákům při vyhledávání vhodných stylů učení, odborná intervence u žáků se specifickými poruchami učení a chování, řešení problémových situací, vyhledávání mimořádně nadaných dětí - participace na úpravách jejich učiva, odhalování šikany, projevů diskriminace, nepřátelství nebo násilí a jiných negativních jevů na škole, orientace v poradenské psychologi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yto činnosti na kvalitativně vyšší úrovni by měly být evidentní a měli by je oceňovat: vedení školy, třídní učitelé, pedagogický sbor, žáci a rodičovská veřejno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mínky studia pro výchovné poradce (nejméně 250 vyučovacích hodin v programu celoživotního vzdělávání na VŠ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bsolvování uvedeného studia neznamená automatické zařazení do 13. platové třídy, ale je jedním z předpoklad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1128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201"/>
              </a:spcBef>
              <a:buClr>
                <a:srgbClr val="00206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Legislativní změny – je schválená novela školského zákona 82/2015, vyhláška č. 27/2016 o vzdělávání žáků se speciálními vzdělávacími potřebami a žáků nadaných a novela vyhlášky o poskytování poradenských služe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201"/>
              </a:spcBef>
              <a:buClr>
                <a:srgbClr val="00206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Mění se pravidla a zažitá terminolog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201"/>
              </a:spcBef>
              <a:buClr>
                <a:srgbClr val="00206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Výrazně se posiluje role školy v zajištění péče o žáky se SV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201"/>
              </a:spcBef>
              <a:buClr>
                <a:srgbClr val="00206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omoc žákům se SVP je poskytovaná prostřednictvím podpůrných opatření – ta jsou rozděleni do 5 stupňů; podpůrná opatření 1. stupně jsou plně v kompetenci ško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201"/>
              </a:spcBef>
              <a:buClr>
                <a:srgbClr val="00206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Hlavní změny od 1. 9. 20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Základní rámec péče o žáky se SV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507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aragraf 16 školského zákon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Dítětem, žákem a studentem se SVP se rozumí osob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terá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k naplnění svých vzdělávacích možností nebo k uplatnění nebo užívání svých práv na rovnoprávném základě s ostatními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třebuje poskytnutí podpůrných opatř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. PO se rozumí nezbytné úpravy ve vzdělávání a školských službách odpovídající zdravotnímu stavu, kulturnímu prostředí nebo jiným životním podmínkám dítěte, žáka nebo studenta. Děti…se SVP mají právo na bezplatné poskytování podpůrných opatření školou a školským zařízení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720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Žáci budou vzděláváni s využitím podpůrných opatření, která spočívají v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radenské podpoře školy a školského poradenského za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pravě organizace, obsahu, hodnocení, forem a metod vzdělávání včetně zabezpečení předmětů speciálně pedagogické péč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pravě podmínek pro přijímaní a ukončování vzděl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užití kompenzačních pomůcek a speciálních učebnic a učebních pomůc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Základní rámec péče o žáky se SV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ffffff"/>
                </a:solidFill>
                <a:latin typeface="Arial"/>
              </a:rPr>
              <a:t>Výchovný poradce a platné právní předpisy</a:t>
            </a: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5720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603360" indent="-255600">
              <a:lnSpc>
                <a:spcPct val="120000"/>
              </a:lnSpc>
              <a:spcBef>
                <a:spcPts val="400"/>
              </a:spcBef>
              <a:buClr>
                <a:srgbClr val="0070c0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pravě očekávaných výstupů vzdělávání v mezích stanovených rámcovými vzdělávacími progra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lnSpc>
                <a:spcPct val="120000"/>
              </a:lnSpc>
              <a:spcBef>
                <a:spcPts val="400"/>
              </a:spcBef>
              <a:buClr>
                <a:srgbClr val="0070c0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dělávání podle IV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lnSpc>
                <a:spcPct val="120000"/>
              </a:lnSpc>
              <a:spcBef>
                <a:spcPts val="400"/>
              </a:spcBef>
              <a:buClr>
                <a:srgbClr val="0070c0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užití asistenta pedago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lnSpc>
                <a:spcPct val="120000"/>
              </a:lnSpc>
              <a:spcBef>
                <a:spcPts val="400"/>
              </a:spcBef>
              <a:buClr>
                <a:srgbClr val="0070c0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užití dalšího pedagogického pracovníka, příp. tlumočníka do znakového jazyka ap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lnSpc>
                <a:spcPct val="120000"/>
              </a:lnSpc>
              <a:spcBef>
                <a:spcPts val="400"/>
              </a:spcBef>
              <a:buClr>
                <a:srgbClr val="0070c0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kytování  vzdělávání v prostorách stavebně nebo technicky upraven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Základní rámec péče o žáky se SV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půrná opatření jsou v jednotlivých oblastech rozdělena do 5 kategorií podle míry postižení žáka, organizační a finanční náročnosti – jednotlivá opatření jsou popsaná v nové vyhlášce a v katalozích 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dpůrná opatření 1. stupně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oskytuje škola sama      na základě svého posouzení vzdělávacích potřeb žáka, vyhodnocuje jejich účinnost a až když jsou neúčinná, navrhuje vyšetření žáka ve ŠPZ.                           Novinka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lán pedagogické podp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dpůrná opatření 2. – 5. stupně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žáky bude do vyšších stupňů zařazovat ŠPZ – PO se poskytují na základě doporučení ŠPZ, pro školu budou závazná; některá podpůrná opatření  v těchto kategoriích jsou spojená    s nárokem na finanční prostředky na jejich realizaci. Žáci mohou pracovat dle IVP.                                   Novinka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formovaný souhlas zákonného zástup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brá znalost platné legislativy a její efektivní využívání v každodenní práci vede k vyšší profesionalitě a respektu ze strany kolegů i rodič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 – využití </a:t>
            </a:r>
            <a:r>
              <a:rPr b="0" lang="cs-CZ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§ 22 školského zákona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povinnosti žáků, studentů a zákonných zástupců dětí a nezletilých žáků – </a:t>
            </a:r>
            <a:r>
              <a:rPr b="0" lang="cs-CZ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pozvání k jednání do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kony, vyhlášky a metodické pokyny vymezují rámec pro poskytování poradenských služeb a činnost výchovného porad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ámec se dá aplikovat na každé škole jin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blematika poradenských služeb ve školách v současné době prochází velkou proměnou v souvislosti se změnami spojenými s inkluzí a společným vzdělávání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kladní dokument, který vymezuje činnost výchovného poradce ve škole, je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hláška č.  72/2005 Sb. o poskytování poradenských služeb ve školách a školských zařízeních v platném znění – poslední novela 197/2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ato novela je platná od 1.9.201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áška vymezuje, kdo poradenské služby poskytuje, komu je poskytuje, co je jejich obsahem a jaké jsou standardní činnosti jednotlivých poradenských pracovníků – na jejich základě by měli mít všichni poradenští pracovníci stanovené pracovní nápl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 školu jsou nejdůležitější paragrafy 4 + 7 a příloha č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000000"/>
                </a:solidFill>
                <a:uFillTx/>
                <a:latin typeface="Arial"/>
              </a:rPr>
              <a:t>Z vyhlášky č. 197/2016 o poskytování poradenských služeb ve školách a školských zařízení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3588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§ 4 – Další dokum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1) Školské poradenské zařízení vede dokumentac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) o žádostech o poskytnutí poradenské služby, odmítnutí nebo přerušení poskytování poradenské služb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 vyšetření, jeho výsledcích a poskytnuté péči individuální i skupinové, včetně zprávy a doporučení ke vzdělávání žáka se speciálními vzdělávacími potřebami a žáka mimořádně nadané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) o spolupráci se školami a školskými zařízení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000" y="620640"/>
            <a:ext cx="84358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)  o doporučeních k poskytování podpůrných opatření, jejich druhu, skladbě a stupních a o případných změnách těchto doporuč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)  o doporučeních ke vzdělávání žáků ve škole, třídě, oddělení nebo studijní skupině zřízené podle § 19 odst. 9 školského zák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)   o poskytnutí informace podle § 1 odst. 3 (informace žákovi a jeho zákonnému zástupci o podstatných náležitostech poskytované poradenské služby, o jejím prospěchu a předvídatelných důsledcích, o jeho právech a povinnostech spojených s poskytováním poradenské služb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68000" y="620640"/>
            <a:ext cx="84358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)   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o součinnosti se školami a školskými zařízením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g)  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o komunikaci a spolupráci s orgány veřejné moc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h)  o revizi zprávy a doporučení podle § 16b školského záko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Škola vede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o poradenských službách poskytovaných školním psychologem nebo speciálním pedagogem 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dokumentaci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podle odstavce 1 písm. a), b) a e) až g) a o poradenských službách poskytovaných školním metodikem prevence nebo výchovným poradcem podle odst. 1 písm. b), f) a 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Škola dále vede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dokumentaci o poskytovaných podpůrných opatřeních prvního stupně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20:37:04Z</dcterms:created>
  <dc:creator>Uzivatel</dc:creator>
  <dc:description/>
  <dc:language>en-US</dc:language>
  <cp:lastModifiedBy>ION</cp:lastModifiedBy>
  <dcterms:modified xsi:type="dcterms:W3CDTF">2016-09-29T19:26:57Z</dcterms:modified>
  <cp:revision>72</cp:revision>
  <dc:subject/>
  <dc:title>Výchovný poradce  v systému poradenských služeb na ZŠ Rosice</dc:title>
</cp:coreProperties>
</file>