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8124D-FC53-4899-81A2-C4A1470C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5FB8-A50F-425A-867E-BAF631AB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3C07-4A38-45E9-9C4F-1BA713C7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CD33-A1FC-4173-9A39-E7F93655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C877-18FA-42C4-8978-C835BD2D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0543-1811-4593-BF0F-5F102185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0628-D33F-4251-A5BA-714BFAC2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83DE-49C4-427C-B5C5-E63AA60F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CC59-1776-4165-88D7-12EA67D8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4EC5-70E4-4047-BE73-CF481194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5196-6269-42B0-96BC-BA7654CB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A9180-3D89-433A-B6E4-19634253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A5C5-92E8-4212-BE7D-205905AB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F300-1B3F-4782-9330-30593B54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F6D8-13AD-46EC-8BCA-F96FC5EB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865E-55FD-463A-A6C0-1B7D3E3E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1877-F546-47AF-943F-D93B4A00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253B-A352-492D-916C-D078E4A5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EEE5-4C8B-4A7A-9B0D-0F0A6A99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31089-3073-441C-9988-836734FD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F2760-1AF3-46ED-9A40-A0B2EAF6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A250-97FC-4DD1-937A-2546F380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52CC-6806-4A5E-A6A7-90783311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EADC2-3FB5-461A-A9BC-959113B4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EC9D-8F81-4D74-91E6-270AEAB47E71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6E1C-9C76-40F3-9463-C0671F7AF42D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VP%20-%20neprosp&#237;vaj&#237;c&#237;%20a%20nadan&#237;%20&#382;&#225;ci.doc" TargetMode="External"/><Relationship Id="rId2" Type="http://schemas.openxmlformats.org/officeDocument/2006/relationships/hyperlink" Target="file:///Z&#225;pis%20-%20neprosp&#283;ch%20&#382;&#225;ka%20-%20konkr&#233;tn&#237;%20p&#345;&#237;klad.doc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2. 12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→ aktivity výchovného poradce v oblasti prevence a řešení závadového chování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lán pedagogické podpory jako nástroj koordinované péče o žá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12.00 – 13.00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  <a:ea typeface="Arial"/>
              </a:rPr>
              <a:t> →  tvorba PLPP, diskus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Sledování začlenění nových žáků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(speciální program na třídnickou hodinu), </a:t>
            </a: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sledování postavení žáků se speciálními vzdělávacími potřebami včetně nadaných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ap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Minimální preventivní program školy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– příprava, realizace, vyhodnocování efektivity aktivit , stanovení priorit pro daný školní rok → </a:t>
            </a:r>
            <a:r>
              <a:rPr b="0" lang="cs-CZ" sz="2300" spc="-1" strike="noStrike">
                <a:solidFill>
                  <a:srgbClr val="1818ff"/>
                </a:solidFill>
                <a:latin typeface="Arial"/>
              </a:rPr>
              <a:t>školní metodik prevence</a:t>
            </a:r>
            <a:r>
              <a:rPr b="1" lang="cs-CZ" sz="2300" spc="-1" strike="noStrike">
                <a:solidFill>
                  <a:srgbClr val="1818ff"/>
                </a:solidFill>
                <a:latin typeface="Arial"/>
              </a:rPr>
              <a:t> </a:t>
            </a:r>
            <a:r>
              <a:rPr b="0" lang="cs-CZ" sz="2300" spc="-1" strike="noStrike">
                <a:solidFill>
                  <a:srgbClr val="1818ff"/>
                </a:solidFill>
                <a:latin typeface="Arial"/>
              </a:rPr>
              <a:t>ve spolupráci s ostatními členy ŠPP a třídními učitel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Podpora samosprávy žáků, jejich zapojení do řešení problémů ve škole a plánování aktivit školy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– např. školní parla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Jasně nastavená pravidla pro hodnocení chování žáků ve škole a jejich dodržování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– neřešení a přehlížení problémů vede k narušení klimatu ve třídními kolektivu i ve ško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odpora spolupráce s učite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bídka aktivit na třídnické hodiny, pravidelné konzultace situace ve třídních kolekti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oluúčast při realizaci TH, realizace intervenčních progr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 při realizaci aktivit z minimálního preventivního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odpora spolupráce s rodič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ce preventivních aktivit, motivace rodičů            k přihlášení žáků např. na adaptační pobyty – snížení finanční zátěže rodičů, získávání prostředků z gra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pojení rodičů do realizace preventivních aktivit – např. projektové dny, besedy se žáky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000" y="1916280"/>
            <a:ext cx="622764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pirace pro oblast řešení kázeňských přestupk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škole musí být jasně stanovená pravidla pro řešení rizikového chování žáků – školní řád, vnitřní předpis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 pravidly musí být všichni seznámeni (učitelé, žáci        i rodiče)- je vhodné, když mají možnost spolupodílet se na jejich tvorbě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tanovená pravidla je třeba důsledně dodržovat – musí platit pro všechny stejně (problém také u učitel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Je třeba rodiče pravidelně informovat o chování žáků   ve škole a ne pouze udělovat kázeňské tres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Je vhodné mít jasně stanoveno, jaké přestupky řeší třídní učitel sám se žákem a jeho rodiči a kdy je třeba problém projednat za účasti poradenských pracovníků, případně vedení školy (výchovná komis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 nastavení pravidel pro řešení kázeňských přestupk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dělení NTU, D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řeší třídní učitel, po udělení DTU je vhodné domluvit si s rodičem žáka pravidelnou komunikaci – např. stručný dotaz emailem, je vhodné přenést aktivitu také na rodi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dělení DŘ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rojednání za přítomnosti výchovného poradce, dohoda na tom, co přesně je třeba zlepšit, aby nedošlo k udělení sníženého stupně z chování; pokud k dodržení pravidel nedojde, bude snížený stupeň z chování udělen. Obecně je efektivnější se žákem a rodiči dojednat, co udělat pro odvrácení        2. stupně z chování, než pouze oznamovat   jeho udělení; možnost předejít konfliktu s rodi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chovná komise ško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návrh na udělení 3. stupně z chování (důsledek nezlepšení chování žáka po návrhu na udělení 2. stupně z chování, velmi závažný kázeňský přestupek) – svolává ředitel školy, účastní se TU, VP, rodič a žák; v závěrech by mělo být, že výchovnou komisí škola vyčerpává  všechny své možnosti  k řešení problematického chování žáka a předá případ k projednání OS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odpora spolupráce s učite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ast na projednávání závažných kázeňských přestupků s třídními učiteli, společná příprava na jednání + zápis  z jednání, rozdělení rolí při jednání → </a:t>
            </a:r>
            <a:r>
              <a:rPr b="0" lang="cs-CZ" sz="2400" spc="-1" strike="noStrike">
                <a:solidFill>
                  <a:srgbClr val="1818ff"/>
                </a:solidFill>
                <a:latin typeface="Arial"/>
              </a:rPr>
              <a:t>výchovný pora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ládání konfliktní komunikace s rodiči – individuální konzultace → </a:t>
            </a:r>
            <a:r>
              <a:rPr b="0" lang="cs-CZ" sz="2400" spc="-1" strike="noStrike">
                <a:solidFill>
                  <a:srgbClr val="1818ff"/>
                </a:solidFill>
                <a:latin typeface="Arial"/>
              </a:rPr>
              <a:t>školní psycho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Char char="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Podpora spolupráce s rodič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dnání by neměla být vedena konfrontačně, vždy by mělo být vytvořeno pro rodiče bezpečné prostřed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dičům je třeba naslouchat, ne jen sdělovat za co jak bude žák potrestá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ílem jednání by měla vždy být společná domluva na opatřeních, která povedou ke zlepšení chování žáka nebo k neopakování závažného přestup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ůležité je také nepodlehnout možnému nátlaku rodičů řešit kázeňský přestupek jinak než v souladu se školním řádem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případě zájmu je možné nabídnout rodiči individuální konzultaci  k řešení problému (rodiče často při jednání o kázeňských problémech žáka ve škole sdělí, že podobné problémy řeší i doma) – pomoc může poskytnout školní psycholog nebo jiný odborník mimo školu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575"/>
              </a:spcBef>
              <a:buClr>
                <a:srgbClr val="9999cc"/>
              </a:buClr>
              <a:buSzPct val="80000"/>
              <a:buFont typeface="Arial"/>
              <a:buChar char="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16000" y="1916280"/>
            <a:ext cx="622764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án pedagogické podp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lán pedagogické podpory jako funkční nástroj pedago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tručně, strukturovaně, výstižně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ealistické cíle (očekávání) - co skutečně můžeme ovlivn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aději menší, dílčí kro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šechna konkrétní opatření navazujeme na vytyčený cíl a hledáme takovou podporu, která povede ke změně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Napřed promyslet, pak napsat, není třeba vyplnit vš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LPP uvidí rodiče, později možná i ŠPZ (srozumitelnost, autocenzur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polupráce na dokumentu (žák, kolegové, rodič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ednotlivé oblasti se překrývají, není třeba to striktně řeš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ůvod k přistoupení sestavení PLP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ručně shrnout, co nás vede k poskytnutí cílené podpory prostřednictvím PL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formace, že/zda  již proběhla etapa přímé podp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klady formulací: přetrvávající/prohlubující se obtíže ve čtení/psaní/počítání-problémy s adaptací-obtíže v oblasti pozornosti s vlivem na výkon-akcelerovaný vývoj v oblasti jazykové/matematické/všeobecných znalostí -opakující se problémy ve vrstevnických vztazích-vysoké absence se zhoršením výsledků-nápadné zhoršení prospěchu/demotivace-adaptace po přestupu na školu-psychické obtíže s vlivem na školní výkon…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16360" y="1989000"/>
            <a:ext cx="59767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klad dobré praxe- prevence školní neúspěš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harakteristika žáka a jeho obtíž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tižně a objektivně (na základě ped. diagnostiky) popsat, v čem má žák obtíž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ěnovat pozornost i situacím, předmětům, kde žák funguje dobře (nejde nám o pochválení, ale o HLEDÁNÍ ZDROJŮ A NÁVO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psat jen to, co jsme se rozhodli prostřednictvím PLPP řešit-navazujeme formulací cí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klady formulací: z důvodu vysokých absencí došlo ke zhoršení prospěchu-v matematice se občas nudí, jeho znalosti jsou nad úrovní třídy-má obtíže v tempu práceschopnosti, nestíhá dokončit úkoly-pomaleji/nejistě upevňuje/aplikuje gramatická pravidla-výrazně emotivně prožívá neúspěchy/v sebehodnocení je neobjektivní-nereguluje své chování v konfliktech-při samostatné práci je jeho pozornost krátkodob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novení cílů PL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00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íle vztahujeme k popsaným obtíž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ované formu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éria pro vyhodnocení efektivity (jak poznám, že je to lepší)  je vhodné mít alespoň pro sebe stanove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 formulací: snížení výukového deficitu/plán dohánění    a přezkoušení - rozšiřování a prohlubování dovedností v M-zajistit plnění úkolů s respektem tempa práceschopnosti/zvýšit pracovní tempo-upevnit probraná gramatická pravidla a schopnost jejich aplikace-podpořit lepší sebehodnocení/vytvořit emočně bezpečné prostředí-zvýšit schopnost seberegulace v konfliktech-zrychlit čtení/porozumění textům-upravit pozornostní výkyvy-překonat rozdíly ve ŠVP po přechodu na naši školu-zmírnit adaptační obtí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PO ve škole -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y výuky (co konkrétně budu dělat jinak, aby žák „naskočil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77300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daktické postupy, techniky, principy, metody, které povedou ke změ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princip: vypsat, v čem to konkrétní dítě bude mít jinak (ne úlevy, ale modifik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: respekt tempo práceschopnosti/úprava rozsahu cvičení-čtení s okénkem-dopomoc prvního kroku-rozložení nového učiva na menší celky-dovysvětlení písemného zadání-opora o názor v matematice-kopírování zápisů-vracení k úkolu při odklonu pozornosti-delší čas na procvičování-pomoc při strukturování úkolu-individualizované domácí úkoly-častá/průběžná zpětná vazba-individualizované pracovní listy-tolerance grafické stránky písma-   obohacování uč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 ve škole - organizace výu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36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truktura vyuč. hodiny: více/méně struktury- pomoc s orientací v hodině-střídání činností, odpočinkové aktivity, kratší pracovní časové úse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asedací pořádek: přesazení žáka/úprava pro celou třídu (podkova, hnízda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ísto pro práci: lavice, koberec, chodba, prostor u PC-možnost výběr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iferenciace výuky (nedělají všichni totéž): možnost volby typu úkolu, způsobu procvičování-práce ve skupinách na zvoleném zadání…, pro nadané žáky individuální zadání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kupinové a kooperativní učení-podpora spolupráce a vzáj. učení se žáků, pomoc s výběrem skupiny a zapojení do ní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stávky: nabídka činností, minimalizace rizika konfliktů, domluva s dozory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 ve škole - hodnocení ž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8104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dnocení (nikoliv klasifikace) je KLÍČOVÉ, má výraznou formativní funkci. Hodnocení=zpětná vazba na práci, vhodná je průběžná a efektivní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ami určujeme, co je předmětem hodnocení: výkon, postup, přístup, posun,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aké hodnocení: vidím, že jsi se na to soustředil-dnes ti to šlo mnohem lépe-tvoje domácí příprava se pozná-teď jsi zvládl těžkou situaci-s tím projektem sis dal hodně 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krétní úpravy hodnocení: průběžné, slovní, grafické, sebehodnocení, individuální kritéria, upravený rozsah úkolů, kombinace písemného a ústního zkoušení, možnost opravy výkonu (spravedlivě vůči ostatním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 ve škole - pomůc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Pozor - PO 1. stupně nejsou nijak finančně pokry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S pomůckami mohou pomoci rodič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Příklady: podložka s pomocnými linkami/sklonem, tabulka psacích písmen, číselná osa nalepená na lavici, bzučák, PC programy na procvičování, na tvorbu myšlenkových map, použití překladače v cizím jazyce, vybavení školní knihovny, přehledy učiva, podněty pro obohacování učiva, relaxační pomůcky, sada učebnic na doma, zvýrazňovače, barevné složky na sešity dle předmětů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O ve škole - požadavky na organizaci práce učitel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Vyplňujeme jen tam, kde žáka učí více učitelů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Smysl: podpora bude efektivnější, když bude sladěná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Konkrétní možnosti: dohoda na snížení rozsahu úkolů-jednotný postup při řešení výchovných problémů-zápis učitelů do plánu doháněného učiva, důraz na respekt individuality žáka-obohacování učiva v preferovaných předmětech-sbíhání informací o posunech žáka u TU-sladění forem hodnocení-pravidelná zpětná vazba žákovi i rodičům formou mailu/telefonicky…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 v rámci domácí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ednáváme se zákonnými zástupci, pokud nespolupracují, do PLPP  nemůžeme naše požadavky psát (max. formulace „bylo by vhodné-pomohlo by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ďme realisté (rodiče nemohou ovlivnit to, co se děje ve ško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išme konkrétní formu podpory, je-li třeba, tak s metodickou podporou školy (rady jak procvičovat percepce, jak dělat prac. listy, jak uvolňovat ru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: denně 10 minut číst „cokoliv adekvátního“-pomoc při chystání aktovky- provázení dom. přípravou-kontrola deníčku-zájem o školní život-pravidelný kontakt se školou-častější konzultace iniciované rodi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OR: pokud žák doma něco procvičuje jinak (PL, percepce, více čtení), musíme mu jinde ubrat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 jiného druh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557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še, co nás napadne jako užitečná podpo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klady: zprostředkování doučování (mimo školu), konzultace žáka se školním psychologem, kroužek pro nadané děti, docvičovací kroužek, práce s klimatem třídy, možnost dopomoci od spolužáků, zapojení neziskové organizace, konzultace rodičů se školním spec. pedagogem, respekt aktuálního zdravotního stavu, interaktivní/webová podpora pro případné domácí učení, doporučení vhodných materiálů k dom. procvičování…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hodnocení účinnosti PL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 určité době (max. 3 měsíce) se vracíme ke stanoveným cílům a stručně vyhodnotíme, zda v dané oblasti došlo k posu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 optimálním případě to hodnotíme společně s rodiči a žák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tručně popíšeme, v čem došlo k posunu a kde je třeba v podpoře pokračovat/jak ji proměn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de to jde, pracujeme s objektivními kriterii (porovnání výkonů-portfolio, chybovost ve čtení, znalosti gramatiky, zlepšení prospěch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ložitější je popsat změny v oblasti motivace, chová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6836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ktivity ŠP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Oblast prev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unkční systém péče o žáky se speciálními vzdělávacími potřebami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iz 1. čá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ěnování zvýšené pozornosti žákům, kteří přestupují  z jiné školy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gram na vyrovnání různých ŠVP – jasná pravidla pro řešení této problematiky – pro koordinaci péče vhodné využít PLPP → administrativně oblast zajišťuje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výchovný porad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v případě potřeby spolupráce s TU při jednání s rodič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ledování žáků, u kterých došlo k výraznému zhoršení prospěchu v průběhu školního roku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časné řešení problému – komunikace škola (třídní učitel, vyučující daného předmětu), rodič, žák →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zajistí 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ově možnost pedagogické intervence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přípravy žáků na výuku –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vyučující žá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dividuální konzultace pro neprospívající žáky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systém přípravy na vyučování, styly učení apod. →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 školní psycholo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Sledování a řešení zvýšené omluvené absence –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a   a pomoc dlouhodobě nemocným žákům – individuální plán doplnění probraného učiva a přezkoušení; sledování zvýšené krátkodobé omluvené absence – projednání problému s rodiči při dosažení určitého počtu zameškaných hodin, spolupráce vyučujících při doplňování zmeškaných písemných prací apod. – jednotná pravidla pro všechny – vhodný vnitřní předpis pro tuto oblast –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zajišťuje výchovný poradce ve spolupráci  s 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475920"/>
            <a:ext cx="822960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649"/>
              </a:spcBef>
              <a:buClr>
                <a:srgbClr val="9999cc"/>
              </a:buClr>
              <a:buSzPct val="75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Oblast interve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24"/>
              </a:spcBef>
              <a:buClr>
                <a:srgbClr val="9999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Řešení neprospěchu podle jasných pravidel dříve než na konci pololetí  –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okud je žák hodnocen nedostatečně na konci 1. nebo 3. čtvrtletí, vyvolá TU společně s vyučujícím daného předmětu jednání s rodičem a žákem. Z jednání je pořízen zápis, jehož hlavní částí je plán úkolů, které musí žák splnit, aby se jeho prospěch zlepšil a nebyl hodnocen nedostatečně na konci pololetí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pora spolupráce s uči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Jasná pravidla pro řešení všech oblastí – přestup žáka, neprospěch, zvýšená omluvená absence apod. – vnitřní předpis školy – </a:t>
            </a:r>
            <a:r>
              <a:rPr b="0" lang="cs-CZ" sz="23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příklad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moc učitelům při přípravě zápisu z jednání – vzory zápisů z jednání, metodická konzultace před jednáním, pomoc při jednání s problematickými rodiči – </a:t>
            </a:r>
            <a:r>
              <a:rPr b="0" lang="cs-CZ" sz="23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příkla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Důležité je, aby vedení školy kladlo důraz na plnění úkolů v oblasti prevence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pora spolupráce s rodi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Dostatečné vysvětlení všech pravidel pro oblast preven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Nabídka pomoci ze strany školy při řešení problémů v rodině (školní psycholo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videlné informování, předcházení nedorozumění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87280" y="2133720"/>
            <a:ext cx="61563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klad dobré praxe-primární prevence rizikového ch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68360" y="475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Aktivity ŠP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Oblast prevenc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avidelná diagnostika klimatu školy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sledování vybraných oblastí v čase, zaměření například na klima   ve třídách, šikanu, návykové látky apod. + vyhodnocování závěrů šetření + plánování aktivit  v oblasti prevence →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školní metodik prev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ora fungování třídních kolektivů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třídnické hodin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– ne pouze vedení administrativy ve třídě, ale práce s kolektivem; je vhodné mít plán aktivit na celý rok, další aktivity zařazovat na základě aktuálních problémů ve třídách → 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třídní učitelé, spolupráce s metodikem preven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příprava metodických materiálů)</a:t>
            </a:r>
            <a:r>
              <a:rPr b="0" lang="cs-CZ" sz="2200" spc="-1" strike="noStrike">
                <a:solidFill>
                  <a:srgbClr val="1818ff"/>
                </a:solidFill>
                <a:latin typeface="Arial"/>
              </a:rPr>
              <a:t> a školním psycholog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minimálně 1x za rok, je pro něj důležité poznat všechny třídní kolektivy, aby při individuální práci                                                     s klienty znal situaci v jejich třídě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300" spc="-1" strike="noStrike">
                <a:solidFill>
                  <a:srgbClr val="000000"/>
                </a:solidFill>
                <a:latin typeface="Arial"/>
              </a:rPr>
              <a:t>Adaptační pobyty pro žáky vybraných tříd 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– vhodné především při větších změnách kolektivu nebo vyučujících; program pobytu byl měl mít společný cíl, je vhodné, když ho připraví ve spolupráci všichni poradenští pracovníci ve škole  - navázání spolupráce s třídními učiteli, vytvoření vztahu mezi poradenskými pracovníky a dětmi – předpoklad pro úspěšnou spolupráci při řešení případných problémů → </a:t>
            </a:r>
            <a:r>
              <a:rPr b="0" lang="cs-CZ" sz="2300" spc="-1" strike="noStrike">
                <a:solidFill>
                  <a:srgbClr val="1818ff"/>
                </a:solidFill>
                <a:latin typeface="Arial"/>
              </a:rPr>
              <a:t>všichni členové ŠP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90000"/>
              </a:lnSpc>
              <a:spcBef>
                <a:spcPts val="575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svědčené formy adaptačního pobytu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90000"/>
              </a:lnSpc>
              <a:spcBef>
                <a:spcPts val="575"/>
              </a:spcBef>
              <a:buClr>
                <a:srgbClr val="9999cc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 žáky 1. tříd – adaptace na školní prostředí a seznámení s kolektivem – 1-2 dny ve škole, v tělocvičně, na školní zahradě apo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lnSpc>
                <a:spcPct val="90000"/>
              </a:lnSpc>
              <a:spcBef>
                <a:spcPts val="575"/>
              </a:spcBef>
              <a:buClr>
                <a:srgbClr val="9999cc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bytová akce pro starší žáky – 3 - 4 dny v nějakém pobytovém zařízení, osvědčily se pro žáky 4. a 6. tříd na začátku školního rok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12-01T22:05:55Z</dcterms:modified>
  <cp:revision>117</cp:revision>
  <dc:subject/>
  <dc:title>Výchovný poradce  v systému poradenských služeb na ZŠ Rosice</dc:title>
</cp:coreProperties>
</file>