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96F3-38C9-44C1-80DB-538005915A3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2C10-E5FA-4CE7-8180-253EE308DB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BFE6-D988-4CFD-8A85-4AA6D65B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C8836-0887-4B2B-8B0D-6B6627E1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0C59-6254-4C70-8CED-6EC84481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A3D1-192E-4CE3-A6C9-CD045E07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7D14-78A1-4CAE-AB5B-23DBED24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645C-DD52-44C4-A19A-C42EE707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A36C-B1EC-41E1-8B54-B19E8A6D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06FB-A04A-48A3-ACC4-D2A26392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1D0C-5A2A-449E-B431-8CF9CD67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333B-822C-4240-AEA8-8D99AD2B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200A-9689-42C8-A356-1F222BB0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AC13-3858-42FD-BFC8-6D498CFE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DDBF-5CCB-4CDE-A066-E7DCE681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96E6-A969-47A4-9140-2175562F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8716-8947-46D2-8A50-BA2B4989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3F47-AE14-4A1A-9043-FC3F9336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1699-E1F2-4DB1-9E2E-8DC62839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C614-5134-47DD-97B8-430C9C90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ED9B-69CB-401D-86F9-3E540650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567E-B00A-4ED5-BA37-5F7A693C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1645-218A-4062-BE9D-3C8939B4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CA2C-367E-4707-9F36-3253E08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B4B2-C9A7-4EB0-ADE4-5CE74E8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6197-0518-43F0-95E9-E02804E5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9795-5DB8-4718-AA52-54EFAEA2DC44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A16D-83B5-406F-88BA-DC81942E5734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42920" y="1752120"/>
            <a:ext cx="6049800" cy="23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Jak nastartovat změnu poradenských služeb ve škole, jak začít ŠPP budov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 co si dát při budování ŠPP pozor -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šechny změny je třeba dostatečně vysvětlovat, postupovat pom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utná podpora činnosti ŠPP ze strany vedení školy, řešení neplnění úkolů v této oblasti, oddělení podpory (poradenské služby) a kontro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innost ŠPP musí mít jasný obsah, měla by  postupovat podle předem stanoveného plánu, musí reagovat a řešit aktuální problémy – příjemci poradenských služeb by měli vnímat jejich smyslupl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 co si dát při budování ŠPP pozor -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adenské služby je třeba proměňovat v souladu s možnostmi a kompetencemi poradenských pracovníků, v případě řešení závažnějších problémů je vhodné spolupracovat s kompetentními odborník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adenská práce je časově náročná, časová dotace na ni ve škole je velmi malá – je třeba hledat možnosti, jak poradenským pracovníkům snížit úvazek a jejich práci je třeba finančně ohodnot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adání seminární prá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Zadání seminární prá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nalýza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sno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čná charakteristika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agnostika stavu poskytovaných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hodnocení současného stavu – analýza 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e fungování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ermín odevzdán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o 15. 2.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kol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vrhnout strategii, jak analyzov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 poradenských služeb ve ško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cílem je zjistit, jak vnímají fung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kých služeb jejich příjemci (kolegov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áci, rodiče),  jak tyto služby využívají a co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éto oblasti očekávají do budouc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Analýza poradenských služeb ve ško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roč je důležité analýzu poradenských služeb provéz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chceme ve škole prosadit změnu a posunout úroveň poradenských služeb dopředu, musíme znát výchozí, aktuální 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hled poskytovatelů poradenských služeb může být odlišný od příjemců poradensk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ledkem analýzy by mělo být vymezení oblastí, ve kterých je největší poptávka na změnu, odkud proměnu poradenských služeb začí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Doporučení, jak analýzu provés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ždy je třeba si přesně definovat, co chceme zjistit a podle toho volit diagnostické 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ené diagnostické nástroje je vhodné konzultovat s vedením školy a ostatními poradenskými pracovníky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m účastníkům šetření je třeba vysvětlit, co je jeho cílem a k čemu budou sloužit výsledk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etření je důležité vhodně načas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říklady diagnostickým nástroj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taz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obní poho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žáky možné využít projekt, slohové cvičení (např. úva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ýza SW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binace různých met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Dotazníkové šetř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sady tvorby dotazn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 dotazníku pro rodi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Zástupný symbol pro obsah 4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 přemýšlet o poradenských službách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o umíme, děláme dobř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Individuální přístup k žáků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podle I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se žáky se S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ariérové poradenstv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a spolupráce s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se žáky s LM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Adaptační kurzy pro 1. ročníky – prevence za účasti VP a ŠM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o se nám nedař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s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Otevřená komunikace s učitel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Téměř nikdo ze studentů nezná 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álo preventivních programů – zaměření na klima ve třídách, ve ško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mezi 1. a 2. stupně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lnění úkolů ze strany učitel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vědčit všechny učitele i vedení školy o potřebě efektivně vzdělávat žáky se S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lnění všech úkolů ŠPP (čas, energie?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íležitosti – co bychom mohli děl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etodická podpora pro kole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Lépe zjišťovat problémy a očekávání žáků 1. ročníků (co je pro ně nové, na co nejsou zvykl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íce a pravidelně dělat osvětu směrem do sbo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yužít školního psychlo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izika – na co si musíme dát poz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oskytování nevyužívaných služe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Uspěchané řešení krizových situací a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znalost paragraf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kračování kompetenc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Zlehčování situace (žák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áme vše podepsané, vyplněné, papír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(v rámci velkého učitelského sboru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Lavírování mezi vedením školy a pedagogickým sbor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spolupráce s učiteli – příklad pro oblast péče o žáky se 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asná pravidla pro odesílání žáků do PPP a evidenci dokumentů z vyšetření – vnitřní předpis školy - příkl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Důraz na kvalitní přípravu dokumentace pro PP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časné informování kolegů o závěrech vyšetření žáků    v PPP a potřebě individuální práce se žáky – databáze žáků se speciálními vzdělávacími potřeba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Metodická podpora učitelů zaměřená na práci se žáky se speciálními vzdělávacími potřebami – semináře pro celou sborovnu, stručná metodická doporučení – příkla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Metodická podpora učitelů při tvorbě a realizaci IVP – „kuchařka“ jak postupovat při tvorbě IVP, společné projednávání IVP se zákonným zástupcem žáka a žákem samotným, průběžné vyhodnocování IVP, náslechy v hodinách – příklad (platí i pro PLP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11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ANALÝZA SOUČASNÉHO STAVU A PODMÍNEK PRO BUDOVÁNÍ NEBO PROMĚNU ŠP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č je analýza současného stavu důležitá – ve škole se často liší to, jak vnímají poradenské služby poradenští pracovníci a to, jak je vnímají příjemci poradenských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 rámci analýzy je třeba oslovit především kolegy, ale také žáky a rodiče a zjistit, co vnímají aktuálně jako oblast, která by se mohla s podporou poradenských pracovníků ve škole zlepšit – poradenské služby budou využívat především ti, kteří s nimi budou mít dobrou zkušenos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ři analýze poradenských služeb je možné využít dotazníkové šetření, strukturovaný rozhovor, analýzu SWOT apo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000" y="54900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dříve je třeba začít o poradenských službách ve škole „jinak přemýšlet“, vyhodnotit si, zda by změna pojetí byla pro školu přínosná a jakou by přinesla přidanou hodno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lze funkční model z jedné školy přenést do jiné školy a věřit, že pokud to fungovalo jinde, bude to  u nás fungovat také – vybudování vlastního funkčního systému poradenských služeb ve škole   je dlouhodobý úkol pro celou ško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budování funkčního systému poradenských služeb ve škole je dlouhodobý proces, který není možné uspě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řízení ŠPP z důvodu změny legislativy by mělo být začátkem proměny, ne administrativním řešením požadavků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Jak začí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otivací ke změně by měla být nejen změna legislativy, ale i nespokojenost se stávajícím stavem, vnitřní potřeba situaci řešit – oblasti, na které je třeba se zaměřit nejdříve, by měly vyplynout z realizované analýz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je třeba zhodnotit personální podmínky ve škole pro vybudování ŠPP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začátkem by měla být minimálně úzká spolupráce výchovného poradce a školního metodika prevence, je však vhodné mít v týmu od začátku ještě speciálního pedagoga – ve školách jsou často učitelé 1. stupně se zaměřením na speciální pedagogiku (dyslektičtí asistenti), které je vhodné přizvat ke spoluprác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 financování poradenských pracovníků by měly sloužit prostředky z fondů EU – Výzva 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oradenské služby je třeba zaměřit na celou školu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, přijatá opatření by měla být systémová a platit pro všechny; členy ŠPP by měli být zástupci obou stupňů ZŠ, gymnázia, různých oborů SO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od začátku je třeba stanovit i vnitřní strukturu ŠPP,      jeden člen by měl být pověřený vedením a koordinací poradenských služeb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; nám se osvědčil model, ve kterém je koordinátorem poradenských služeb výchovný poradce, protože jako učitel dobře zná problematiku výchovně vzdělávacího proces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je třeba nastavit pravidla pro komunikaci v rámci ŠPP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– vhodné jsou pravidelné porady – zhodnocení uskutečněných aktivit a plánování dalších; vedoucí ŠPP by se měl účastnit porad vedení školy, informovat vedení o řešených problémech, případně konzultovat způsob řešení problémů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aby se mohlo ŠPP podílet na řešení problémů, které se ve škole objeví, je třeba, aby byli jeho členové informovaní o dění ve škole - od vedení i od učitelů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e vhodné napsat nějaký stručný dokument, který popisuje hlavní cíle poskytovaných poradenských služeb a stanovuje pracovní náplně jednotlivých členů ŠPP, ty se pak mohou upravovat a v souladu s potřebami školy měnit (Program poradenských služe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ro činnost ŠPP je třeba zajistit dostatečné materiální podmínky, je vhodná samostatná pracovna s prostorem pro jednání a počítačem s tiskárnou a připojením na internet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šechny aktivity ŠPP a přijatá opatření je třeba průběžně vyhodnocovat a při plánovaní dalších se řídit výsledky zpětné vazb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změny v oblasti poradenských služeb ve škole je třeba dostatečně prezentovat a vysvětlovat směrem ke všem příjemcům poradenských služ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učitel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všechny připravované změny je vhodné prodiskutovat na pedagogických radách a poskytnout učitelům metodickou podporu; učitelé začnou změny přijímat dobře, jakmile budou mít s poradenskými službami dobrou zkušenost, bude jim poskytnuta skutečná POMOC při řešení nějakého problému – změny v oblasti společného vzdělávání – příležitost pro poradenské pracovníky ve šk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žák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příprava aktivit např. na třídnickou hodinu, hrací hodiny na 1. stupni, informace prostřednictvím třídních učitelů, realizace preventivních aktivit – např. adaptační poby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rodič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informace na webové stránky školy, informační leták do rodin (příklad), předání informací prostřednictvím třídních učitelů na třídních schůzkách, články do místního tisk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hodný souhlas s činností poradenských pracovníků ve škole – společný pro skupinové aktivity, individuální pro individuální práci se žákem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11-12T22:05:19Z</dcterms:modified>
  <cp:revision>94</cp:revision>
  <dc:subject/>
  <dc:title>Výchovný poradce  v systému poradenských služeb na ZŠ Rosice</dc:title>
</cp:coreProperties>
</file>