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4AA6-DCDF-4350-8B55-36FE66AAC8D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2659-7D8A-4C76-8599-8A69AC8B25D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C3C18-2761-4121-BFD4-039A0ABC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CD3D0-5350-4FBE-8675-E53AE5BC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679CB-3797-477F-8FFE-12588EBD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0196C-2CB0-4957-8AE2-696ABE8B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CB3D-8163-4C24-A9D9-35E9ECAB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56DC-8EC0-47BC-B572-0EDD3317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4FA1-D25F-4129-B501-C00C945D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A8F6-4ADC-4AFC-B220-88DB68C8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0930-55BD-4CFC-8D27-4D91FC89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9D63-C5E9-4ACD-AC75-BE8FA936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5CC3-D64E-4B05-83CB-482991C8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3BF65-0313-4806-9361-085A334C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962D-21A2-48B5-9D24-968D554D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5CD6-920D-4189-84AA-DED1A79A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BA02-8280-482F-B997-699BC53F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001F-472F-4360-AC0A-494A5CF6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CB67-AA50-4B8A-BBDA-3C4B1D26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1E736-4C5E-4C80-8396-122BEC08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48D22-DEAE-4B7C-BAB7-C99D9659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47473-DBF1-4D41-8A23-5107C7D8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B47D2-9340-4C3A-AE14-C19B15A2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79F2D-3B21-4557-AE1C-54A3508E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E0683-54CB-4719-98C1-A93F7DB5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B6FA-7671-4D98-BC6F-34C9FACF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5B2B-385A-4726-9A85-B5BB18D7D5D6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4A97-D2CF-4178-BEF1-786DA99613DF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42920" y="1752120"/>
            <a:ext cx="6049800" cy="23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Jak nastartovat změnu poradenských služeb ve škole, jak začít ŠPP budov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a co si dát při budování ŠPP pozor - riz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šechny změny je třeba dostatečně vysvětlovat, postupovat poma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utná podpora činnosti ŠPP ze strany vedení školy, řešení neplnění úkolů v této oblasti, oddělení podpory (poradenské služby) a kontrol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innost ŠPP musí mít jasný obsah, měla by  postupovat podle předem stanoveného plánu, musí reagovat a řešit aktuální problémy – příjemci poradenských služeb by měli vnímat jejich smyslupl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Na co si dát při budování ŠPP pozor - riz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radenské služby je třeba proměňovat v souladu s možnostmi a kompetencemi poradenských pracovníků, v případě řešení závažnějších problémů je vhodné spolupracovat s kompetentními odborník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radenská práce je časově náročná, časová dotace na ni ve škole je velmi malá – je třeba hledat možnosti, jak poradenským pracovníkům snížit úvazek a jejich práci je třeba finančně ohodnot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adání seminární prá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Zadání seminární prác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éma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nalýza poradenských služeb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Osno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čná charakteristika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agnostika stavu poskytovaných poradenských služeb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hodnocení současného stavu – analýza SW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ze fungování poradenských služeb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ermín odevzdání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do 15. 2.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Úkol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vrhnout strategii, jak analyzov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v poradenských služeb ve škol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cílem je zjistit, jak vnímají fung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adenských služeb jejich příjemci (kolegov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áci, rodiče),  jak tyto služby využívají a co 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éto oblasti očekávají do budouc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Analýza poradenských služeb ve ško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roč je důležité analýzu poradenských služeb provéz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chceme ve škole prosadit změnu a posunout úroveň poradenských služeb dopředu, musíme znát výchozí, aktuální st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hled poskytovatelů poradenských služeb může být odlišný od příjemců poradensk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sledkem analýzy by mělo být vymezení oblastí, ve kterých je největší poptávka na změnu, odkud proměnu poradenských služeb začí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Doporučení, jak analýzu provés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ždy je třeba si přesně definovat, co chceme zjistit a podle toho volit diagnostické ná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ené diagnostické nástroje je vhodné konzultovat s vedením školy a ostatními poradenskými pracovníky ve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m účastníkům šetření je třeba vysvětlit, co je jeho cílem a k čemu budou sloužit výsledk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etření je důležité vhodně načaso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Příklady diagnostickým nástroj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tazn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sobní poho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 žáky možné využít projekt, slohové cvičení (např. úvah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nalýza SW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binace různých met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Dotazníkové šetř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sady tvorby dotazn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 dotazníku pro rodi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Zástupný symbol pro obsah 4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535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ak přemýšlet o poradenských službách ve ško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Co umíme, děláme dobř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Individuální přístup k žáků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ráce podle I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ráce se žáky se S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ariérové poradenstv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a spolupráce s rodič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ráce se žáky s LM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Adaptační kurzy pro 1. ročníky – prevence za účasti VP a ŠM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Co se nám nedař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s rodič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Otevřená komunikace s učitel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Téměř nikdo ze studentů nezná 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Málo preventivních programů – zaměření na klima ve třídách, ve ško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mezi 1. a 2. stupně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lnění úkolů ze strany učitel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esvědčit všechny učitele i vedení školy o potřebě efektivně vzdělávat žáky se SV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lnění všech úkolů ŠPP (čas, energie?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íležitosti – co bychom mohli děla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Metodická podpora pro koleg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Lépe zjišťovat problémy a očekávání žáků 1. ročníků (co je pro ně nové, na co nejsou zvykl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íce a pravidelně dělat osvětu směrem do sbo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yužít školního psychlo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áměty ze společné analý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izika – na co si musíme dát poz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oskytování nevyužívaných služe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Uspěchané řešení krizových situací a rodič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znalost paragraf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ekračování kompetenc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Zlehčování situace (žák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Máme vše podepsané, vyplněné, papíry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Komunikace (v rámci velkého učitelského sboru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Lavírování mezi vedením školy a pedagogickým sbore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spolupráce s učiteli – příklad pro oblast péče o žáky se S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Jasná pravidla pro odesílání žáků do PPP a evidenci dokumentů z vyšetření – vnitřní předpis školy - příkla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Důraz na kvalitní přípravu dokumentace pro PP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časné informování kolegů o závěrech vyšetření žáků    v PPP a potřebě individuální práce se žáky – databáze žáků se speciálními vzdělávacími potřebam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Metodická podpora učitelů zaměřená na práci se žáky se speciálními vzdělávacími potřebami – semináře pro celou sborovnu, stručná metodická doporučení – příkla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Metodická podpora učitelů při tvorbě a realizaci IVP – „kuchařka“ jak postupovat při tvorbě IVP, společné projednávání IVP se zákonným zástupcem žáka a žákem samotným, průběžné vyhodnocování IVP, náslechy v hodinách – příklad (platí i pro PLPP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lnSpc>
                <a:spcPct val="11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ANALÝZA SOUČASNÉHO STAVU A PODMÍNEK PRO BUDOVÁNÍ NEBO PROMĚNU ŠP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oč je analýza současného stavu důležitá – ve škole se často liší to, jak vnímají poradenské služby poradenští pracovníci a to, jak je vnímají příjemci poradenských služe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 rámci analýzy je třeba oslovit především kolegy, ale také žáky a rodiče a zjistit, co vnímají aktuálně jako oblast, která by se mohla s podporou poradenských pracovníků ve škole zlepšit – poradenské služby budou využívat především ti, kteří s nimi budou mít dobrou zkušenos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ři analýze poradenských služeb je možné využít dotazníkové šetření, strukturovaný rozhovor, analýzu SWOT apo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68000" y="54900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dříve je třeba začít o poradenských službách ve škole „jinak přemýšlet“, vyhodnotit si, zda by změna pojetí byla pro školu přínosná a jakou by přinesla přidanou hodno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lze funkční model z jedné školy přenést do jiné školy a věřit, že pokud to fungovalo jinde, bude to  u nás fungovat také – vybudování vlastního funkčního systému poradenských služeb ve škole   je dlouhodobý úkol pro celou ško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budování funkčního systému poradenských služeb ve škole je dlouhodobý proces, který není možné uspě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řízení ŠPP z důvodu změny legislativy by mělo být začátkem proměny, ne administrativním řešením požadavků vyhlá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Jak začí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otivací ke změně by měla být nejen změna legislativy, ale i nespokojenost se stávajícím stavem, vnitřní potřeba situaci řešit – oblasti, na které je třeba se zaměřit nejdříve, by měly vyplynout z realizované analýzy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je třeba zhodnotit personální podmínky ve škole pro vybudování ŠPP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začátkem by měla být minimálně úzká spolupráce výchovného poradce a školního metodika prevence, je však vhodné mít v týmu od začátku ještě speciálního pedagoga – ve školách jsou často učitelé 1. stupně se zaměřením na speciální pedagogiku (dyslektičtí asistenti), které je vhodné přizvat ke spoluprác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 financování poradenských pracovníků by měly sloužit prostředky z fondů EU – Výzva 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poradenské služby je třeba zaměřit na celou školu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, přijatá opatření by měla být systémová a platit pro všechny; členy ŠPP by měli být zástupci obou stupňů ZŠ, gymnázia, různých oborů SOŠ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od začátku je třeba stanovit i vnitřní strukturu ŠPP,      jeden člen by měl být pověřený vedením a koordinací poradenských služeb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; nám se osvědčil model, ve kterém je koordinátorem poradenských služeb výchovný poradce, protože jako učitel dobře zná problematiku výchovně vzdělávacího proces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je třeba nastavit pravidla pro komunikaci v rámci ŠPP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– vhodné jsou pravidelné porady – zhodnocení uskutečněných aktivit a plánování dalších; vedoucí ŠPP by se měl účastnit porad vedení školy, informovat vedení o řešených problémech, případně konzultovat způsob řešení problémů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aby se mohlo ŠPP podílet na řešení problémů, které se ve škole objeví, je třeba, aby byli jeho členové informovaní o dění ve škole - od vedení i od učitelů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je vhodné napsat nějaký stručný dokument, který popisuje hlavní cíle poskytovaných poradenských služeb a stanovuje pracovní náplně jednotlivých členů ŠPP, ty se pak mohou upravovat a v souladu s potřebami školy měnit (Program poradenských služe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pro činnost ŠPP je třeba zajistit dostatečné materiální podmínky, je vhodná samostatná pracovna s prostorem pro jednání a počítačem s tiskárnou a připojením na internet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šechny aktivity ŠPP a přijatá opatření je třeba průběžně vyhodnocovat a při plánovaní dalších se řídit výsledky zpětné vazb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změny v oblasti poradenských služeb ve škole je třeba dostatečně prezentovat a vysvětlovat směrem ke všem příjemcům poradenských služe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rezentace směrem k učitelům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 všechny připravované změny je vhodné prodiskutovat na pedagogických radách a poskytnout učitelům metodickou podporu; učitelé začnou změny přijímat dobře, jakmile budou mít s poradenskými službami dobrou zkušenost, bude jim poskytnuta skutečná POMOC při řešení nějakého problému – změny v oblasti společného vzdělávání – příležitost pro poradenské pracovníky ve šk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rezentace směrem k žákům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 příprava aktivit např. na třídnickou hodinu, hrací hodiny na 1. stupni, informace prostřednictvím třídních učitelů, realizace preventivních aktivit – např. adaptační poby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rezentace směrem k rodičům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– informace na webové stránky školy, informační leták do rodin (příklad), předání informací prostřednictvím třídních učitelů na třídních schůzkách, články do místního tisk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hodný souhlas s činností poradenských pracovníků ve škole – společný pro skupinové aktivity, individuální pro individuální práci se žákem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6-11-12T22:05:19Z</dcterms:modified>
  <cp:revision>94</cp:revision>
  <dc:subject/>
  <dc:title>Výchovný poradce  v systému poradenských služeb na ZŠ Rosice</dc:title>
</cp:coreProperties>
</file>