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F6F3-5DE8-4C4E-BCAF-38330704E2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DC51-9852-4713-BF01-AA413C48D2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20BA-7E84-4952-9EB8-B0EA2BCB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B2C7-7F5B-4471-951D-7C0476F2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4D1A-B393-4C4A-A7DF-C7FB7307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70ED-ECD4-4B2F-BB0D-769C5F4D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83A8-82A8-4330-9A70-DED4B2D0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B9D2-34E1-4E0F-BD6F-33E7ABDC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FBFE-D90B-4939-8AD3-0384D778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A58C-1D19-4673-B79E-D36FFF14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039-978A-4EAF-9FA6-477B1A39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6DD5-933E-44CB-9590-ED73756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746F-0271-426E-AB2B-8A05D43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16AB-A3DD-4BDD-B54F-BD4E1129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6421-A702-428C-A1E5-0D7AA857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7C41-5E38-459D-B2EE-3CD95D2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D6AD-E3C8-4BCA-9C8A-D0E39387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E57E-70AE-4BDA-94AD-8208964E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D0DF-C821-47E0-9111-525ED088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5D50-8142-4392-8577-0566965D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5D6C-9088-451B-B6D1-EAE63C82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773A-8D68-490F-901E-740D6A98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1D4F-E9EC-437D-B2BD-2C2765B6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9C22-34EA-4687-85AB-6AB12DF3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0B14-CCC2-451F-AD56-5ACC8AA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5226-3622-4F36-A6F8-44A04217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FAAF-8001-47B2-B81F-8717B0A0180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6600-EC86-41C7-ABCA-AFCE5683E41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2920" y="1752120"/>
            <a:ext cx="60498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Jak nastartovat změnu poradenských služeb ve škole, jak začít ŠPP budov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šechny změny je třeba dostatečně vysvětlovat, postupovat pom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utná podpora činnosti ŠPP ze strany vedení školy, řešení neplnění úkolů v této oblasti, oddělení podpory (poradenské služby) a kontro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innost ŠPP musí mít jasný obsah, měla by  postupovat podle předem stanoveného plánu, musí reagovat a řešit aktuální problémy – příjemci poradenských služeb by měli vnímat jejich smyslupl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é služby je třeba proměňovat v souladu s možnostmi a kompetencemi poradenských pracovníků, v případě řešení závažnějších problémů je vhodné spolupracovat s kompetentními odborní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á práce je časově náročná, časová dotace na ni ve škole je velmi malá – je třeba hledat možnosti, jak poradenským pracovníkům snížit úvazek a jejich práci je třeba finančně ohodnot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adání seminární prá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Zadání seminární prá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nalýza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s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á charakteristika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agnostika stavu poskytovaných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hodnocení současného stavu – analýza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e fungování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ermín odevzdá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o 15. 2.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vrhnout strategii, jak analyzov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 poradenských služeb ve ško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cílem je zjistit, jak vnímají fung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kých služeb jejich příjemci (koleg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, rodiče),  jak tyto služby využívají a co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éto oblasti očekávají do budouc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Analýza poradenských služeb ve ško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roč je důležité analýzu poradenských služeb provéz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chceme ve škole prosadit změnu a posunout úroveň poradenských služeb dopředu, musíme znát výchozí, aktuální 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led poskytovatelů poradenských služeb může být odlišný od příjemců poradensk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ledkem analýzy by mělo být vymezení oblastí, ve kterých je největší poptávka na změnu, odkud proměnu poradenských služeb začí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poručení, jak analýzu prové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ždy je třeba si přesně definovat, co chceme zjistit a podle toho volit diagnostické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ené diagnostické nástroje je vhodné konzultovat s vedením školy a ostatními poradenskými pracovníky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m účastníkům šetření je třeba vysvětlit, co je jeho cílem a k čemu budou sloužit výsledk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etření je důležité vhodně načas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klady diagnostickým nástroj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taz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obní poho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žáky možné využít projekt, slohové cvičení (např. úva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SW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binace různých met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tazníkové šetř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ady tvorby dotaz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 dotazníku pro rodi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Zástupný symbol pro obsah 4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přemýšlet o poradenských službách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umíme, děláme dobř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Individuální přístup k žáků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podle I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ariérové poradenstv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a spoluprá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 L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Adaptační kurzy pro 1. ročníky – prevence za účasti VP a Š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se nám nedař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Otevřená komunikace s učitel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Téměř nikdo ze studentů nezná 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lo preventivních programů – zaměření na klima ve třídách, ve ško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mezi 1. a 2. stupně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úkolů ze strany učitel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vědčit všechny učitele i vedení školy o potřebě efektivně vzdělávat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všech úkolů ŠPP (čas, energie?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íležitosti – co bychom mohli děl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etodická podpora pro kole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épe zjišťovat problémy a očekávání žáků 1. ročníků (co je pro ně nové, na co nejsou zvykl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íce a pravidelně dělat osvětu směrem do sbo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yužít školního psychlo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izika – na co si musíme dát poz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skytování nevyužívaných služ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Uspěchané řešení krizových situací a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znalost paragraf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kračování kompetenc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Zlehčování situace (žák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me vše podepsané, vyplněné, papír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(v rámci velkého učitelského sbor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avírování mezi vedením školy a pedagogickým sbor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spolupráce s učiteli – příklad pro oblast péče o žáky se 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asná pravidla pro odesílání žáků do PPP a evidenci dokumentů z vyšetření – vnitřní předpis školy - příkl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ůraz na kvalitní přípravu dokumentace pro P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časné informování kolegů o závěrech vyšetření žáků    v PPP a potřebě individuální práce se žáky – databáze žáků se speciálními vzdělávacími potřeba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zaměřená na práci se žáky se speciálními vzdělávacími potřebami – semináře pro celou sborovnu, stručná metodická doporučení – příkl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při tvorbě a realizaci IVP – „kuchařka“ jak postupovat při tvorbě IVP, společné projednávání IVP se zákonným zástupcem žáka a žákem samotným, průběžné vyhodnocování IVP, náslechy v hodinách – příklad (platí i pro PLP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ANALÝZA SOUČASNÉHO STAVU A PODMÍNEK PRO BUDOVÁNÍ NEBO PROMĚNU ŠP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č je analýza současného stavu důležitá – ve škole se často liší to, jak vnímají poradenské služby poradenští pracovníci a to, jak je vnímají příjemci poradenský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 rámci analýzy je třeba oslovit především kolegy, ale také žáky a rodiče a zjistit, co vnímají aktuálně jako oblast, která by se mohla s podporou poradenských pracovníků ve škole zlepšit – poradenské služby budou využívat především ti, kteří s nimi budou mít dobrou zkušeno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i analýze poradenských služeb je možné využít dotazníkové šetření, strukturovaný rozhovor, analýzu SWOT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549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říve je třeba začít o poradenských službách ve škole „jinak přemýšlet“, vyhodnotit si, zda by změna pojetí byla pro školu přínosná a jakou by přinesla přidanou hodno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lze funkční model z jedné školy přenést do jiné školy a věřit, že pokud to fungovalo jinde, bude to  u nás fungovat také – vybudování vlastního funkčního systému poradenských služeb ve škole   je dlouhodobý úkol pro celou šk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budování funkčního systému poradenských služeb ve škole je dlouhodobý proces, který není možné uspě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řízení ŠPP z důvodu změny legislativy by mělo být začátkem proměny, ne administrativním řešením požadavků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Jak začí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otivací ke změně by měla být nejen změna legislativy, ale i nespokojenost se stávajícím stavem, vnitřní potřeba situaci řešit – oblasti, na které je třeba se zaměřit nejdříve, by měly vyplynout z realizované analýz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e třeba zhodnotit personální podmínky ve škole pro vybudování ŠPP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začátkem by měla být minimálně úzká spolupráce výchovného poradce a školního metodika prevence, je však vhodné mít v týmu od začátku ještě speciálního pedagoga – ve školách jsou často učitelé 1. stupně se zaměřením na speciální pedagogiku (dyslektičtí asistenti), které je vhodné přizvat ke spoluprác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 financování poradenských pracovníků by měly sloužit prostředky z fondů EU – Výzva 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oradenské služby je třeba zaměřit na celou škol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, přijatá opatření by měla být systémová a platit pro všechny; členy ŠPP by měli být zástupci obou stupňů ZŠ, gymnázia, různých oborů SO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od začátku je třeba stanovit i vnitřní strukturu ŠPP,      jeden člen by měl být pověřený vedením a koordinací poradenských služeb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; nám se osvědčil model, ve kterém je koordinátorem poradenských služeb výchovný poradce, protože jako učitel dobře zná problematiku výchovně vzdělávacího proces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je třeba nastavit pravidla pro komunikaci v rámci ŠPP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vhodné jsou pravidelné porady – zhodnocení uskutečněných aktivit a plánování dalších; vedoucí ŠPP by se měl účastnit porad vedení školy, informovat vedení o řešených problémech, případně konzultovat způsob řešení problémů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aby se mohlo ŠPP podílet na řešení problémů, které se ve škole objeví, je třeba, aby byli jeho členové informovaní o dění ve škole - od vedení i od učitelů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e vhodné napsat nějaký stručný dokument, který popisuje hlavní cíle poskytovaných poradenských služeb a stanovuje pracovní náplně jednotlivých členů ŠPP, ty se pak mohou upravovat a v souladu s potřebami školy měnit (Program poradenských služe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ro činnost ŠPP je třeba zajistit dostatečné materiální podmínky, je vhodná samostatná pracovna s prostorem pro jednání a počítačem s tiskárnou a připojením na internet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šechny aktivity ŠPP a přijatá opatření je třeba průběžně vyhodnocovat a při plánovaní dalších se řídit výsledky zpětné vazb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změny v oblasti poradenských služeb ve škole je třeba dostatečně prezentovat a vysvětlovat směrem ke všem příjemcům poradensk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učitel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všechny připravované změny je vhodné prodiskutovat na pedagogických radách a poskytnout učitelům metodickou podporu; učitelé začnou změny přijímat dobře, jakmile budou mít s poradenskými službami dobrou zkušenost, bude jim poskytnuta skutečná POMOC při řešení nějakého problému – změny v oblasti společného vzdělávání – příležitost pro poradenské pracovníky ve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žák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příprava aktivit např. na třídnickou hodinu, hrací hodiny na 1. stupni, informace prostřednictvím třídních učitelů, realizace preventivních aktivit – např. adaptační poby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rodič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informace na webové stránky školy, informační leták do rodin (příklad), předání informací prostřednictvím třídních učitelů na třídních schůzkách, články do místního tis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souhlas s činností poradenských pracovníků ve škole – společný pro skupinové aktivity, individuální pro individuální práci se žákem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11-12T22:05:19Z</dcterms:modified>
  <cp:revision>94</cp:revision>
  <dc:subject/>
  <dc:title>Výchovný poradce  v systému poradenských služeb na ZŠ Rosice</dc:title>
</cp:coreProperties>
</file>