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A31-EF7F-4708-98D6-9F92316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B76-8870-4870-AB54-BE30437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4A3-8372-43AC-97BD-E7243FCF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38D-A162-4B2D-80A2-9FF7F4D6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FA8-3AD5-4090-B29C-DB7CA943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0625-CC1D-47D7-AF80-B64CD35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6B03-7124-4282-BB25-52987C8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629-6CA8-4BBE-B6F7-C410DF8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811-BA8B-438D-A91E-36423F4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0AA-E307-4FDB-85DE-FC704F14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660-5E25-4E65-9D25-021CAA1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B68-4BEE-4FFD-B76F-2CA8C672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9A3-434B-4191-A4B7-C901300F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F56-EA3A-48B3-BFF2-4805BD0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DD1B-A8A9-420F-BAB8-AF8F18F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BDFC-9AB6-4636-A125-A5C0CA48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5BB2-957C-404A-8F16-3BE5FBCF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1C9-406C-4844-9FDA-0683338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790-07B7-446A-A82F-B21DCA27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B2A-52F9-4927-9CAF-ADE85332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7BD-D028-4EC2-996B-CF75958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B24-2F00-4916-AF6D-E1D46EA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BC3-5CC5-44C5-91D7-A9CE9F5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BD8-82EB-4CDD-B078-F0B6C36E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2C8-31CB-4191-9EF8-A4EA4B0B8E6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AEA-6186-4D20-BC59-4482F14C4868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Z/vpz%20jazyka.ht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Z/vpz%20formy.htm" TargetMode="External"/><Relationship Id="rId2" Type="http://schemas.openxmlformats.org/officeDocument/2006/relationships/hyperlink" Target="file:///PZ/vpz%20m&#237;sta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Z/vpz%20etnick&#233;.htm" TargetMode="External"/><Relationship Id="rId2" Type="http://schemas.openxmlformats.org/officeDocument/2006/relationships/hyperlink" Target="file:///PZ/vpz%20&#269;asu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Z/vpz%20vlastnost&#237;.htm" TargetMode="External"/><Relationship Id="rId2" Type="http://schemas.openxmlformats.org/officeDocument/2006/relationships/hyperlink" Target="file:///PZ/vpz%20materi&#225;l&#367;.htm" TargetMode="External"/><Relationship Id="rId3" Type="http://schemas.openxmlformats.org/officeDocument/2006/relationships/hyperlink" Target="file:///PZ/vpz%20osob.htm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lekční jazyky I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cvičení 18. 3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a 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y pomocí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pomocných zna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obecné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ACÍ ZNA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PZ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vláštní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OMOCNÉ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HLAVNÍ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ládají se z jednoduchých nebo rozvinutých znaků, které jsou k sobě připojeny pomocí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pojovacích symbolů/znak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zastupují je interpunkční znaménk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tematika a fyzik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 Matematika, astronomie a 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316.7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2 Sociologie náboženství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677+687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439) Textilní a oděvní průmysl v Maďarsk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PŘIŘAZENÍ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juje dva nebo více od sebe vzdálené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 po sobě následujíc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znaky MDT, aby bylo možno vyjádřit složený předmět, pro který neexistuje žádný jednoduchý (hlavní) zna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430+438) Pomořansko (Německo a Polsk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30.5+338 národní hospodářství 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4.66+338.2+304.3 trvale udržitelný rozvoj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nes nahrazen 502.131.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ROZŠÍŘ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juje první a poslední z řady po sobě následujících znaků MDT, aby bylo možno vyjádřit rozsahem široký předmět nebo skupinu pojm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5.44/.47 Klasifikační systém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2/129 Speciální meta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6/027 Knihov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6 Odborné/speci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7 Univerz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VZTA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bol/notační znak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ívá se jako nástroj specifikace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pro spojení dvou nebo více znaků MDT, jejichž pojmy se projevují v různých typech vztah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rozdíl od symbolů „plus“ a „lomítko“ dvojtečka spíše zužuje, než rozšiřuje rozsah předmě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341.63(44:450) arbitráž ve sporech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ezi Francií a Itáli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0000"/>
              <a:buFont typeface="Verdana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44+45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004.78:02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nihovnické systé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62:001.89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plikovaný výzkum v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chnice a průmy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nikají spojením hlavního nebo složeného znaku se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šeobecnými nebo zvláštními pomocnými zna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čelem je vyjádření druhotné charakteristiky předmětu zastoupeného hlavním zna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SAMOSTATN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formy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í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ča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etnick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vlastnos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ateriá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o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uží k vyjádření druhotných charakteristik všeobecného typ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ze použít pro specifikaci primárního předmětu vyjádřeného hlavním znakem v celé šíři klasifikačního schématu a pro připojení ke složenému zna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aždý z těchto znaků má svoji specifickou form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adání úkol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sahová analýza dokumen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ASIS Thesaurus of Information Science and Librarian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3 deskriptor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1 znak MDT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volně tvořená klíčová slov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5 klíčových slov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šeobecné P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MRF je základní vydání MDT, neobsahuje výčet PZ v plném rozsahu X úplné vyd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PZ JAZY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značují jazyk doku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=1/=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užívají se jako podkla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11 - jazyky 81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21- literatura 82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tvorbu všeobecných pomocných znaků etnických (=411.1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FORMY DOKUMENT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0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vyjadřují formu dokumen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ÍST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značují fyzické údaje místa nebo geografickou polohu předmě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1/9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94(100)"1914/1918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asový úda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ecné dějiny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niverzální ve vztahu k míst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ějiny první světové vál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28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653000"/>
            <a:ext cx="1079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3640" y="436572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ETNICKÉ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lemen, národů, skupin) - označují etnický aspekt předmětu vyjádřeného znaky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=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ČAS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líže určují předmět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"..."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20. stole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2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vacátá léta (1920-1929)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PZ ZÁVISLÉ – nestojí samostatn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vlastností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obecné vlastnosti nebo rysy předmětů (enti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ateriálů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yjadřují materiály nebo složky, z nichž jsou zhotoveny předměty nebo výrob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20.1-034 (kovy - zkoušení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VPZ osob a osobních charakteristi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jednotlivé kategorie osob v souvislosti s předmětem do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5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2-051 (politic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jadřují druhotné charakteristiky    předmětů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jich uplatnění pro konkrétní třídy je definován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přímo v hlavních tabulkác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viz </a:t>
            </a: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MRF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jejich existenci se upozorňuje na začátku každé třídy, oddílu, pododdíl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nelze je spojovat s hlavními znaky libovoln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e spojovn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apř</a:t>
            </a:r>
            <a:r>
              <a:rPr b="0" i="1" lang="en-US" sz="2800" spc="-1" strike="noStrike">
                <a:solidFill>
                  <a:srgbClr val="ffcc00"/>
                </a:solidFill>
                <a:latin typeface="Verdan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érie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-1/-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používané u znaku 82 vyjadřují literární for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tečkou a nul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.01/.0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označují pojmy, teorie (studie), aktivity, procesy, operace, podniky a zařízen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apostrof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`0/`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í syntetickou, integrující funk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budeme vytváře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selekční obrazy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deskrip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asifikačních zna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íčových slo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ěcné pořádán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kript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ředmětové pořádání inform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asifikační znaky MD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stematické pořádání informac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0000"/>
                </a:solidFill>
                <a:latin typeface="Arial"/>
              </a:rPr>
              <a:t>ČSN ISO 5963</a:t>
            </a:r>
            <a:r>
              <a:rPr b="0" lang="cs-CZ" sz="44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etody analýzy dokumentů, určování jejich obsahu a výběru lexikálních jednotek selekčního jazyka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up a účel index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nalýza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dentifikace pojm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ýběr lexikálních jednotek selekčního 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trola kv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mo co už známe o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niverzální systematický SJ/klasifikační systém, hierarchický princip, podřazení specifického tématu obecném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řádací znak – klasifikační znak, numerická notace pro označení tří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incip desetinné notace - rozděluje univerzum do deseti hlavních tříd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ákladní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,  které je možné rozčlenit až na deset podtříd vyjadřujících bezprostředně podřazené pojmy a ty zase až na deset podtříd nižšího řádu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hlavní/jednoduché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loupnost znaků notace označující třídu vzniklou rozkladem je dána postupným přidáváním číslic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0 – 9 zpr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héma MDT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třída 3 Společenské věd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365720"/>
            <a:ext cx="1403280" cy="792000"/>
          </a:xfrm>
          <a:prstGeom prst="wedgeRoundRectCallout">
            <a:avLst>
              <a:gd name="adj1" fmla="val 90611"/>
              <a:gd name="adj2" fmla="val 4708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notace, jednoduché znak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lasifikace témat dokument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va přístupy k vyjádření předmětu doku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výběr jednoduchých znaků    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tvorba složených a </a:t>
            </a:r>
            <a:br>
              <a:rPr sz="2400"/>
            </a:b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 hlavních tabul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rozvinutých zna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ntaktická pravidla – součástí tabulek MD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19640" y="2637000"/>
            <a:ext cx="576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708280"/>
            <a:ext cx="648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40360" y="407664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ředmět dokumentu lze vyjádř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jednoduchý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04.738.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složen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2:061.23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knihovnické asoci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rozvinut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2-05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polit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9:00:25Z</dcterms:created>
  <dc:creator>SilvieP.</dc:creator>
  <dc:description/>
  <dc:language>en-US</dc:language>
  <cp:lastModifiedBy>SilvieP.</cp:lastModifiedBy>
  <dcterms:modified xsi:type="dcterms:W3CDTF">2005-03-21T21:24:22Z</dcterms:modified>
  <cp:revision>11</cp:revision>
  <dc:subject/>
  <dc:title>Selekční jazyky II  cvičení 18. 3. 2005</dc:title>
</cp:coreProperties>
</file>