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3C58-76E2-4D82-9CAF-CBA6AA9F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C71C-1C09-4951-9267-F3EC450F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C904-F3E6-4D68-B4BC-2C971735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4DD1-4582-4BBD-9218-FE9DB6DF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D2F1-7912-4769-9041-FEFE57B8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85DB-50DC-43A9-9345-CA385F33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C858-F2C8-4A4D-9228-68B1F566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25C8-42A6-43DE-B853-D5189CDB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8D6E-9BDE-426F-B12F-7828A2C7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3E9E-C4DD-449D-A50B-15DD7F97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FC6F-BC07-4E89-B65B-1BD61B43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E9A0-E085-4331-912C-AE8A01CA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9D6E-3146-4002-B58C-C0C08E78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2769-6DB4-4647-B78A-D1D84525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010B-9DD5-4DF0-A415-B8F8607A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F9D2-A5A5-4AC6-BDE6-D64C15AC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6D6B-D9D0-4E32-A435-C619D90D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9B0A-D28D-4F81-9918-BFC466FE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7423-208A-41AE-A628-DE3D5AF0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1FE-728F-48E0-9DFB-14E8A7CE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12FF-3CAD-496B-BC09-71E0AE45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034E-FF0C-4485-B431-4A281A8A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0482-20EC-4EE8-B09D-EE4AB96D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1D0C-3D3D-4F1E-9373-E71C6685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3590-54A6-4052-B075-64E1833B245A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2C0A-4D90-4C6B-8721-D0791F944F4B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ip.nkp.cz/mdt/" TargetMode="External"/><Relationship Id="rId2" Type="http://schemas.openxmlformats.org/officeDocument/2006/relationships/hyperlink" Target="http://aip.nkp.cz/mdt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aip.nkp.cz/mdt/" TargetMode="External"/><Relationship Id="rId2" Type="http://schemas.openxmlformats.org/officeDocument/2006/relationships/hyperlink" Target="http://aip.nkp.cz/mdt/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PZ/vpz%20jazyka.htm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PZ/vpz%20formy.htm" TargetMode="External"/><Relationship Id="rId2" Type="http://schemas.openxmlformats.org/officeDocument/2006/relationships/hyperlink" Target="file:///PZ/vpz%20m&#237;sta.htm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PZ/vpz%20etnick&#233;.htm" TargetMode="External"/><Relationship Id="rId2" Type="http://schemas.openxmlformats.org/officeDocument/2006/relationships/hyperlink" Target="file:///PZ/vpz%20&#269;asu.htm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PZ/vpz%20vlastnost&#237;.htm" TargetMode="External"/><Relationship Id="rId2" Type="http://schemas.openxmlformats.org/officeDocument/2006/relationships/hyperlink" Target="file:///PZ/vpz%20materi&#225;l&#367;.htm" TargetMode="External"/><Relationship Id="rId3" Type="http://schemas.openxmlformats.org/officeDocument/2006/relationships/hyperlink" Target="file:///PZ/vpz%20osob.htm" TargetMode="Externa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aip.nkp.cz/mdt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elekční jazyky II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cvičení 18. 3. 200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Verdana"/>
              </a:rPr>
              <a:t>Indexace a klasifikace dokument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ložené a rozvinuté zna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vořeny pomocí </a:t>
            </a: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pomocných znak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šeobecné PZ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OJOVACÍ ZNAK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PZ SAMOSTATNÉ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ZP ZÁVISLÉ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vláštní PZ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5940360" y="270828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6000" y="2781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POMOCNÉ TABUL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940360" y="4365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HLAVNÍ TABUL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ložené zna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kládají se z jednoduchých nebo rozvinutých znaků, které jsou k sobě připojeny pomocí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pojovacích symbolů/znak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(zastupují je interpunkční znaménka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51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+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53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atematika a fyzik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51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53 Matematika, astronomie a fyzik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316.74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2 Sociologie náboženství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677+687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]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(439) Textilní a oděvní průmysl v Maďarsk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ojovací zna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c66"/>
                </a:solidFill>
                <a:latin typeface="Verdana"/>
              </a:rPr>
              <a:t>kde je naleznem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v pomocných tabulk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tištěná ver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elektronická verze – 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MDT 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MR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ojovací znaky - PŘIŘAZENÍ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ymbol/notační znak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ojuje dva nebo více od sebe vzdálené (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e po sobě následující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 znaky MDT, aby bylo možno vyjádřit složený předmět, pro který neexistuje žádný jednoduchý (hlavní) znak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430+438) Pomořansko (Německo a Polsko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30.5+338 národní hospodářství 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04.66+338.2+304.3 trvale udržitelný rozvoj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nes nahrazen 502.131.1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ojovací znaky - ROZŠÍŘE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mbol/notační zna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ojuje první a poslední z řady po sobě následujících znaků MDT, aby bylo možno vyjádřit rozsahem široký předmět nebo skupinu pojm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025.44/.47 Klasifikační systém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22/129 Speciální metafyzik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026/027 Knihovn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026 Odborné/speciální knihovn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027 Univerzální knihovn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ojovací znaky - VZTAH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ymbol/notační znak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užívá se jako nástroj specifikace 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a pro spojení dvou nebo více znaků MDT, jejichž pojmy se projevují v různých typech vztah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a rozdíl od symbolů „plus“ a „lomítko“ dvojtečka spíše zužuje, než rozšiřuje rozsah předmět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341.63(44:450) arbitráž ve sporech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ezi Francií a Itálií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20000"/>
              <a:buFont typeface="Verdana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(44+450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004.78:02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nihovnické systém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62:001.89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aplikovaný výzkum v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technice a průmysl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zvinuté zna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znikají spojením hlavního nebo složeného znaku se </a:t>
            </a: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všeobecnými nebo zvláštními pomocnými znaky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účelem je vyjádření druhotné charakteristiky předmětu zastoupeného hlavním znak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šeobecné pomocné zna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ZP SAMOSTATN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jazyk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formy dokument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mís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čas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etnické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ZP ZÁVISL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vlastnost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materiál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oso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šeobecné pomocné zna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louží k vyjádření druhotných charakteristik všeobecného typ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ze použít pro specifikaci primárního předmětu vyjádřeného hlavním znakem v celé šíři klasifikačního schématu a pro připojení ke složenému znak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aždý z těchto znaků má svoji specifickou form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adání úkol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bsahová analýza dokument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ndexace a klasifikace dokument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ASIS Thesaurus of Information Science and Librariansh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Verdana"/>
              </a:rPr>
              <a:t>minimálně 3 deskriptory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Verdana"/>
              </a:rPr>
              <a:t>MD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Verdana"/>
              </a:rPr>
              <a:t>minimálně 1 znak MDT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Verdana"/>
              </a:rPr>
              <a:t>volně tvořená klíčová slova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Verdana"/>
              </a:rPr>
              <a:t>minimálně 5 klíčových slov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Všeobecné PZ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c66"/>
                </a:solidFill>
                <a:latin typeface="Verdana"/>
              </a:rPr>
              <a:t>kde je naleznem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v pomocných tabulk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tištěná ver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elektronická verze – 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MDT 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MR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MRF je základní vydání MDT, neobsahuje výčet PZ v plném rozsahu X úplné vyd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VPZ JAZY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značují jazyk dokument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ymbol: </a:t>
            </a: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=1/=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užívají se jako podkla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 členění třídy 811 - jazyky 811.162.3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 členění třídy 821- literatura 821.162.3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 tvorbu všeobecných pomocných znaků etnických (=411.16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VPZ FORMY DOKUMENTU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symbol: </a:t>
            </a:r>
            <a:r>
              <a:rPr b="1" lang="cs-CZ" sz="2400" spc="-1" strike="noStrike">
                <a:solidFill>
                  <a:srgbClr val="00ff00"/>
                </a:solidFill>
                <a:latin typeface="Verdana"/>
              </a:rPr>
              <a:t>(0...)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vyjadřují formu dokument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VPZ MÍSTA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označují fyzické údaje místa nebo geografickou polohu předmět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symbol: </a:t>
            </a:r>
            <a:r>
              <a:rPr b="1" lang="cs-CZ" sz="2400" spc="-1" strike="noStrike">
                <a:solidFill>
                  <a:srgbClr val="00ff00"/>
                </a:solidFill>
                <a:latin typeface="Verdana"/>
              </a:rPr>
              <a:t>(1/9)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94(100)"1914/1918"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časový údaj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obecné dějiny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univerzální ve vztahu k místu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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dějiny první světové válk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4581360"/>
            <a:ext cx="287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4653000"/>
            <a:ext cx="10796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03640" y="436572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VPZ ETNICKÉ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(plemen, národů, skupin) - označují etnický aspekt předmětu vyjádřeného znaky MD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symbol: </a:t>
            </a:r>
            <a:r>
              <a:rPr b="1" lang="cs-CZ" sz="2400" spc="-1" strike="noStrike">
                <a:solidFill>
                  <a:srgbClr val="00ff00"/>
                </a:solidFill>
                <a:latin typeface="Verdana"/>
              </a:rPr>
              <a:t>(=...)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VPZ ČASU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blíže určují předmět v č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symbol: </a:t>
            </a:r>
            <a:r>
              <a:rPr b="1" lang="cs-CZ" sz="2400" spc="-1" strike="noStrike">
                <a:solidFill>
                  <a:srgbClr val="00ff00"/>
                </a:solidFill>
                <a:latin typeface="Verdana"/>
              </a:rPr>
              <a:t>"..."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"19"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20. stolet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"192"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dvacátá léta (1920-1929)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PZ ZÁVISLÉ – nestojí samostatně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VPZ vlastností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označují obecné vlastnosti nebo rysy předmětů (enti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ymbol: 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-0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VPZ materiálů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vyjadřují materiály nebo složky, z nichž jsou zhotoveny předměty nebo výrobk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ymbol: 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-03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20.1-034 (kovy - zkoušení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VPZ osob a osobních charakteristi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označují jednotlivé kategorie osob v souvislosti s předmětem do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ymbol: 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-05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32-051 (politici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Zvláštní pomocné zna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yjadřují druhotné charakteristiky    předmětů dokument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jejich uplatnění pro konkrétní třídy je definováno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Verdana"/>
              </a:rPr>
              <a:t>přímo v hlavních tabulkác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(viz </a:t>
            </a:r>
            <a:r>
              <a:rPr b="0" lang="cs-CZ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MDT MRF</a:t>
            </a: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a jejich existenci se upozorňuje na začátku každé třídy, oddílu, pododdíl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Verdana"/>
              </a:rPr>
              <a:t>nelze je spojovat s hlavními znaky libovolně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vláštní pomocné zna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série se spojovník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např</a:t>
            </a:r>
            <a:r>
              <a:rPr b="0" i="1" lang="en-US" sz="2800" spc="-1" strike="noStrike">
                <a:solidFill>
                  <a:srgbClr val="ffcc00"/>
                </a:solidFill>
                <a:latin typeface="Verdana"/>
              </a:rPr>
              <a:t>.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série </a:t>
            </a:r>
            <a:r>
              <a:rPr b="0" i="1" lang="en-US" sz="2800" spc="-1" strike="noStrike">
                <a:solidFill>
                  <a:srgbClr val="00ff00"/>
                </a:solidFill>
                <a:latin typeface="Verdana"/>
              </a:rPr>
              <a:t>-1/-9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 používané u znaku 82 vyjadřují literární form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série s tečkou a nul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symbol: </a:t>
            </a:r>
            <a:r>
              <a:rPr b="0" i="1" lang="en-US" sz="2800" spc="-1" strike="noStrike">
                <a:solidFill>
                  <a:srgbClr val="00ff00"/>
                </a:solidFill>
                <a:latin typeface="Verdana"/>
              </a:rPr>
              <a:t>.01/.09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 označují pojmy, teorie (studie), aktivity, procesy, operace, podniky a zařízení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série s apostrof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ymbol: `0/`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jí syntetickou, integrující funkc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 budeme vytváře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Verdana"/>
              </a:rPr>
              <a:t>selekční obrazy dokument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nožina deskriptor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nožina klasifikačních znak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nožina klíčových slo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ěcné pořádání informac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kripto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ff00"/>
              </a:buClr>
              <a:buSzPct val="11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ředmětové pořádání informac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lasifikační znaky MD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ff00"/>
              </a:buClr>
              <a:buSzPct val="11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ystematické pořádání informací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0000"/>
                </a:solidFill>
                <a:latin typeface="Arial"/>
              </a:rPr>
              <a:t>ČSN ISO 5963</a:t>
            </a:r>
            <a:r>
              <a:rPr b="0" lang="cs-CZ" sz="4400" spc="-1" strike="noStrike">
                <a:solidFill>
                  <a:srgbClr val="003b7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etody analýzy dokumentů, určování jejich obsahu a výběru lexikálních jednotek selekčního jazyka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stup a účel indexová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analýza dokument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dentifikace pojm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ýběr lexikálních jednotek selekčního jazyk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ontrola kval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tmo co už známe o MD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univerzální systematický SJ/klasifikační systém, hierarchický princip, podřazení specifického tématu obecném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řádací znak – klasifikační znak, numerická notace pro označení tříd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rincip desetinné notace - rozděluje univerzum do deseti hlavních tříd (</a:t>
            </a:r>
            <a:r>
              <a:rPr b="0" lang="cs-CZ" sz="2400" spc="-1" strike="noStrike">
                <a:solidFill>
                  <a:srgbClr val="ffcc66"/>
                </a:solidFill>
                <a:latin typeface="Verdana"/>
              </a:rPr>
              <a:t>základní znaky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),  které je možné rozčlenit až na deset podtříd vyjadřujících bezprostředně podřazené pojmy a ty zase až na deset podtříd nižšího řádu (</a:t>
            </a:r>
            <a:r>
              <a:rPr b="0" lang="cs-CZ" sz="2400" spc="-1" strike="noStrike">
                <a:solidFill>
                  <a:srgbClr val="ffcc66"/>
                </a:solidFill>
                <a:latin typeface="Verdana"/>
              </a:rPr>
              <a:t>hlavní/jednoduché znaky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sloupnost znaků notace označující třídu vzniklou rozkladem je dána postupným přidáváním číslic 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0 – 9 zpra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héma MDT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ákladní třída 3 Společenské věd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0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orie, metodologie a metody společenských věd      všeobecně. Sociografi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Demografie. Sociologie. Statistik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tatistika jako věda. Statistická teori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4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Demografie. Populační (demografický) výzku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ociologi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ředmět a rozsah sociologi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ociologická hlediska a trend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3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ociální struktura. Společnost jako sociální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ysté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3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lobální společnosti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33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Základní prvky a subsystémy globálních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polečností jako sociologických kategorií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olitik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2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my politické organizace. Státy jako politické síl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4365720"/>
            <a:ext cx="1403280" cy="792000"/>
          </a:xfrm>
          <a:prstGeom prst="wedgeRoundRectCallout">
            <a:avLst>
              <a:gd name="adj1" fmla="val 90611"/>
              <a:gd name="adj2" fmla="val 4708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notace, jednoduché znak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213000"/>
            <a:ext cx="1657440" cy="503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lovní vyjádření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lasifikace témat dokument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va přístupy k vyjádření předmětu dokument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Verdana"/>
              </a:rPr>
              <a:t>výběr jednoduchých znaků    </a:t>
            </a:r>
            <a:r>
              <a:rPr b="0" lang="cs-CZ" sz="2400" spc="-1" strike="noStrike">
                <a:solidFill>
                  <a:srgbClr val="00ff00"/>
                </a:solidFill>
                <a:latin typeface="Verdana"/>
              </a:rPr>
              <a:t>tvorba složených a </a:t>
            </a:r>
            <a:br>
              <a:rPr sz="2400"/>
            </a:br>
            <a:r>
              <a:rPr b="0" lang="cs-CZ" sz="2400" spc="-1" strike="noStrike">
                <a:solidFill>
                  <a:srgbClr val="ffcc66"/>
                </a:solidFill>
                <a:latin typeface="Verdana"/>
              </a:rPr>
              <a:t>z hlavních tabulek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ff00"/>
                </a:solidFill>
                <a:latin typeface="Verdana"/>
              </a:rPr>
              <a:t>rozvinutých znak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yntaktická pravidla – součástí tabulek MD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419640" y="2637000"/>
            <a:ext cx="57600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2708280"/>
            <a:ext cx="6480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940360" y="4076640"/>
            <a:ext cx="21600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ředmět dokumentu lze vyjádř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nakem jednoduchým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004.738.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nakem složený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02:061.231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knihovnické asoci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nakem rozvinutý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2-051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politic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9:00:25Z</dcterms:created>
  <dc:creator>SilvieP.</dc:creator>
  <dc:description/>
  <dc:language>en-US</dc:language>
  <cp:lastModifiedBy>SilvieP.</cp:lastModifiedBy>
  <dcterms:modified xsi:type="dcterms:W3CDTF">2005-03-21T21:24:22Z</dcterms:modified>
  <cp:revision>11</cp:revision>
  <dc:subject/>
  <dc:title>Selekční jazyky II  cvičení 18. 3. 2005</dc:title>
</cp:coreProperties>
</file>