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208-C96F-489B-9BA0-58316E3F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2CE-05BC-4EBA-A9E7-C00CE43C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FD4-514D-4011-A244-0236021C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1EB-FE25-4447-A6E9-7AD5EB29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C15E-FCEB-4334-9C2C-ED754C98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54FA-C332-46E9-B6CD-450833AD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B50B-FCDB-453C-9E6A-41B13E99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1395-F314-42D2-9773-2CA8800B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3B25-651F-4F53-9C31-764BF04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C23C-A695-446D-95E5-F0DE577E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1D9E-3492-484A-B5CF-E8ED72DA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994-DB4B-4BCF-B937-6A643592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FF8E-CA9E-4210-A79F-A39EAE39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F5B2-5B3F-425F-9567-A1A1A66E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5DFE-0A4D-4EF3-9061-0409CA8C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BE81-D847-479D-B07A-F18467C3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AFB4-931A-4DFF-A33E-7D3B5D0C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DB4-30F9-4911-A61B-F2053864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FB9-5BFE-42D9-9A38-F14C9802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B2B-A8CA-45A1-B9A3-13EEDF88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F7B-0440-46FD-8CBA-082E04F2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381-D1C2-4DDE-B584-73E294CF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711-6ADF-433C-A745-DB0D3D62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45E-61D5-4123-8483-2F2B658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189F-6C69-4692-82F4-02820CA07348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05DD-D2EC-48A1-859B-FB49B04B83CF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http://aip.nkp.cz/mdt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hyperlink" Target="http://aip.nkp.cz/mdt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Z/vpz%20jazyka.htm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PZ/vpz%20formy.htm" TargetMode="External"/><Relationship Id="rId2" Type="http://schemas.openxmlformats.org/officeDocument/2006/relationships/hyperlink" Target="file:///PZ/vpz%20m&#237;sta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PZ/vpz%20etnick&#233;.htm" TargetMode="External"/><Relationship Id="rId2" Type="http://schemas.openxmlformats.org/officeDocument/2006/relationships/hyperlink" Target="file:///PZ/vpz%20&#269;asu.htm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PZ/vpz%20vlastnost&#237;.htm" TargetMode="External"/><Relationship Id="rId2" Type="http://schemas.openxmlformats.org/officeDocument/2006/relationships/hyperlink" Target="file:///PZ/vpz%20materi&#225;l&#367;.htm" TargetMode="External"/><Relationship Id="rId3" Type="http://schemas.openxmlformats.org/officeDocument/2006/relationships/hyperlink" Target="file:///PZ/vpz%20osob.htm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aip.nkp.cz/mdt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elekční jazyky II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cvičení 18. 3. 200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Verdana"/>
              </a:rPr>
              <a:t>Indexace a klasifikace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ložené a rozvinut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řeny pomocí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pomocných znak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šeobecné P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JOVACÍ ZNA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PZ SAMOSTATN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ZP ZÁVISL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vláštní P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2708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7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POMOCNÉ TABUL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HLAVNÍ TABUL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lože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kládají se z jednoduchých nebo rozvinutých znaků, které jsou k sobě připojeny pomocí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pojovacích symbolů/znak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zastupují je interpunkční znaménka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1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3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tematika a fyzik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1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53 Matematika, astronomie a fyz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316.74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2 Sociologie náboženství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677+687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439) Textilní a oděvní průmysl v Maďarsku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c66"/>
                </a:solidFill>
                <a:latin typeface="Verdana"/>
              </a:rPr>
              <a:t>kde je nalezne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v pomocných tabulk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tištěná ve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elektronická verze –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DT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R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 - PŘIŘAZENÍ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mbol/notační znak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juje dva nebo více od sebe vzdálené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 po sobě následujíc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znaky MDT, aby bylo možno vyjádřit složený předmět, pro který neexistuje žádný jednoduchý (hlavní) znak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430+438) Pomořansko (Německo a Polsko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30.5+338 národní hospodářství 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04.66+338.2+304.3 trvale udržitelný rozvoj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nes nahrazen 502.131.1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 - ROZŠÍŘ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mbol/notační zna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juje první a poslední z řady po sobě následujících znaků MDT, aby bylo možno vyjádřit rozsahem široký předmět nebo skupinu pojm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25.44/.47 Klasifikační systém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2/129 Speciální metafyz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26/027 Knihov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26 Odborné/speciální knihovn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27 Univerzální knihovn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ojovací znaky - VZTAH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mbol/notační znak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užívá se jako nástroj specifikace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pro spojení dvou nebo více znaků MDT, jejichž pojmy se projevují v různých typech vztah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rozdíl od symbolů „plus“ a „lomítko“ dvojtečka spíše zužuje, než rozšiřuje rozsah předmě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341.63(44:450) arbitráž ve sporech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ezi Francií a Itáli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0000"/>
              <a:buFont typeface="Verdana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(44+45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004.78:02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nihovnické systé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62:001.89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plikovaný výzkum v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echnice a průmysl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zvinut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znikají spojením hlavního nebo složeného znaku se </a:t>
            </a: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šeobecnými nebo zvláštními pomocnými znaky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čelem je vyjádření druhotné charakteristiky předmětu zastoupeného hlavním zna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šeobecné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ZP SAMOSTATN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jazy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formy dokumen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mís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ča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etnick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ZP ZÁVISL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vlastnost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materiál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os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šeobecné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louží k vyjádření druhotných charakteristik všeobecného typ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ze použít pro specifikaci primárního předmětu vyjádřeného hlavním znakem v celé šíři klasifikačního schématu a pro připojení ke složenému znak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aždý z těchto znaků má svoji specifickou form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adání úkolu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bsahová analýza dokumen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dexace a klasifikace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ASIS Thesaurus of Information Science and Librarian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Verdana"/>
              </a:rPr>
              <a:t>minimálně 3 deskriptor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M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Verdana"/>
              </a:rPr>
              <a:t>minimálně 1 znak MDT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volně tvořená klíčová slov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Verdana"/>
              </a:rPr>
              <a:t>minimálně 5 klíčových slov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šeobecné P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c66"/>
                </a:solidFill>
                <a:latin typeface="Verdana"/>
              </a:rPr>
              <a:t>kde je nalezne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v pomocných tabulk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tištěná ve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elektronická verze –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DT 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MR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MRF je základní vydání MDT, neobsahuje výčet PZ v plném rozsahu X úplné vyd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PZ JAZY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značují jazyk dokumen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=1/=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užívají se jako podkla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 členění třídy 811 - jazyky 811.162.3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 členění třídy 821- literatura 821.162.3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 tvorbu všeobecných pomocných znaků etnických (=411.1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PZ FORMY DOKUMENT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(0...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vyjadřují formu dokument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VPZ MÍST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označují fyzické údaje místa nebo geografickou polohu předmě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(1/9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94(100)"1914/1918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časový údaj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obecné dějiny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niverzální ve vztahu k míst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ějiny první světové vál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581360"/>
            <a:ext cx="28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653000"/>
            <a:ext cx="1079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03640" y="436572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PZ ETNICKÉ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plemen, národů, skupin) - označují etnický aspekt předmětu vyjádřeného znaky M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(=...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VPZ ČAS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blíže určují předmět v č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1" lang="cs-CZ" sz="2400" spc="-1" strike="noStrike">
                <a:solidFill>
                  <a:srgbClr val="00ff00"/>
                </a:solidFill>
                <a:latin typeface="Verdana"/>
              </a:rPr>
              <a:t>"..."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"19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20. stole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"192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vacátá léta (1920-1929)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PZ ZÁVISLÉ – nestojí samostatn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VPZ vlastností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značují obecné vlastnosti nebo rysy předmětů (enti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-0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VPZ materiálů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vyjadřují materiály nebo složky, z nichž jsou zhotoveny předměty nebo výrob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-0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20.1-034 (kovy - zkoušení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VPZ osob a osobních charakteristi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značují jednotlivé kategorie osob v souvislosti s předmětem do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-05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32-051 (politic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Zvláštní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jadřují druhotné charakteristiky    předmětů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jich uplatnění pro konkrétní třídy je definován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přímo v hlavních tabulkác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viz </a:t>
            </a:r>
            <a:r>
              <a:rPr b="0" lang="cs-CZ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DT MRF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 jejich existenci se upozorňuje na začátku každé třídy, oddílu, pododdíl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nelze je spojovat s hlavními znaky libovolně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vláštní pomocné zna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érie se spojovn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apř</a:t>
            </a:r>
            <a:r>
              <a:rPr b="0" i="1" lang="en-US" sz="2800" spc="-1" strike="noStrike">
                <a:solidFill>
                  <a:srgbClr val="ffcc00"/>
                </a:solidFill>
                <a:latin typeface="Verdana"/>
              </a:rPr>
              <a:t>.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érie </a:t>
            </a:r>
            <a:r>
              <a:rPr b="0" i="1" lang="en-US" sz="2800" spc="-1" strike="noStrike">
                <a:solidFill>
                  <a:srgbClr val="00ff00"/>
                </a:solidFill>
                <a:latin typeface="Verdana"/>
              </a:rPr>
              <a:t>-1/-9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používané u znaku 82 vyjadřují literární form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érie s tečkou a nul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ymbol: </a:t>
            </a:r>
            <a:r>
              <a:rPr b="0" i="1" lang="en-US" sz="2800" spc="-1" strike="noStrike">
                <a:solidFill>
                  <a:srgbClr val="00ff00"/>
                </a:solidFill>
                <a:latin typeface="Verdana"/>
              </a:rPr>
              <a:t>.01/.09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označují pojmy, teorie (studie), aktivity, procesy, operace, podniky a zařízen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érie s apostrof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mbol: `0/`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jí syntetickou, integrující funk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 budeme vytváře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selekční obrazy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ožina deskriptor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ožina klasifikačních zna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ožina klíčových slo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ěcné pořádání informac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kripto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ff00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ředmětové pořádání inform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asifikační znaky MD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ff00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stematické pořádání informac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0000"/>
                </a:solidFill>
                <a:latin typeface="Arial"/>
              </a:rPr>
              <a:t>ČSN ISO 5963</a:t>
            </a:r>
            <a:r>
              <a:rPr b="0" lang="cs-CZ" sz="44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etody analýzy dokumentů, určování jejich obsahu a výběru lexikálních jednotek selekčního jazyka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up a účel index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nalýza dokumen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dentifikace pojm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ýběr lexikálních jednotek selekčního jazy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ntrola kv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mo co už známe o MD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niverzální systematický SJ/klasifikační systém, hierarchický princip, podřazení specifického tématu obecném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řádací znak – klasifikační znak, numerická notace pro označení tří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incip desetinné notace - rozděluje univerzum do deseti hlavních tříd (</a:t>
            </a: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základní znak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),  které je možné rozčlenit až na deset podtříd vyjadřujících bezprostředně podřazené pojmy a ty zase až na deset podtříd nižšího řádu (</a:t>
            </a: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hlavní/jednoduché znak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loupnost znaků notace označující třídu vzniklou rozkladem je dána postupným přidáváním číslic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0 – 9 zpra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héma MDT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třída 3 Společenské věd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0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orie, metodologie a metody společenských věd      všeobecně. Sociograf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Sociologie. Statis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tatistika jako věda. Statistická teor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4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mografie. Populační (demografický) výzku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ředmět a rozsah sociologi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ologická hlediska a tren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ciální struktura. Společnost jako sociální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ysté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obální společnosti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16.33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ákladní prvky a subsystémy globálních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olečností jako sociologických kategorií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olitik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32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my politické organizace. Státy jako politické síl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365720"/>
            <a:ext cx="1403280" cy="792000"/>
          </a:xfrm>
          <a:prstGeom prst="wedgeRoundRectCallout">
            <a:avLst>
              <a:gd name="adj1" fmla="val 90611"/>
              <a:gd name="adj2" fmla="val 4708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notace, jednoduché znak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213000"/>
            <a:ext cx="165744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lovní vyjádře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lasifikace témat dokument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va přístupy k vyjádření předmětu doku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výběr jednoduchých znaků    </a:t>
            </a:r>
            <a:r>
              <a:rPr b="0" lang="cs-CZ" sz="2400" spc="-1" strike="noStrike">
                <a:solidFill>
                  <a:srgbClr val="00ff00"/>
                </a:solidFill>
                <a:latin typeface="Verdana"/>
              </a:rPr>
              <a:t>tvorba složených a </a:t>
            </a:r>
            <a:br>
              <a:rPr sz="2400"/>
            </a:br>
            <a:r>
              <a:rPr b="0" lang="cs-CZ" sz="2400" spc="-1" strike="noStrike">
                <a:solidFill>
                  <a:srgbClr val="ffcc66"/>
                </a:solidFill>
                <a:latin typeface="Verdana"/>
              </a:rPr>
              <a:t>z hlavních tabul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Verdana"/>
              </a:rPr>
              <a:t>rozvinutých zna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yntaktická pravidla – součástí tabulek MD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419640" y="2637000"/>
            <a:ext cx="576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708280"/>
            <a:ext cx="648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940360" y="4076640"/>
            <a:ext cx="216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ředmět dokumentu lze vyjádř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nakem jednoduchým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04.738.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nakem složený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2:061.23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knihovnické asoci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nakem rozvinutý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2-05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polit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9:00:25Z</dcterms:created>
  <dc:creator>SilvieP.</dc:creator>
  <dc:description/>
  <dc:language>en-US</dc:language>
  <cp:lastModifiedBy>SilvieP.</cp:lastModifiedBy>
  <dcterms:modified xsi:type="dcterms:W3CDTF">2005-03-21T21:24:22Z</dcterms:modified>
  <cp:revision>11</cp:revision>
  <dc:subject/>
  <dc:title>Selekční jazyky II  cvičení 18. 3. 2005</dc:title>
</cp:coreProperties>
</file>