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6.xml" ContentType="application/vnd.openxmlformats-officedocument.presentationml.comments+xml"/>
  <Override PartName="/ppt/comments/comment13.xml" ContentType="application/vnd.openxmlformats-officedocument.presentationml.comments+xml"/>
  <Override PartName="/ppt/comments/comment1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1" name="knihovna" initials="k" lastIdx="1" clrIdx="1"/>
  <p:cmAuthor id="0" name="Presová" initials="P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1" dt="2005-03-08T07:36:27.634000000" idx="1">
    <p:pos x="5295" y="1961"/>
    <p:text>Konkordancí rozumíme přiřazení významově shodných lexikálních jednotek porovnávaných selekčních jazyků a v konkordančních tabulkách jsou výsledky této činnosti fixovány</p:text>
  </p:cm>
</p:cmLst>
</file>

<file path=ppt/comments/comment13.xml><?xml version="1.0" encoding="utf-8"?>
<p:cmLst xmlns:p="http://schemas.openxmlformats.org/presentationml/2006/main">
  <p:cm authorId="0" dt="2005-03-08T08:16:33.183000000" idx="2">
    <p:pos x="5401" y="1817"/>
    <p:text>Existující konkordanční tabulky mezi MDT a DDC, které jsou vystaveny na webových stránkách NK ČR , lze chápat jako slovník selekčního jazyka Konspektu. Na uvedené stránce nalezneme abecedně seřazený seznam 24 předmětových kategorií s anglickými ekvivalenty. Kliknutím na konkrétní kategorii se otevře okno s konkordanční tabulkou, v níž jsou zleva dva sloupce pro skupiny Konspektu založené na MDT (v tabulce pod označením MDT/Konspekt, ve starší verzi bylo označení skupiny Konspektu), sloupec pro poznámky, dva sloupce pro skupiny Konspektu založené na DDC (DDC/Conspectus) a sloupec pro vybrané znaky MDT</p:text>
  </p:cm>
  <p:cm authorId="0" dt="2005-03-08T08:18:12.866000000" idx="3">
    <p:pos x="5401" y="2367"/>
    <p:text>NK ČR buduje speciální soubor autorit pro skupiny Konspektu, jenž je součástí databáze věcných autorit, a to se záměrem „zajištění standardního prostředí při ukládání údajů skupin Konspektu v bibliografických záznamech a směnitelnosti těchto údajů na institucionální, národní i mezinárodní úrovni“ (BALÍKOVÁ, 2003:50). Zmíněný soubor můžeme také pojímat jako slovník konspektového schématu a liší se od slovníku založeného na konspektových tabulkách tím, že je prezentován ve formě elektronické báze. Soubor skupin Konspektu se skládá z jednotlivých autoritních záznamů pro každou skupinu Konspektu.</p:text>
  </p:cm>
</p:cmLst>
</file>

<file path=ppt/comments/comment6.xml><?xml version="1.0" encoding="utf-8"?>
<p:cmLst xmlns:p="http://schemas.openxmlformats.org/presentationml/2006/main">
  <p:cm authorId="0" dt="2005-03-10T11:28:02.721000000" idx="1">
    <p:pos x="4936" y="1834"/>
    <p:text>Struktura konspektového schématu vychází z tříúrovňového uspořádání. Nejvyšší úroveň, 24 předmětových kategorií, se člení přibližně do 500 skupin Konspektu a ty se dále rozkládají na 4000 předmětů. Předmětové kategorie byly vytvořeny na základě analýzy kategorizace studijních oborů na amerických univerzitách. Skupiny Konspektu jsou tvořeny vybranými klasifikačními znaky DDC, jež věcně souvisí s předmětovými kategoriemi. Třetí úroveň poskytuje detailnější předměty uvnitř skupin Konspektu. V tomto případě nemusí jít pouze o znaky klasifikačního schématu, ale i lexikální jednotky předmětového selekčního jazyka užívaného danou katalogizační agenturou. 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200-AA9B-4054-B6AE-09614C37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1BD-378B-49B6-B3FA-D921EB72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BB97-90F2-4C4E-8E62-62FBA7D2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3F89-D681-4461-9260-18FA81C8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D91E-FDB6-4F18-8308-46CC65F3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6BCE-D60B-4CBC-89A9-6B506EEE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0F78-7272-482C-8C78-E388839A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8501-9B98-4366-85A3-4D81300A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5129-CE15-4D13-BD62-CC6809C7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4D8A-D45A-4B10-8D3A-E34F66DE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BA1A-7494-435B-9382-2B5836C1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A9E-E98D-44C5-A5F5-7BC1AECF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707B-0C86-42AB-837F-F35BED7B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84E6-D703-4D74-B31B-7068BD4E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A317-28DD-4CE0-82B4-4C59D060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712B-A820-4FED-B738-A41F70F3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1349-FDE0-416B-8C08-27172DCD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32B4-F7B7-4A7B-9242-D9175512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E79-B7B8-417D-9E25-E247B751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16E-0052-4BB1-9F8E-3420C6E2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807-A911-4CAE-8710-7DE494CA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76A-D69B-4612-86B4-A123AC0B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27A-FD68-47DD-AE9B-9F64F6F7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E18-5EAC-4D11-BE36-D572DFA3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E825-997B-4C4B-9EEF-3743EB2DE0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4BB8-CED1-47E1-A239-1D65FD5890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.nkp.cz/pages/page.php3?page=fond_Mdt_tabulky1.htm" TargetMode="External"/><Relationship Id="rId4" Type="http://schemas.openxmlformats.org/officeDocument/2006/relationships/hyperlink" Target="http://www.nkp.cz/pages/page.php3?page=fond_Mdt_tabulky1.htm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kp.cz/pages/page.php3?page=fond_Mdt_tabulky1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kp.cz/pages/page.php3?page=fond_konspekt3_MDT1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igma.nkp.cz/F/P9HT918YPRCCP45PBV5KDIH3MUDRVSCSE8YNMH6L7TF74YXAFC-05960?func=file&amp;file_name=base-list" TargetMode="External"/><Relationship Id="rId3" Type="http://schemas.openxmlformats.org/officeDocument/2006/relationships/hyperlink" Target="http://www.nkp.cz/pages/page.php3?page=fond_zazn_zpristinfzdroj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ull.nkp.cz/nkkr/NKKR0204/0204225.html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ib-info.cuni.cz/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ib-info.cuni.cz/tematbrany/studie_html/" TargetMode="External"/><Relationship Id="rId3" Type="http://schemas.openxmlformats.org/officeDocument/2006/relationships/hyperlink" Target="http://www.sosig.ac.uk/" TargetMode="External"/><Relationship Id="rId4" Type="http://schemas.openxmlformats.org/officeDocument/2006/relationships/hyperlink" Target="http://bubl.ac.uk/" TargetMode="External"/><Relationship Id="rId5" Type="http://schemas.openxmlformats.org/officeDocument/2006/relationships/hyperlink" Target="http://www.renardus.org/" TargetMode="Externa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ortalstm.cz/" TargetMode="Externa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ib-info.cuni.cz/index.php?fname=jib.mnu&amp;sub=5&amp;url=tematbrany/" TargetMode="External"/><Relationship Id="rId3" Type="http://schemas.openxmlformats.org/officeDocument/2006/relationships/hyperlink" Target="http://webarchiv.nkp.cz/cgi-bin/dc_cz.pl" TargetMode="External"/><Relationship Id="rId4" Type="http://schemas.openxmlformats.org/officeDocument/2006/relationships/hyperlink" Target="http://webarchiv.nkp.cz/cgi-bin/dc_cz.p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" Target="slide26.xml"/><Relationship Id="rId4" Type="http://schemas.openxmlformats.org/officeDocument/2006/relationships/slide" Target="slide28.xml"/><Relationship Id="rId5" Type="http://schemas.openxmlformats.org/officeDocument/2006/relationships/slide" Target="slide8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ib-info.cuni.cz/index.php?fname=jib.mnu&amp;sub=5&amp;url=tematbrany/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onspekt.nkp.cz/konspekt.phtml" TargetMode="External"/><Relationship Id="rId3" Type="http://schemas.openxmlformats.org/officeDocument/2006/relationships/hyperlink" Target="http://www.nkp.cz/pages/page.php3?page=fond_Mdt_tabulky1.htm" TargetMode="External"/><Relationship Id="rId4" Type="http://schemas.openxmlformats.org/officeDocument/2006/relationships/hyperlink" Target="http://konspekt.nkp.cz/index.phtml" TargetMode="External"/><Relationship Id="rId5" Type="http://schemas.openxmlformats.org/officeDocument/2006/relationships/hyperlink" Target="file:///odkazy/Konspekt%20obecn&#283;.doc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ull.nkp.cz/nkkr/NKKR0301/0301042.html" TargetMode="External"/><Relationship Id="rId3" Type="http://schemas.openxmlformats.org/officeDocument/2006/relationships/hyperlink" Target="http://full.nkp.cz/nkkr/NKKR0301/0301042.html" TargetMode="External"/><Relationship Id="rId4" Type="http://schemas.openxmlformats.org/officeDocument/2006/relationships/hyperlink" Target="http://full.nkp.cz/nkkr/NKKR0301/0301042.html" TargetMode="External"/><Relationship Id="rId5" Type="http://schemas.openxmlformats.org/officeDocument/2006/relationships/hyperlink" Target="http://full.nkp.cz/nkkr/NKKR0301/0301042.html" TargetMode="External"/><Relationship Id="rId6" Type="http://schemas.openxmlformats.org/officeDocument/2006/relationships/hyperlink" Target="http://full.nkp.cz/nkkr/NKKR0301/0301042.html" TargetMode="External"/><Relationship Id="rId7" Type="http://schemas.openxmlformats.org/officeDocument/2006/relationships/hyperlink" Target="http://full.nkp.cz/nkkr/NKKR0301/0301042.html" TargetMode="External"/><Relationship Id="rId8" Type="http://schemas.openxmlformats.org/officeDocument/2006/relationships/hyperlink" Target="http://full.nkp.cz/nkkr/NKKR0301/0301042.html" TargetMode="External"/><Relationship Id="rId9" Type="http://schemas.openxmlformats.org/officeDocument/2006/relationships/hyperlink" Target="http://full.nkp.cz/nkkr/NKKR0301/0301042.html" TargetMode="External"/><Relationship Id="rId10" Type="http://schemas.openxmlformats.org/officeDocument/2006/relationships/hyperlink" Target="http://full.nkp.cz/nkkr/NKKR0301/0301042.html" TargetMode="External"/><Relationship Id="rId11" Type="http://schemas.openxmlformats.org/officeDocument/2006/relationships/hyperlink" Target="http://full.nkp.cz/nkkr/NKKR0301/0301042.html" TargetMode="External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Verdana"/>
              </a:rPr>
              <a:t>Rešeršní a studijně rozborová činnost – cvičení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Metoda Konspektu – rešeršní nástroj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501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Struktu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76438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30996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996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erarchický princip, postup od obecného k detailnějšímu, dvouúrovňové sché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996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996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česká terminologi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2880000" cy="2665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27640" y="4581360"/>
            <a:ext cx="38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3860640"/>
            <a:ext cx="367164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předmětové kategorie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</a:rPr>
              <a:t>nezávislé na pořádacích systém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skupiny Konspektu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vycházející z MDT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předměty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?PH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19640" y="429264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5157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5805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Struktura konspektového schématu – modifikace pro použití v českém prostřed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předmětové kategorie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 (24) - zachován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36699"/>
                </a:solidFill>
                <a:uFillTx/>
                <a:latin typeface="Verdana"/>
              </a:rPr>
              <a:t>skupiny Konspektu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(500) – klasifikační znak MDT a slovní vyjádření, konkordance mezi DDC a MD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336699"/>
              </a:buClr>
              <a:buSzPct val="90000"/>
              <a:buFont typeface="Wingdings" charset="2"/>
              <a:buChar char="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316.4 Sociální proces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352/354 Stupně místní, oblastní a ústřední správ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821.111(73) Americká literatu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130000"/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íce o konspektovém schématu a příčinách, jež vedly k jeho modifikaci pro využití v českých knihovnách Z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Ukázka struktury konspektového schémat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cc33"/>
                </a:solidFill>
                <a:uFillTx/>
                <a:latin typeface="Verdana"/>
              </a:rPr>
              <a:t>18. Sociologie</a:t>
            </a: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1. úroveň P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Společenské vědy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16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Sociologie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2. úroveň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08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Sociografie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kupiny Konspekt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16.4/.7 Sociální interak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16.4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Sociální proces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16.77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Informační věda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206064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92720" y="321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Vlastnosti konspektového schémat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istence slovníku – AN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konkordanční tabulky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bor autorit pro skupiny Konspektu jako dílčí část databáze věcných autorit – definovány hierarchické vztah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Vlastnosti konspektového schémat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lexikální jednotky – skupiny Konspektu: zastupují obecné pojm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nelze vyjádřit specifické dílčí předměty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začlenění tématu do oboru – do hrubé kategor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jmová základna konspektového schématu malého rozsahu – 500 skupin Konspekt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ravidlo pro indexování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bibliografický záznam – 1 skupina Konspektu (hlavní téma) </a:t>
            </a:r>
            <a:r>
              <a:rPr b="0" lang="cs-CZ" sz="1900" spc="-1" strike="noStrike">
                <a:solidFill>
                  <a:srgbClr val="336699"/>
                </a:solidFill>
                <a:latin typeface="Verdana"/>
              </a:rPr>
              <a:t>+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možnost vyjádření formálního hledisk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metadatový záznam – libovolný počet (opakovatelné pol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tzv. jednoaspektní metoda indexování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76520" indent="-383400">
              <a:spcBef>
                <a:spcPts val="400"/>
              </a:spcBef>
              <a:buClr>
                <a:srgbClr val="cc0000"/>
              </a:buClr>
              <a:buSzPct val="11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Verdana"/>
              </a:rPr>
              <a:t>vlastnosti ovlivňující úspěšnost vyhledáván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e konspektové schéma systematický selekční jazyk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ykazuje společné rysy s klasifikačními systémy typu MD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ganizace pojmů hierarchickým způsobem od obecného k detailnějším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lasifikační znak MDT součástí skupin Konspekt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ktualizace skupin Konspektu se odvíjí od aktualizace MD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buClr>
                <a:srgbClr val="a3b2c1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3b2c1"/>
                </a:solidFill>
                <a:latin typeface="Comic Sans MS"/>
              </a:rPr>
              <a:t>ALE</a:t>
            </a:r>
            <a:br>
              <a:rPr sz="3400"/>
            </a:br>
            <a:r>
              <a:rPr b="0" lang="en-US" sz="3400" spc="-1" strike="noStrike">
                <a:solidFill>
                  <a:srgbClr val="a3b2c1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889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a3b2c1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lasifikační znaky vytrženy z původního hierarchického kontextu MD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a3b2c1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dřazení skupin Konspektu se odvíjí od původního účelu schématu, tj. pro potřeby metody Konspekt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a3b2c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lasifikační znaky skupin Konspektu nevyjadřují vztahy mezi ostatními skupinami Konspektu v hierarchické struktuře konspektového schématu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a3b2c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 stejnou úroveň se dostaly skupiny Konspektu zastupující pojmy různého rozsah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e předmětovým selekčním jazykem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vní vyjádření jako plnohodnotná součást skupiny Konspektu coby pořádacího zna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SzPct val="65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Comic Sans MS"/>
              </a:rPr>
              <a:t>A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vní vyjádření svázáno s klasifikací pojmu v systému MD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vník nemá definovány vztahy asociace a ekvival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Klasifikujeme pomocí skupin Konspektu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zhledem k vlastnostem konspektového schématu by se mělo hovořit při zpřístupnění informačních zdrojů na úrovni předmětových kategorií a skupin Konspektu spíše o </a:t>
            </a:r>
            <a:r>
              <a:rPr b="0" i="1" lang="en-US" sz="3000" spc="-1" strike="noStrike">
                <a:solidFill>
                  <a:srgbClr val="003366"/>
                </a:solidFill>
                <a:latin typeface="Verdana"/>
              </a:rPr>
              <a:t>předmětové kategori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147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Skupiny Konspektu jako selekční jazyk v katalozích knihove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utoritní záznam skupin Konspekt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oučástí 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databáze věcných autorit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kupiny Konspektu v bibliografických záznamech (MARC21 pole 072)- nástroj pro minimální věcné zpřístupnění informačních zdrojů, hrubá kategoriz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íce viz</a:t>
            </a:r>
            <a:br>
              <a:rPr sz="2200"/>
            </a:b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Varianty věcného zpřístupnění informačních zdrojů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ouborný katalog CASLIN – fakultativní věcný prvek minimálního záznamu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Comic Sans MS"/>
              </a:rPr>
              <a:t>NEBO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5680" y="1779120"/>
            <a:ext cx="777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i="1" lang="en-US" sz="3500" spc="-1" strike="noStrike">
                <a:solidFill>
                  <a:srgbClr val="a3b2c1"/>
                </a:solidFill>
                <a:latin typeface="Verdana"/>
              </a:rPr>
              <a:t> </a:t>
            </a:r>
            <a:r>
              <a:rPr b="0" i="1" lang="en-US" sz="3500" spc="-1" strike="noStrike">
                <a:solidFill>
                  <a:srgbClr val="a3b2c1"/>
                </a:solidFill>
                <a:latin typeface="Verdana"/>
              </a:rPr>
              <a:t>Posouzení možností uplatnění konspektového schématu jako selekčního jazyka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957400" y="4357800"/>
            <a:ext cx="32911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Vyhledávání pomocí skupin Konspektu v katalozích knihove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mezená nabídka funkcí pro vyhledávání pomocí skupin Konspekt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žnost přímého vyhledávání – 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nkce rejstříky, tj. prohlížení seznamů – A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becný charakter skupin Konspektu – odezva – rozsáhlá množina dokument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výsledek dotazu nelze zúžit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alýza rešerše pomocí skupin Konspektu  zde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33"/>
                </a:solidFill>
                <a:latin typeface="Verdana"/>
              </a:rPr>
              <a:t>??? VYZKOUŠEJTE 1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Verdana"/>
              </a:rPr>
              <a:t>v katalogu NK proveďte vyhledávání dokumentů, které se zabývají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Pražským jarem 1968 obecn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Pražským jarem 1968 z pohledu mezinárodních politických vztahů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vyzkoušejte si vyhledávání pomocí tří selekčních jazyků: předmětových hesel, znaků MDT, skupin Konspekt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Verdana"/>
              </a:rPr>
              <a:t>pomocí kterého z těchto selekčních prvků jste nalezli relevantní dokumenty? neboli který z nich vám umožnil naformulovat váš rešeršní požadavek nejlé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Faktory snižující konzistenci indexace dokumentů pomocí skupin Konspekt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2525760"/>
            <a:ext cx="8001000" cy="34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olba jedné skupiny Konspektu pro složená témata příkla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ozptýlení předmětu dokumentu mezi různými třídami MDT příkl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ktualizace slovníku MDT – pomalá klasifikace nových pojmů příkl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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ozbor jednotlivých příkladů z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01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JIB – využití metody Konspekt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ředmětové kategorie – tematický rozcestník pro výběr zdrojů zpřístupněných prostřednictvím JI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6699"/>
                </a:solidFill>
                <a:latin typeface="Verdana"/>
              </a:rPr>
              <a:t>A to je vš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!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omplexní využití metody Konspektu – kategorizace fondů knihoven v JIB na základě výsledků zjištěných z hodnocení a charakteristiky fondu Konspekt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zatřídění podle kvality fondu, vztahuje se zejména na knihovny s univerzálním fonde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Kde k tomu najít ví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483920"/>
            <a:ext cx="8001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Verdana"/>
              </a:rPr>
              <a:t>Co je JIB?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ychlá odpověď viz STOKLASOVÁ, B., KRBEC, P. Integrovaný přístup k informacím prostřednictvím Jednotné informační brány.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Národní knihovn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2002, roč. 13, č. 4, s. 225 - 249. Dostupné též z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full.nkp.cz/nkkr/NKKR0204/0204225.ht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Kde k tomu najít ví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še o JIB a souvisejících projektech:</a:t>
            </a:r>
            <a:br>
              <a:rPr sz="3000"/>
            </a:b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jib-info.cuni.cz/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36699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zentace ze školení </a:t>
            </a:r>
            <a:r>
              <a:rPr b="0" lang="en-US" sz="2800" spc="-1" strike="noStrike">
                <a:solidFill>
                  <a:srgbClr val="336699"/>
                </a:solidFill>
                <a:latin typeface="Wingdings"/>
                <a:ea typeface="Wingdings"/>
              </a:rPr>
              <a:t>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žitečné typy pro vyhledávání v JI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cc33"/>
                </a:solidFill>
                <a:latin typeface="Verdana"/>
              </a:rPr>
              <a:t>??? VYZKOUŠEJTE 2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ýhody registrovaného uživatele JI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aké prohledatelné a odkazové zdroje nabízí JIB  z oblasti knihovnictví a informační vědy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?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je to vyčerpávající nabídka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střednictvím JIB lokalizujte vámi vybranou monografii z doporučené literatury k předmětu a nalezněte vhodný způsob získání primárního zdroj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Wingdings"/>
                <a:ea typeface="Wingdings"/>
              </a:rPr>
              <a:t>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zapomeňte na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nabídku přidaných služeb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4869000"/>
            <a:ext cx="792360" cy="503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plikace konspektového schématu v českých oborových informačních branách (OIB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33cc33"/>
                </a:solidFill>
                <a:latin typeface="Verdana"/>
              </a:rPr>
              <a:t>NA ÚVOD</a:t>
            </a: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Co jsou oborové brány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analytická stud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CH, T. Quality-controlled subject gateways: definitions, typologies, empirical overview.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Online Information Review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2000, vol. 24, no. 1. s. 24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 algn="just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33cc33"/>
                </a:solidFill>
                <a:latin typeface="Verdana"/>
              </a:rPr>
              <a:t>Příklady OIB: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300" spc="-1" strike="noStrike" u="sng">
                <a:solidFill>
                  <a:srgbClr val="336699"/>
                </a:solidFill>
                <a:uFillTx/>
                <a:latin typeface="Comic Sans MS"/>
                <a:hlinkClick r:id="rId3"/>
              </a:rPr>
              <a:t>SOSIG</a:t>
            </a:r>
            <a:r>
              <a:rPr b="0" lang="cs-CZ" sz="23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cs-CZ" sz="2300" spc="-1" strike="noStrike" u="sng">
                <a:solidFill>
                  <a:srgbClr val="336699"/>
                </a:solidFill>
                <a:uFillTx/>
                <a:latin typeface="Comic Sans MS"/>
                <a:hlinkClick r:id="rId4"/>
              </a:rPr>
              <a:t>BUBL</a:t>
            </a:r>
            <a:r>
              <a:rPr b="0" lang="cs-CZ" sz="23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cs-CZ" sz="2300" spc="-1" strike="noStrike" u="sng">
                <a:solidFill>
                  <a:srgbClr val="336699"/>
                </a:solidFill>
                <a:uFillTx/>
                <a:latin typeface="Comic Sans MS"/>
                <a:hlinkClick r:id="rId5"/>
              </a:rPr>
              <a:t>RENARDU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cc33"/>
                </a:solidFill>
                <a:latin typeface="Verdana"/>
              </a:rPr>
              <a:t>??? VYZKOUŠEJTE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aneb kde naleznu plný tex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kuste se získat plný text citovaného článku (KOCH, 200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11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nápově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likace konspektového schématu v českých OIB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árodní kooperativní  projekt tvorby OIB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3000" spc="-1" strike="noStrike">
                <a:solidFill>
                  <a:srgbClr val="cc0000"/>
                </a:solidFill>
                <a:latin typeface="Wingdings"/>
                <a:ea typeface="Wingdings"/>
              </a:rPr>
              <a:t></a:t>
            </a:r>
            <a:r>
              <a:rPr b="0" i="1" lang="cs-CZ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i="1" lang="cs-CZ" sz="2400" spc="-1" strike="noStrike">
                <a:solidFill>
                  <a:srgbClr val="cc0000"/>
                </a:solidFill>
                <a:latin typeface="Verdana"/>
              </a:rPr>
              <a:t>více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zde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cs-CZ" sz="2400" spc="-1" strike="noStrike">
                <a:solidFill>
                  <a:srgbClr val="cc0000"/>
                </a:solidFill>
                <a:latin typeface="Verdana"/>
              </a:rPr>
              <a:t>nebo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 zde </a:t>
            </a:r>
            <a:r>
              <a:rPr b="0" i="1" lang="cs-CZ" sz="2400" spc="-1" strike="noStrike">
                <a:solidFill>
                  <a:srgbClr val="cc0000"/>
                </a:solidFill>
                <a:latin typeface="Verdana"/>
              </a:rPr>
              <a:t>(doplňující tex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IB – koordinující a propojovací článek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nspek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předmětové kategorie – přímý oborový vstup, dělítko odpovědnost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skupiny Konspektu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elekční prvek v metadatovém záznamu (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Dublin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Cor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 – varianty MDT, DD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ematický rozcestní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dkazy pro rychlou orienta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dněty k samostatné prá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vyzkoušejte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vyzkoušejte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vyzkoušejte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Konspekt jako SJ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JI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OI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Verdana"/>
              </a:rPr>
              <a:t>!!! PRŮBĚŽNĚ SLEDUJ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Národní knihovna ČR připravuje tvorbu </a:t>
            </a:r>
            <a:r>
              <a:rPr b="0" lang="cs-CZ" sz="3000" spc="-1" strike="noStrike">
                <a:solidFill>
                  <a:srgbClr val="ff9900"/>
                </a:solidFill>
                <a:latin typeface="Verdana"/>
              </a:rPr>
              <a:t>OIB pro oblast knihovnictví a informati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více viz jib-info.cuni.c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oborové informační brá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Skupiny Konspektu jako tematický rozcestník?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IB – hrubá kategorizace informačních zdrojů, mezistupeň k detailněji definovaným úrovní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 rámci jedné OIB skupiny Konspektu z více předmětových kategori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nspektové schéma jako celek – nelze bez úprav použít, modifikace struktury dle požadavků jednotlivých služe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Konspektové schéma jako SJ</a:t>
            </a:r>
            <a:br>
              <a:rPr sz="3400"/>
            </a:b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AN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0000"/>
                </a:solidFill>
                <a:latin typeface="Comic Sans MS"/>
              </a:rPr>
              <a:t>ALE EXISTUJÍ A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s nimiž se bude třeba vypořá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neb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s nimi počít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onspektové schéma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kantní rozdíly mezi původním účelem a novým pojetí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tná modifikace v kontextu použit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kupiny Konspektu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émy vyplývající ze závislosti na M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časně však nejsou součástí klasifikačního systému: ztrácí se některé výhod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uze hrubé kategorie - vědomí využití pouze pro potřeby hrubšího rozčlenění IZ do tematických skup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Verdana"/>
              </a:rPr>
              <a:t>Co je Konspekt?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98560" indent="-431640"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Jde o mezinárodně respektovanou metodu pro mezinárodně srozumitelný popis, hodnocení a porovnávání knihovních fondů a nástroj jejich systematické správy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Specifičnost Konspektu – numerické vyjádření hodnocených aspektů fondu (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indikátory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</a:rPr>
              <a:t>), prostředky pro popis a hodnocení fondu (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konspektové schéma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</a:rPr>
              <a:t>,</a:t>
            </a: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 konspektový software, tabulky), způsoby prezentování výsledk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Prezentace zhodnocených fondů NK Č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1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Základní informace o metodě Konspektu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z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aká složka Konspektu nás zajímá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 rozčlenění knihovního fondu do tematických skupin pro potřeby jeho hodnocení metodou Konspekt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j. 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konspektové schéma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 či schéma Konspekt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 založeno na hierarchickém principu a kombinaci předmětového a klasifikačního přístupu (předmětového a systematického pořádání informací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ategorizace zdrojů pomocí schématu vychází z klasické metody věcné kategorizace shora dolů – hlavní kategorie se hierarchicky rozdělují do konkrétnějších úrovní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aká složka Konspektu nás zajímá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43112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ctr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6699"/>
                </a:solidFill>
                <a:latin typeface="Verdana"/>
              </a:rPr>
              <a:t>KONSPEKTOVÉ SCHÉ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99"/>
                </a:solidFill>
                <a:latin typeface="Verdana"/>
              </a:rPr>
              <a:t>(originální verze, tj. před jeho úpravou pro využití v českých knihovnách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880000" cy="2305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427640" y="4581360"/>
            <a:ext cx="38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4221000"/>
            <a:ext cx="36716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ezávislá na tradičních S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vycházející z DDC,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L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DDC, LCC,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P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443700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95640" y="4941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566100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386064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92720" y="371628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univerzální sché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407664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nejvyšší úrove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95640" y="4581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ruhá úrove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530064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nejnižší úrove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a3b2c1"/>
                </a:solidFill>
                <a:latin typeface="Verdana"/>
              </a:rPr>
              <a:t>Proč?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Česká republi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nástroj minimální úrovně věcné katalogizace (prvky druhé úrovně - skupiny Konspektu - jako selekční údaj v bib záznamech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konspektové schéma jako tematický rozcestník (kategorizace zdrojů v JIB, </a:t>
            </a:r>
            <a:r>
              <a:rPr b="0" lang="cs-CZ" sz="21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OIB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rozšíření původního využití konspektového schémat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ěcné zpřístupnění heterogenních 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informačních zdrojů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551664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450864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551664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Kde k tomu najít ví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ALÍKOVÁ, M. Předmětová kategorizace informačních zdrojů pro potřeby Konspektu.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Národní knihovn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2003, roč. 14, č. 1, s. 42-54.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stupné též z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full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.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nkp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.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cz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/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nkkr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/NKKR0301/0301042.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html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ALÍKOVÁ, M.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Věcné zpracování. Věcné autority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[online]. 16. 08. 2004 [cit. 2005-01-31]. Dostupné z http://www.nkp.cz/pages/page.php3?page=fond_veczprac1.ht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Konspektové schéma jako selekční  jazy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6699"/>
                </a:solidFill>
                <a:latin typeface="Verdana"/>
              </a:rPr>
              <a:t>konfrontace s obecnými vlastnostmi SJ, zejména MDT a D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a3b2c1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uktu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a3b2c1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xikální jednot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a3b2c1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vní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a3b2c1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lastnosti skupin Konspektu z hlediska schopností vyjádření témat informačních zdroj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07:43:35Z</dcterms:created>
  <dc:creator>SilvieP.</dc:creator>
  <dc:description/>
  <dc:language>en-US</dc:language>
  <cp:lastModifiedBy>Presová</cp:lastModifiedBy>
  <dcterms:modified xsi:type="dcterms:W3CDTF">2005-03-15T06:34:50Z</dcterms:modified>
  <cp:revision>37</cp:revision>
  <dc:subject/>
  <dc:title>Snímek 1</dc:title>
</cp:coreProperties>
</file>