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knihovna" initials="k" lastIdx="1" clrIdx="1"/>
  <p:cmAuthor id="0" name="Presová" initials="P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1" dt="2005-03-08T07:36:27.634000000" idx="1">
    <p:pos x="5295" y="1961"/>
    <p:text>Konkordancí rozumíme přiřazení významově shodných lexikálních jednotek porovnávaných selekčních jazyků a v konkordančních tabulkách jsou výsledky této činnosti fixovány</p:text>
  </p:cm>
</p:cmLst>
</file>

<file path=ppt/comments/comment13.xml><?xml version="1.0" encoding="utf-8"?>
<p:cmLst xmlns:p="http://schemas.openxmlformats.org/presentationml/2006/main">
  <p:cm authorId="0" dt="2005-03-08T08:16:33.183000000" idx="2">
    <p:pos x="5401" y="1817"/>
    <p:text>Existující konkordanční tabulky mezi MDT a DDC, které jsou vystaveny na webových stránkách NK ČR , lze chápat jako slovník selekčního jazyka Konspektu. Na uvedené stránce nalezneme abecedně seřazený seznam 24 předmětových kategorií s anglickými ekvivalenty. Kliknutím na konkrétní kategorii se otevře okno s konkordanční tabulkou, v níž jsou zleva dva sloupce pro skupiny Konspektu založené na MDT (v tabulce pod označením MDT/Konspekt, ve starší verzi bylo označení skupiny Konspektu), sloupec pro poznámky, dva sloupce pro skupiny Konspektu založené na DDC (DDC/Conspectus) a sloupec pro vybrané znaky MDT</p:text>
  </p:cm>
  <p:cm authorId="0" dt="2005-03-08T08:18:12.866000000" idx="3">
    <p:pos x="5401" y="2367"/>
    <p:text>NK ČR buduje speciální soubor autorit pro skupiny Konspektu, jenž je součástí databáze věcných autorit, a to se záměrem „zajištění standardního prostředí při ukládání údajů skupin Konspektu v bibliografických záznamech a směnitelnosti těchto údajů na institucionální, národní i mezinárodní úrovni“ (BALÍKOVÁ, 2003:50). Zmíněný soubor můžeme také pojímat jako slovník konspektového schématu a liší se od slovníku založeného na konspektových tabulkách tím, že je prezentován ve formě elektronické báze. Soubor skupin Konspektu se skládá z jednotlivých autoritních záznamů pro každou skupinu Konspektu.</p:text>
  </p:cm>
</p:cmLst>
</file>

<file path=ppt/comments/comment6.xml><?xml version="1.0" encoding="utf-8"?>
<p:cmLst xmlns:p="http://schemas.openxmlformats.org/presentationml/2006/main">
  <p:cm authorId="0" dt="2005-03-10T11:28:02.721000000" idx="1">
    <p:pos x="4936" y="1834"/>
    <p:text>Struktura konspektového schématu vychází z tříúrovňového uspořádání. Nejvyšší úroveň, 24 předmětových kategorií, se člení přibližně do 500 skupin Konspektu a ty se dále rozkládají na 4000 předmětů. Předmětové kategorie byly vytvořeny na základě analýzy kategorizace studijních oborů na amerických univerzitách. Skupiny Konspektu jsou tvořeny vybranými klasifikačními znaky DDC, jež věcně souvisí s předmětovými kategoriemi. Třetí úroveň poskytuje detailnější předměty uvnitř skupin Konspektu. V tomto případě nemusí jít pouze o znaky klasifikačního schématu, ale i lexikální jednotky předmětového selekčního jazyka užívaného danou katalogizační agenturou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59B-FD7D-44C1-BF19-E4EAF3CB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06B-A080-4A03-ABAC-ED5551D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5FA-5D92-4FE1-8370-EC6DE358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A66-E199-4E95-8ECA-C786A466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1DC-D669-49FA-A3D8-EC424D7B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FED8-9A31-44A8-A3D7-955B54E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77F9-AF84-493A-91DA-AD76E87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470-A1C6-4034-BD29-3BF6C78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E695-F5CA-4011-885E-9EDF094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E17-6AF7-44E4-BA29-B1BAD01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CF7-A3D1-46EC-8BAE-75603C6F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3C2-8149-4E31-8237-59D3118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73A-F015-47A7-8C63-A406D36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FA11-C094-490A-8854-FF3B7336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2ABB-4571-4FFA-861F-A074E19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7E41-2B7D-4D80-956C-B02853F2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C10A-5B5D-4885-ACE8-2F5B722C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0D2-E032-4B9A-A73E-091973D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39A-0A5B-45FC-9E6E-4FDAA9B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AFD-24FE-4A7F-92B5-9D250BB4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0BD-7916-46BE-AA89-26CCB17F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CDE-E0AF-4FE4-AFB8-12AA63E8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932-7EA0-4E7C-860C-F4926E5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E5A-B44B-4C86-9440-5C1EF166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754D-1DBA-4A51-91F5-D93D22337D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953-BB49-49C3-8628-8C1A7282EA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www.nkp.cz/pages/page.php3?page=fond_Mdt_tabulky1.ht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Mdt_tabulky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page.php3?page=fond_konspekt3_MDT1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P9HT918YPRCCP45PBV5KDIH3MUDRVSCSE8YNMH6L7TF74YXAFC-05960?func=file&amp;file_name=base-list" TargetMode="External"/><Relationship Id="rId3" Type="http://schemas.openxmlformats.org/officeDocument/2006/relationships/hyperlink" Target="http://www.nkp.cz/pages/page.php3?page=fond_zazn_zpristinfzdroj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204/0204225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tematbrany/studie_html/" TargetMode="External"/><Relationship Id="rId3" Type="http://schemas.openxmlformats.org/officeDocument/2006/relationships/hyperlink" Target="http://www.sosig.ac.uk/" TargetMode="External"/><Relationship Id="rId4" Type="http://schemas.openxmlformats.org/officeDocument/2006/relationships/hyperlink" Target="http://bubl.ac.uk/" TargetMode="External"/><Relationship Id="rId5" Type="http://schemas.openxmlformats.org/officeDocument/2006/relationships/hyperlink" Target="http://www.renardus.org/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hyperlink" Target="http://webarchiv.nkp.cz/cgi-bin/dc_cz.pl" TargetMode="External"/><Relationship Id="rId4" Type="http://schemas.openxmlformats.org/officeDocument/2006/relationships/hyperlink" Target="http://webarchiv.nkp.cz/cgi-bin/dc_cz.p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8.xml"/><Relationship Id="rId6" Type="http://schemas.openxmlformats.org/officeDocument/2006/relationships/slide" Target="slide24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ib-info.cuni.cz/index.php?fname=jib.mnu&amp;sub=5&amp;url=tematbrany/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onspekt.nkp.cz/konspekt.phtml" TargetMode="External"/><Relationship Id="rId3" Type="http://schemas.openxmlformats.org/officeDocument/2006/relationships/hyperlink" Target="http://www.nkp.cz/pages/page.php3?page=fond_Mdt_tabulky1.htm" TargetMode="External"/><Relationship Id="rId4" Type="http://schemas.openxmlformats.org/officeDocument/2006/relationships/hyperlink" Target="http://konspekt.nkp.cz/index.phtml" TargetMode="External"/><Relationship Id="rId5" Type="http://schemas.openxmlformats.org/officeDocument/2006/relationships/hyperlink" Target="file:///odkazy/Konspekt%20obecn&#283;.doc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ll.nkp.cz/nkkr/NKKR0301/0301042.html" TargetMode="External"/><Relationship Id="rId3" Type="http://schemas.openxmlformats.org/officeDocument/2006/relationships/hyperlink" Target="http://full.nkp.cz/nkkr/NKKR0301/0301042.html" TargetMode="External"/><Relationship Id="rId4" Type="http://schemas.openxmlformats.org/officeDocument/2006/relationships/hyperlink" Target="http://full.nkp.cz/nkkr/NKKR0301/0301042.html" TargetMode="External"/><Relationship Id="rId5" Type="http://schemas.openxmlformats.org/officeDocument/2006/relationships/hyperlink" Target="http://full.nkp.cz/nkkr/NKKR0301/0301042.html" TargetMode="External"/><Relationship Id="rId6" Type="http://schemas.openxmlformats.org/officeDocument/2006/relationships/hyperlink" Target="http://full.nkp.cz/nkkr/NKKR0301/0301042.html" TargetMode="External"/><Relationship Id="rId7" Type="http://schemas.openxmlformats.org/officeDocument/2006/relationships/hyperlink" Target="http://full.nkp.cz/nkkr/NKKR0301/0301042.html" TargetMode="External"/><Relationship Id="rId8" Type="http://schemas.openxmlformats.org/officeDocument/2006/relationships/hyperlink" Target="http://full.nkp.cz/nkkr/NKKR0301/0301042.html" TargetMode="External"/><Relationship Id="rId9" Type="http://schemas.openxmlformats.org/officeDocument/2006/relationships/hyperlink" Target="http://full.nkp.cz/nkkr/NKKR0301/0301042.html" TargetMode="External"/><Relationship Id="rId10" Type="http://schemas.openxmlformats.org/officeDocument/2006/relationships/hyperlink" Target="http://full.nkp.cz/nkkr/NKKR0301/0301042.html" TargetMode="External"/><Relationship Id="rId11" Type="http://schemas.openxmlformats.org/officeDocument/2006/relationships/hyperlink" Target="http://full.nkp.cz/nkkr/NKKR0301/0301042.html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Verdana"/>
              </a:rPr>
              <a:t>Rešeršní a studijně rozborová činnost – cvičení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Metoda Konspektu – rešeršní nástroj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truk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643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erarchický princip, postup od obecného k detailnějšímu, dvouúrovňové sch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česká terminologi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80000" cy="266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860640"/>
            <a:ext cx="36716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ředmětové kategorie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</a:rPr>
              <a:t>nezávislé na pořádacích systém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skupiny Konspektu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MDT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6699"/>
                </a:solidFill>
                <a:latin typeface="Verdana"/>
              </a:rPr>
              <a:t>předměty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?PH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292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157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5805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Struktura konspektového schématu – modifikace pro použití v českém prostřed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dmětové kategori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(24) - zachová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</a:rPr>
              <a:t>skupiny Konspektu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(500) – klasifikační znak MDT a slovní vyjádření, konkordance mezi DDC a MD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336699"/>
              </a:buClr>
              <a:buSzPct val="90000"/>
              <a:buFont typeface="Wingdings" charset="2"/>
              <a:buChar char="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16.4 Sociální proces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352/354 Stupně místní, oblastní a ústřední správ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821.111(73) Americká literat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30000"/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íce o konspektovém schématu a příčinách, jež vedly k jeho modifikaci pro využití v českých knihovnách Z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Ukázka struktury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cc33"/>
                </a:solidFill>
                <a:uFillTx/>
                <a:latin typeface="Verdana"/>
              </a:rPr>
              <a:t>18. Sociologie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33cc33"/>
                </a:solidFill>
                <a:latin typeface="Verdana"/>
              </a:rPr>
              <a:t>1. úroveň P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polečenské vědy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log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. úroveň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08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ografie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kupiny Konspek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/.7 Sociální interak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4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ociální proces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316.77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Informační věda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06064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e slovníku – A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konkordanční tabulk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bor autorit pro skupiny Konspektu jako dílčí část databáze věcných autorit – definovány hierarchické vztah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lastnosti konspektového schéma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lexikální jednotky – skupiny Konspektu: zastupují obecné poj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nelze vyjádřit specifické dílčí předmě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členění tématu do oboru – do hrubé kategor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jmová základna konspektového schématu malého rozsahu – 500 skupin Konspekt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avidlo pro indexování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bibliografický záznam – 1 skupina Konspektu (hlavní téma) </a:t>
            </a:r>
            <a:r>
              <a:rPr b="0" lang="cs-CZ" sz="1900" spc="-1" strike="noStrike">
                <a:solidFill>
                  <a:srgbClr val="336699"/>
                </a:solidFill>
                <a:latin typeface="Verdana"/>
              </a:rPr>
              <a:t>+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možnost vyjádření formálního hledisk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metadatový záznam – libovolný počet (opakovatelné po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tzv. jednoaspektní metoda indexován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38340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Verdana"/>
              </a:rPr>
              <a:t>vlastnosti ovlivňující úspěšnost vyhledáván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konspektové schéma systematický selekční jazyk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kazuje společné rysy s klasifikačními systémy typu MD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ganizace pojmů hierarchickým způsobem od obecného k detailnější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 MDT součástí skupin Konspek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kupin Konspektu se odvíjí od aktualizace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buClr>
                <a:srgbClr val="a3b2c1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ALE</a:t>
            </a: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lasifikační znaky vytrženy z původního hierarchického kontextu MD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a3b2c1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dřazení skupin Konspektu se odvíjí od původního účelu schématu, tj. pro potřeby metody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lasifikační znaky skupin Konspektu nevyjadřují vztahy mezi ostatními skupinami Konspektu v hierarchické struktuře konspektového schéma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 stejnou úroveň se dostaly skupiny Konspektu zastupující pojmy různého rozsah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 předmětovým selekčním jazykem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jako plnohodnotná součást skupiny Konspektu coby pořádací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Comic Sans MS"/>
              </a:rPr>
              <a:t>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 vyjádření svázáno s klasifikací pojmu v systému MD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 nemá definovány vztahy asociace a ekvival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lasifikujeme pomocí skupin Konspektu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zhledem k vlastnostem konspektového schématu by se mělo hovořit při zpřístupnění informačních zdrojů na úrovni předmětových kategorií a skupin Konspektu spíše o </a:t>
            </a:r>
            <a:r>
              <a:rPr b="0" i="1" lang="en-US" sz="3000" spc="-1" strike="noStrike">
                <a:solidFill>
                  <a:srgbClr val="003366"/>
                </a:solidFill>
                <a:latin typeface="Verdana"/>
              </a:rPr>
              <a:t>předmětové kategori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147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Skupiny Konspektu jako selekční jazyk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utoritní záznam skupin Konspek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částí </a:t>
            </a: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databáze věcných autori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upiny Konspektu v bibliografických záznamech (MARC21 pole 072)- nástroj pro minimální věcné zpřístupnění informačních zdrojů, hrubá kategoriz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 viz</a:t>
            </a:r>
            <a:br>
              <a:rPr sz="2200"/>
            </a:b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Varianty věcného zpřístupnění informačních zdrojů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CASLIN – fakultativní věcný prvek minimálního záznamu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Comic Sans MS"/>
              </a:rPr>
              <a:t>NEBO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5680" y="1779120"/>
            <a:ext cx="7770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a3b2c1"/>
                </a:solidFill>
                <a:latin typeface="Verdana"/>
              </a:rPr>
              <a:t>Posouzení možností uplatnění konspektového schématu jako selekčního jazyk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57400" y="4357800"/>
            <a:ext cx="3291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yhledávání pomocí skupin Konspektu v katalozích knihov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á nabídka funkcí pro vyhledávání pomocí skupin Konspek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nost přímého vyhledávání – 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kce rejstříky, tj. prohlížení seznamů – A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ecný charakter skupin Konspektu – odezva – rozsáhlá množina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sledek dotazu nelze zúžit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alýza rešerše pomocí skupin Konspektu  zd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Verdana"/>
              </a:rPr>
              <a:t>??? VYZKOUŠEJTE 1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</a:rPr>
              <a:t>v katalogu NK proveďte vyhledávání dokumentů, které se zabývají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obecn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ažským jarem 1968 z pohledu mezinárodních politických vztah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-4381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vyzkoušejte si vyhledávání pomocí tří selekčních jazyků: předmětových hesel, znaků MDT, skupin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Verdana"/>
              </a:rPr>
              <a:t>pomocí kterého z těchto selekčních prvků jste nalezli relevantní dokumenty? neboli který z nich vám umožnil naformulovat váš rešeršní požadavek nejlé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Faktory snižující konzistenci indexace dokumentů pomocí skupin Konspekt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2525760"/>
            <a:ext cx="80010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ba jedné skupiny Konspektu pro složená témata příkla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ptýlení předmětu dokumentu mezi různými třídami MDT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tualizace slovníku MDT – pomalá klasifikace nových pojmů příkl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zbor jednotlivých příkladů z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JIB – využití metody Konspekt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dmětové kategorie – tematický rozcestník pro výběr zdrojů zpřístupněných prostřednictvím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A to je vš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!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mplexní využití metody Konspektu – kategorizace fondů knihoven v JIB na základě výsledků zjištěných z hodnocení a charakteristiky fondu Konspek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atřídění podle kvality fondu, vztahuje se zejména na knihovny s univerzálním fon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Verdana"/>
              </a:rPr>
              <a:t>Co je JIB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ychlá odpověď viz STOKLASOVÁ, B., KRBEC, P. Integrovaný přístup k informacím prostřednictvím Jednotné informační brány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2, roč. 13, č. 4, s. 225 - 249. 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full.nkp.cz/nkkr/NKKR0204/0204225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še o JIB a souvisejících projektech:</a:t>
            </a:r>
            <a:br>
              <a:rPr sz="3000"/>
            </a:b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jib-info.cuni.cz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zentace ze školení </a:t>
            </a:r>
            <a:r>
              <a:rPr b="0" lang="en-U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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žitečné typy pro vyhledávání v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hody registrovaného uživatele 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aké prohledatelné a odkazové zdroje nabízí JIB  z oblasti knihovnictví a informační vědy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je to vyčerpávající nabídka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střednictvím JIB lokalizujte vámi vybranou monografii z doporučené literatury k předmětu a nalezněte vhodný způsob získání primárního zdroj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Wingdings"/>
                <a:ea typeface="Wingdings"/>
              </a:rPr>
              <a:t>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pomeňte 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abídku přidaných služ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869000"/>
            <a:ext cx="79236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Verdana"/>
              </a:rPr>
              <a:t>Aplikace konspektového schématu v českých oborových informačních branách (OIB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33cc33"/>
                </a:solidFill>
                <a:latin typeface="Verdana"/>
              </a:rPr>
              <a:t>NA ÚVOD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Co jsou oborové brán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nalytická stu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CH, T. Quality-controlled subject gateways: definitions, typologies, empirical overview.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nline Information Review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2000, vol. 24, no. 1. s. 2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just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33cc33"/>
                </a:solidFill>
                <a:latin typeface="Verdana"/>
              </a:rPr>
              <a:t>Příklady OIB: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3"/>
              </a:rPr>
              <a:t>SOSIG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4"/>
              </a:rPr>
              <a:t>BUBL</a:t>
            </a:r>
            <a:r>
              <a:rPr b="0" lang="cs-CZ" sz="23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Comic Sans MS"/>
                <a:hlinkClick r:id="rId5"/>
              </a:rPr>
              <a:t>RENARD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cc33"/>
                </a:solidFill>
                <a:latin typeface="Verdana"/>
              </a:rPr>
              <a:t>??? VYZKOUŠEJT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neb kde naleznu plný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kuste se získat plný text citovaného článku (KOCH, 200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11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nápově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likace konspektového schématu v českých OI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rodní kooperativní  projekt tvorby OI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</a:t>
            </a:r>
            <a:r>
              <a:rPr b="0" i="1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víc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zde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nebo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 zde </a:t>
            </a:r>
            <a:r>
              <a:rPr b="0" i="1" lang="cs-CZ" sz="2400" spc="-1" strike="noStrike">
                <a:solidFill>
                  <a:srgbClr val="cc0000"/>
                </a:solidFill>
                <a:latin typeface="Verdana"/>
              </a:rPr>
              <a:t>(doplňující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IB – koordinující a propojovací článek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pek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ředmětové kategorie – přímý oborový vstup, dělítko odpovědno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kupiny Konspek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elekční prvek v metadatovém záznamu 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ublin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r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– varianty MDT, DD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matický rozcestní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dkazy pro rychlou orienta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něty k samostatné prá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vyzkoušejt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vyzkoušejt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vyzkoušejt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Konspekt jako S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J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OI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Verdana"/>
              </a:rPr>
              <a:t>!!! PRŮBĚŽNĚ SLEDU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Národní knihovna ČR připravuje tvorbu </a:t>
            </a:r>
            <a:r>
              <a:rPr b="0" lang="cs-CZ" sz="3000" spc="-1" strike="noStrike">
                <a:solidFill>
                  <a:srgbClr val="ff9900"/>
                </a:solidFill>
                <a:latin typeface="Verdana"/>
              </a:rPr>
              <a:t>OIB pro oblast knihovnictví a informa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více viz jib-info.cuni.c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orové informační brá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Skupiny Konspektu jako tematický rozcestník?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B – hrubá kategorizace informačních zdrojů, mezistupeň k detailněji definovaným úrovní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 rámci jedné OIB skupiny Konspektu z více předmětových kategori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pektové schéma jako celek – nelze bez úprav použít, modifikace struktury dle požadavků jednotlivých služe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onspektové schéma jako SJ</a:t>
            </a:r>
            <a:br>
              <a:rPr sz="3400"/>
            </a:b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0000"/>
                </a:solidFill>
                <a:latin typeface="Comic Sans MS"/>
              </a:rPr>
              <a:t>ALE EXISTUJÍ 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ž se bude třeba vypořá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e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s nimi počít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onspektové schéma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antní rozdíly mezi původním účelem a novým pojetí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tná modifikace v kontextu použit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kupiny Konspektu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émy vyplývající ze závislosti na M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časně však nejsou součástí klasifikačního systému: ztrácí se některé výhod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uze hrubé kategorie - vědomí využití pouze pro potřeby hrubšího rozčlenění IZ do tematických skup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Co je Konspek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Jde o mezinárodně respektovanou metodu pro mezinárodně srozumitelný popis, hodnocení a porovnávání knihovních fondů a nástroj jejich systematické správ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Specifičnost Konspektu – numerické vyjádření hodnocených aspektů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ndikátory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), prostředky pro popis a hodnocení fondu (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konspektové schéma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</a:rPr>
              <a:t>,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konspektový software, tabulky), způsoby prezentování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Prezentace zhodnocených fondů NK Č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Základní informace o metodě Konspektu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z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 rozčlenění knihovního fondu do tematických skupin pro potřeby jeho hodnocení metodou Konspekt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j. 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konspektové schéma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 či schéma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 založeno na hierarchickém principu a kombinaci předmětového a klasifikačního přístupu (předmětového a systematického pořádání informac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tegorizace zdrojů pomocí schématu vychází z klasické metody věcné kategorizace shora dolů – hlavní kategorie se hierarchicky rozdělují do konkrétnějších úrovní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aká složka Konspektu nás zajímá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43112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699"/>
                </a:solidFill>
                <a:latin typeface="Verdana"/>
              </a:rPr>
              <a:t>KONSPEKTOVÉ SCHÉ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99"/>
                </a:solidFill>
                <a:latin typeface="Verdana"/>
              </a:rPr>
              <a:t>(originální verze, tj. před jeho úpravou pro využití v českých knihovnác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880000" cy="2305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27640" y="458136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4221000"/>
            <a:ext cx="3671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nezávislá na tradičních S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vycházející z DD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DDC, LCC, 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P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443700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4941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386064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716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univerzální sché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07664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vyš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581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ruhá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5300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jnižší úrove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a3b2c1"/>
                </a:solidFill>
                <a:latin typeface="Verdana"/>
              </a:rPr>
              <a:t>Proč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eská repub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nástroj minimální úrovně věcné katalogizace (prvky druhé úrovně - skupiny Konspektu - jako selekční údaj v bib záznamec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konspektové schéma jako tematický rozcestník (kategorizace zdrojů v JIB, </a:t>
            </a:r>
            <a:r>
              <a:rPr b="0" lang="cs-CZ" sz="21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OIB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ozšíření původního využití konspektového schémat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věcné zpřístupnění heterogenních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informačních zdroj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5086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Kde k tomu najít ví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Předmětová kategorizace informačních zdrojů pro potřeby Konspektu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árodní knihov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2003, roč. 14, č. 1, s. 42-54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též z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full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nkp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cz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/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nkkr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/NKKR0301/0301042.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m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ALÍKOVÁ, M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cné zpracování. Věcné autority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[online]. 16. 08. 2004 [cit. 2005-01-31]. Dostupné z http://www.nkp.cz/pages/page.php3?page=fond_veczprac1.ht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Konspektové schéma jako selekční  jazy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6699"/>
                </a:solidFill>
                <a:latin typeface="Verdana"/>
              </a:rPr>
              <a:t>konfrontace s obecnými vlastnostmi SJ, zejména MDT a DD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k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kální jednot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vní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a3b2c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lastnosti skupin Konspektu z hlediska schopností vyjádření témat informačních zd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7:43:35Z</dcterms:created>
  <dc:creator>SilvieP.</dc:creator>
  <dc:description/>
  <dc:language>en-US</dc:language>
  <cp:lastModifiedBy>Presová</cp:lastModifiedBy>
  <dcterms:modified xsi:type="dcterms:W3CDTF">2005-03-15T06:34:50Z</dcterms:modified>
  <cp:revision>37</cp:revision>
  <dc:subject/>
  <dc:title>Snímek 1</dc:title>
</cp:coreProperties>
</file>