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9EA-5B38-46DC-9F18-9A2B57C8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A00-E8B9-4163-80C9-FE80D263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99A1-0DD1-499C-B3C2-1F55067D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F5D-386B-4E73-BF23-6686F2B0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3BE6-E46A-434A-A070-5F82BAEB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FC95-57D0-4EC4-9BF6-930C9C10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5071-5B86-44D0-A47E-2B6E8C5E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CE5C-AA32-449E-9D87-F0DF10B4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A78E-5E19-4011-A043-3788366A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FC00-6046-4C94-8454-9EA9FE2F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F6DB-645C-4B22-8D7A-6870247F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43D3-CFF5-481A-9A32-0268DBD1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63CC-872D-42ED-B8CF-F70ED0D2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2427-042D-4F83-A8D1-1A7570FF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33DB-CF9F-40BA-AB9B-5266096B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514E-28C2-4AEA-8B93-70A161AF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424E-7EFE-4161-91ED-84833881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434E-B72D-4D89-A9B8-7ADE4A94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D811-A5C4-45D0-8BE6-473C016B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0D8-0062-4431-BA5C-59872AD2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F1C-3C7B-4503-98E2-8E682F6E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55D-A9FD-467C-B11D-DC478C2C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0E3E-7CE5-462B-888E-7E042E8C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B50-A2B9-4997-8E7E-119B2F93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D66B-C351-4355-BA5A-843AB0CEF0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1618-B3DC-4D51-BE75-E13FD380D1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igma.nkp.cz/F/GJ7R6DSBDI36I2P7QJTE9N5GP21EI7H74GPMLSJ64C1S6NR3ET-04847?func=file&amp;file_name=find-a&amp;local_base=ktd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kp.cz/pages/sluz_res.htm" TargetMode="External"/><Relationship Id="rId3" Type="http://schemas.openxmlformats.org/officeDocument/2006/relationships/hyperlink" Target="http://www.stk.cz/formular_reserse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Tvorba rešerší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Rešeršní a studijně rozborová činnost – „cvičení“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18. 3.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00640"/>
            <a:ext cx="338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REŠERŠNÍ SLUŽBY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dstavbové služb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stavování a zpřístupňování výstupů rešeršní činnosti (rešerší různých druhů) knihovnami a informačními instituce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dnotlivé instituce poskytují svým uživatelům různé druhy rešerší – z vlastních fondů, prostřednictvím externích informačních zdrojů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de o placené služby - ceník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RUHY REŠERŠ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ákladní druhy rešerší (časové hledisk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jednorázová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/retrospektivní/ r. - shrnuje materiál k danému tématu za stanovené období k určitému dat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výchozí datum – v závislosti na tématu rešerše, limitující faktor – retrospektiva dostupných sekundárních IZ, přihlédnutí k životnosti informací v jednotlivých oborech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onečné datum většinou současnost – snaha o podchycení nejnovější literatur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Časové hledisko – pokr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průběžná rešerš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zjišťuje literaturu k danému tématu od data zadání směrem do budouc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ětšinou se zpracovávají na základě sledování přírůstku jednoho sekundárního IZ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dnotlivé části rešerše mají předem dohodnutou periodicitu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lužby poskytující tuto rešerši – ARI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dresní rozšiřování informací (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SDI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 Selective Dissemination of Information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Klasické dělení podle úplnosti zahrnutého materiálu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úplná r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zahrnuje všechny zjistitelné informace nebo záznamy dokumentů (druhově komplexní, zachycení všech možných území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výběrová r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obsahuje výběr materiálů zjištěných podle stanovených  věcných a formálních hledise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orientační r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– poskytuje informace, které mají dát představu o předem málo známé problemat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toušová (1988) používá termín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standardní orientační rešerš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jejímž cílem je poskytnout záznamy nebo informace v takovém výběru, aby – při vyloučení nadměrné redundance – zprostředkovaly obraz o úrovni rešení nebo rozpracování daného problém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ativní úplnost – je jí míněna věcná správnost onoho obrazu dané problematiky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3924360" y="5661000"/>
            <a:ext cx="4249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užijeme pro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výběrovou 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558972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ledisko použitých pramen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dokumentrograf./bibliograf. r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zahrnuje dokumentografické (bibliografické) záznamy dokumentů</a:t>
            </a:r>
            <a:br>
              <a:rPr sz="2600"/>
            </a:b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faktografická r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– zahrnuje faktografické informace, tj. konkrétní fakta, data, parametry a další informace o věcech, jevech i osobác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istická data, tabulky (chemické, fyzikální, technické), seznamy firem, výrobc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znam zdrojů faktograf. informací např. z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dle druhu dokument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druhově komplexní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r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zahrnuje záznamy všech druhů dokumentů, od nichž byly relevantní dokumenty zjištěn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jednodruhová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r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záznamy dokumentů pouze jediného druhu dokumentů, např. patentová rešerše, normalizační rešerš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vícedruhová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r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záznamy dokumentů dvou nebo více druhů dokument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ledisko technologie zpraco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klasická/intelektuální r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použití tiskových a lístkových sekundárních, terciárních I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strojová r.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– uplatnění počítačů a jiných technických prostředků při vyhledávání informac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FORMÁLNÍ ÚPRAV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říve norma ČSN 010198 Formální úprava rešerší – neplatná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ituce dle svých potřeb – s ohledem na evidenci rešerší a rešeršní požadavek, vybrány ty položky, které jsou nezbytné z hlediska zpracování a dalšího použit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K Č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tulní list - název rešerše, příp. klíčová slova, evidenční číslo, typ rešerše, časové období, druhy dokumentů, jazyky, počet záznamů, datum zpracování, zpracovatel, přehled použitých zdrojů -pro případné další využit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B RES - Rešerše zpracované v NK ČR - klasické rešerše (zpracované z tištěných pramenů, klasických lístkových katalogů a kartoté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přesněné požadavky na formální úpravu rešerše - zápočtový úko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íce viz úvodní hodina - prezentace z 25. 2. 200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ální úprava rešerše z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REŠERŠ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vojí význam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roces vyhledávání informací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 určité problematice na základě zadaného rešeršního dotazu (získávání odborných informací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ýsledek tohoto vyhledávání informací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roduk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– množina informací odpovídající rešeršnímu dotazu, rešerše fixovaná na nosič se považuje za sekundární dokument - soupis záznamů dokumentů, popř. soupis jejich částí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RÁCE NA REŠERŠ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diční členění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klasické rešerš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apa příprav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apa vyhledá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apa zpraco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ojové zpracování rešerš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voří se spíše o jednotlivých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krocích,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v nichž se při rešerši postupu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značení pro postupy, které mají přímý vztah k obsahovým hlediskům, daným rešeršním požadavk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Vše začíná rešeršním požadavk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dnávka osobně X nepřímý kontakt (online formulář, poštou, faxem, emai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ymezení tématu rešerše – objednávkový formulář – ne pouze stručný název, vymezení aspektů tématu, účelu rešerš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úplný požadavek - nepřesně, nesrozumitelně formulovaný požadavek (zkratky, nevyjádření hlediska zájmu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dstranění v dialogu s uživatel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Verdana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pracovává naše instituce rešerše z dané problemati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kud ne - reference na jinou instituc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Příliš široce formulované téma rešerš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dpověď systému na dotaz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110000"/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dměrný počet hitů (tisíc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vé vymezení tématu konzultací se zadavatelem rešerš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úprav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ternativní užší tém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ymezení aspektů, z nichž je tématika sledován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ecifikovat téma – rozdělit na úžeji vymezené předmět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časové vymezení – co nekratš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Příliš úzce formulované téma rešerš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adox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ce snaha formulovat předmět rešerše co nejúžeji (s cílem vyhledání co nejpřesnějších informací), ne vždy se dosáhne žádoucích výsledk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vá formulace požadav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ěcné rozšíře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ypuštění některých formálních kritéri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řehodnocení aspektů – hledisek zúže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ientace na dokumentografické informace (dokumenty, autoři zabývající se obdobným předmětem, relativně odpovídající požadavku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FÁZE PŘÍPRAVY NA VYHLEDÁVÁNÍ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říprava a formulace dotaz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lba rešeršní strateg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1. krok – identifikace klíčových pojmů rešeršního požadavk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ředpokladem j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pochopení předmětu rešerše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 vlastně budeme hledat, porozumě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ientace v tématu – monografie, slovníky, encyklopedie aj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dborná terminologie (ověření formulace požadavku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olupráce se zadavatel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zložení tématu na jednotlivé pojm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2. krok – stanovení vztah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šeršér uvádí do vztahů jednotlivé izolované klíčové pojm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 této fázi se jedná o stanovení syntaxe bez ohledu na použitém vyhledávacím/rešeršním systém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3. krok – volba informačního zdroje/ů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den zdroj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rčí sám zadavat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ituce má přístup ke jedinému zdroji, který odpovídá požadavk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 zvážení tématiky a rešeršních hledis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ýběr z více zdroj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levantní k tématu/problematice rešerš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nalost druhů IZ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ba informačního zdroje je úzce spojena s volbou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ešeršní strategi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PŘÍŠTĚ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Verdana"/>
              </a:rPr>
              <a:t>*</a:t>
            </a:r>
            <a:r>
              <a:rPr b="0" lang="cs-CZ" sz="30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9900"/>
                </a:solidFill>
                <a:latin typeface="Verdana"/>
              </a:rPr>
              <a:t>INFORMAČNÍ ZDROJE A REŠERŠNÍ STRATEGIE</a:t>
            </a:r>
            <a:r>
              <a:rPr b="0" lang="cs-CZ" sz="3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áznamy nebo jejich části musí být vybrány podl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věcných a formálních hledisek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dpovídajících rešeršnímu požadavku uživatele, např. tematika, časové vymezení, jazyk, druh dokumentů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Rešerše - def. </a:t>
            </a: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TDKIV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Výsledek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 (popř.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proces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) vyhledávání informací ve formě dokumentogra-fických (bibliografických) nebo faktografických záznamů, popř. plných textů dokumentů. Rešerše se zpracovává na základě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rešeršního požadavku uživatele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, který je zformulován pomocí dotazovacího jazyka do rešeršního dotazu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Důležitý znak rešerše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78832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yhotovuje se na základě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rešeršního požadavku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zpracovává se jako odpověď na požadavek uživatele) – adresný charakter (uživatelská orienta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Rešeršní požadavek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120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konkrétně formulovaná žádost uživatele o zpracování rešerš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objednávka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požadavkový list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11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éma, časové vymezení, jazyk, geografické omezení, druh dokument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Rešeršní dotaz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yjádření rešeršního požadavku uživatele v příslušném dotazovacím jazyce. Může jej formulovat informační pracovník nebo uživate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1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ulace rešeršního dotazu musí být v souladu s dotazovacím jazykem, který systém využívá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Dotazovací jazy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azyk určený ke komunikaci uživatele s vyhledávacím programem, umožňující vyhledávání a případnou úpravu požadovaných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ISA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: 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příklad formulace 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rešeršního dotaz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y and Information Science Abstra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požadav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uplatnění MDT v univerzitních knihovná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reš. dotaz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de=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UDC)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de=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university librar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požadav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problematika retrospektivních katalogů v Němec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reš. dotaz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de=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trospective conversion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de=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atalog* AND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de=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rman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SA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rešeršní systém ID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ulace rešeršních dotazů – dodržení principů dotazovacího jazyka systému I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žívání operátorů dotazovacího jazyk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lekční po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de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UDC)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de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university librar*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rešeršní systém WilsonWeb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který používá db Library Literature &amp; Information Science Fulltex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1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šeršní dotaz v LLIS se liší od dotazu v LIS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lassification/Systems/Universal decimal)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n SU AN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College and university libraries)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n S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58:22Z</dcterms:created>
  <dc:creator>SilvieP.</dc:creator>
  <dc:description/>
  <dc:language>en-US</dc:language>
  <cp:lastModifiedBy>SilvieP.</cp:lastModifiedBy>
  <dcterms:modified xsi:type="dcterms:W3CDTF">2005-03-21T20:27:11Z</dcterms:modified>
  <cp:revision>14</cp:revision>
  <dc:subject/>
  <dc:title>Tvorba rešerší </dc:title>
</cp:coreProperties>
</file>