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2DC-4A8F-4954-BB8A-D7C4EBE5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D3A-9F97-45FF-B5F7-EF85A5E2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FBB-A1C9-4740-AD24-6D451822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C5B-BAEB-4416-8D8C-633725BE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E027-799F-4BEB-8C60-485D6C32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03B-FCCD-427F-BC09-DA23BC7C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BA1B-5B06-4A21-A794-06964E1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6713-90F1-4475-A6F3-3B432CD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9128-3C49-4741-B28B-FE756C97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270D-8DF0-4B3C-92F1-5893A659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38C-0C7B-40C6-BCD4-F5BAE889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927-AAEB-4C67-BFA4-EBFDDFC4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4680-30F2-467C-8DBD-CBB77F9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3A65-E29B-49E5-AA87-D4AA33CE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7C85-73C4-4FE0-AC8F-787E8A08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B76E-9516-4805-8146-DB6CE223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986C-A236-4DA1-A607-DFDF6235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681-8609-41D7-B4FE-B7B48CD4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759-4E03-450B-9DCC-0C0BF9E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AB0-6D4D-49E7-B9F0-AC69ACD8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E74-6D5E-42F7-81CC-8146212D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F16-45A3-4307-81EC-4820BBE0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A30-E1A4-42BD-A6D6-326E40C3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BA9-5FD1-49C8-8E0D-34176E37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7A24-0D3C-4AAB-9517-5BB1A04B4B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A907-151D-4C38-BC17-DFE68BED85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GJ7R6DSBDI36I2P7QJTE9N5GP21EI7H74GPMLSJ64C1S6NR3ET-04847?func=file&amp;file_name=find-a&amp;local_base=ktd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sluz_res.htm" TargetMode="External"/><Relationship Id="rId3" Type="http://schemas.openxmlformats.org/officeDocument/2006/relationships/hyperlink" Target="http://www.stk.cz/formular_reserse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Tvorba rešerší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– „cvičení“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8. 3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REŠERŠNÍ SLUŽB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dstavbové služ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stavování a zpřístupňování výstupů rešeršní činnosti (rešerší různých druhů) knihovnami a informačními instituc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dnotlivé instituce poskytují svým uživatelům různé druhy rešerší – z vlastních fondů, prostřednictvím externích informačních zdroj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de o placené služby - ceník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Y REŠERŠ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kladní druhy rešerší (časové hledisk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jednorázov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/retrospektivní/ r. - shrnuje materiál k danému tématu za stanovené období k určitému da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ýchozí datum – v závislosti na tématu rešerše, limitující faktor – retrospektiva dostupných sekundárních IZ, přihlédnutí k životnosti informací v jednotlivých oborech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onečné datum většinou současnost – snaha o podchycení nejnovější literatur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Časové hledisko – pokr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růběžná rešerš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jišťuje literaturu k danému tématu od data zadání směrem do budouc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ětšinou se zpracovávají na základě sledování přírůstku jednoho sekundárního I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dnotlivé části rešerše mají předem dohodnutou periodicit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lužby poskytující tuto rešerši – ARI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dresní rozšiřování informací 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DI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 Selective Dissemination of Information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lasické dělení podle úplnosti zahrnutého materiálu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úplná 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ahrnuje všechny zjistitelné informace nebo záznamy dokumentů (druhově komplexní, zachycení všech možných územ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výběrová 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obsahuje výběr materiálů zjištěných podle stanovených  věcných a formálních hledis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orientační r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poskytuje informace, které mají dát představu o předem málo známé problemat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oušová (1988) používá termín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tandardní orientační rešerš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jejímž cílem je poskytnout záznamy nebo informace v takovém výběru, aby – při vyloučení nadměrné redundance – zprostředkovaly obraz o úrovni rešení nebo rozpracování daného problém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tivní úplnost – je jí míněna věcná správnost onoho obrazu dané problematiky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5661000"/>
            <a:ext cx="424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užijeme pro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výběrovou 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5589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ledisko použitých pramen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okumentrograf./bibliograf. r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zahrnuje dokumentografické (bibliografické) záznamy dokumentů</a:t>
            </a:r>
            <a:br>
              <a:rPr sz="2600"/>
            </a:b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faktografická r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zahrnuje faktografické informace, tj. konkrétní fakta, data, parametry a další informace o věcech, jevech i osobá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ká data, tabulky (chemické, fyzikální, technické), seznamy firem, výrobc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znam zdrojů faktograf. informací např. z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dle druhu dokument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ruhově komplexn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ahrnuje záznamy všech druhů dokumentů, od nichž byly relevantní dokumenty zjiště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jednodruhov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záznamy dokumentů pouze jediného druhu dokumentů, např. patentová rešerše, normalizační rešerš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vícedruhov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záznamy dokumentů dvou nebo více druhů dokument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ledisko technologie zpraco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klasická/intelektuální r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použití tiskových a lístkových sekundárních, terciárních I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trojová r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– uplatnění počítačů a jiných technických prostředků při vyhledávání informac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FORMÁLNÍ ÚPRAV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říve norma ČSN 010198 Formální úprava rešerší – neplatn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ituce dle svých potřeb – s ohledem na evidenci rešerší a rešeršní požadavek, vybrány ty položky, které jsou nezbytné z hlediska zpracování a dalšího použit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K Č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tulní list - název rešerše, příp. klíčová slova, evidenční číslo, typ rešerše, časové období, druhy dokumentů, jazyky, počet záznamů, datum zpracování, zpracovatel, přehled použitých zdrojů -pro případné další využit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B RES - Rešerše zpracované v NK ČR - klasické rešerše (zpracované z tištěných pramenů, klasických lístkových katalogů a kartoté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přesněné požadavky na formální úpravu rešerše - zápočtový úko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íce viz úvodní hodina - prezentace z 25. 2. 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ální úprava rešerše z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REŠERŠ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vojí význa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ces vyhledávání informac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 určité problematice na základě zadaného rešeršního dotazu (získávání odborných informac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sledek tohoto vyhledávání informací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duk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– množina informací odpovídající rešeršnímu dotazu, rešerše fixovaná na nosič se považuje za sekundární dokument - soupis záznamů dokumentů, popř. soupis jejich část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RÁCE NA REŠERŠ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ční členění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klasické rešerš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apa přípr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apa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apa zprac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ojové zpracování rešerš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voří se spíše o jednotlivýc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rocích,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v nichž se při rešerši postupu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značení pro postupy, které mají přímý vztah k obsahovým hlediskům, daným rešeršním požadavk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še začíná rešeršním požadavk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dnávka osobně X nepřímý kontakt (online formulář, poštou, faxem, emai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ymezení tématu rešerše – objednávkový formulář – ne pouze stručný název, vymezení aspektů tématu, účelu rešerš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úplný požadavek - nepřesně, nesrozumitelně formulovaný požadavek (zkratky, nevyjádření hlediska zájm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dstranění v dialogu s uživatel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pracovává naše instituce rešerše z dané problemat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kud ne - reference na jinou instituc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Příliš široce formulované téma rešerš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pověď systému na dota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0000"/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dměrný počet hitů (tisíc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vé vymezení tématu konzultací se zadavatelem rešerš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úprav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ternativní užší té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ymezení aspektů, z nichž je tématika sledová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fikovat téma – rozdělit na úžeji vymezené předmě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časové vymezení – co nekratš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Příliš úzce formulované téma rešerš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adox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ce snaha formulovat předmět rešerše co nejúžeji (s cílem vyhledání co nejpřesnějších informací), ne vždy se dosáhne žádoucích výsledk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vá formulace požadav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ěcné rozšíř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ypuštění některých formálních kritéri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řehodnocení aspektů – hledisek zúž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ientace na dokumentografické informace (dokumenty, autoři zabývající se obdobným předmětem, relativně odpovídající požadavku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FÁZE PŘÍPRAVY NA VYHLEDÁVÁNÍ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říprava a formulace dotaz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ba rešeršní strateg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1. krok – identifikace klíčových pojmů rešeršního požadavk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ředpokladem j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pochopení předmětu rešerš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 vlastně budeme hledat, porozumě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ientace v tématu – monografie, slovníky, encyklopedie aj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borná terminologie (ověření formulace požadavk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lupráce se zadavate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zložení tématu na jednotlivé poj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2. krok – stanovení vztah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šeršér uvádí do vztahů jednotlivé izolované klíčové poj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této fázi se jedná o stanovení syntaxe bez ohledu na použitém vyhledávacím/rešeršním systé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3. krok – volba informačního zdroje/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den zdro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čí sám zadavat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ituce má přístup ke jedinému zdroji, který odpovídá požadavk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 zvážení tématiky a rešeršních hledis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běr z více zdroj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evantní k tématu/problematice rešerš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nalost druhů I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ba informačního zdroje je úzce spojena s volbou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ešeršní strateg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PŘÍŠT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*</a:t>
            </a: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INFORMAČNÍ ZDROJE A REŠERŠNÍ STRATEGIE</a:t>
            </a:r>
            <a:r>
              <a:rPr b="0" lang="cs-CZ" sz="3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áznamy nebo jejich části musí být vybrány podl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věcných a formálních hledisek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dpovídajících rešeršnímu požadavku uživatele, např. tematika, časové vymezení, jazyk, druh dokument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Rešerše - def.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DKI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Výsledek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(popř.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proces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) vyhledávání informací ve formě dokumentogra-fických (bibliografických) nebo faktografických záznamů, popř. plných textů dokumentů. Rešerše se zpracovává na základě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rešeršního požadavku uživatele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, který je zformulován pomocí dotazovacího jazyka do rešeršního dotaz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Důležitý znak rešerš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8832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otovuje se na základě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rešeršního požadavk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zpracovává se jako odpověď na požadavek uživatele) – adresný charakter (uživatelská orient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Rešeršní požadavek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konkrétně formulovaná žádost uživatele o zpracování rešerš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bjednávka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ožadavkový list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éma, časové vymezení, jazyk, geografické omezení, druh dokument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Rešeršní dota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jádření rešeršního požadavku uživatele v příslušném dotazovacím jazyce. Může jej formulovat informační pracovník nebo uživat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ulace rešeršního dotazu musí být v souladu s dotazovacím jazykem, který systém využívá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Dotazovací jazy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zyk určený ke komunikaci uživatele s vyhledávacím programem, umožňující vyhledávání a případnou úpravu požadovaných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ISA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: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příklad formulace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rešeršního dotaz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y and Information Science Abs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žadav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uplatnění MDT v univerzitních knihovná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. dota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UDC)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university librar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žadav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roblematika retrospektivních katalogů v Němec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. dota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rospective conversio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atalog* AND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SA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eršní systém I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ce rešeršních dotazů – dodržení principů dotazovacího jazyka systému 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žívání operátorů dotazovacího jazyk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lekční po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DC)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niversity librar*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eršní systém WilsonWe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který používá db Library Literature &amp; Information Science Fulltex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šeršní dotaz v LLIS se liší od dotazu v LI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lassification/Systems/Universal decimal)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n SU 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llege and university libraries)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n S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P.</cp:lastModifiedBy>
  <dcterms:modified xsi:type="dcterms:W3CDTF">2005-03-21T20:27:11Z</dcterms:modified>
  <cp:revision>14</cp:revision>
  <dc:subject/>
  <dc:title>Tvorba rešerší </dc:title>
</cp:coreProperties>
</file>