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3EA-32D4-4EAD-BEBE-4EAD09F3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056-5F10-41AD-A633-FB8CA638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52A-9311-4BBF-A2E1-0F3D9C05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C94-A088-4D32-8D02-00744306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9AB4-DEF0-4FBB-916F-EDC22B0F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CD25-4A3D-4175-BBCE-000F6C66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D633-7073-437D-818D-9BE2CEA7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EFD7-2CD4-44DC-B09B-7044C228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C049-50CC-4555-8D19-EE1A0275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4069-0759-451C-AC69-CA77B4F7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902C-F239-4870-ADB5-7CD67812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903-E270-4AF8-8E9C-1E600BD0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87FD-AA94-4C78-A629-AD1F6007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5CB1-5F7A-4FB4-98A3-C4D3DBA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CCF3-A940-4793-9AF6-75F1335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541F-0451-4866-B55B-361BA4BF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D409-E73B-4187-A96D-7FDEB2A3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9950-B98E-4327-A58B-774B2A1E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092B-72D6-46B1-934F-0A29FCF0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CDE-4806-4C89-973F-01384657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4E1-3609-4FDA-AD04-46C0DF94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0B7-B522-45C6-9124-9E4D5AFF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DDE-0C59-49F7-93E1-780A70C5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4F9-0A30-4D70-B910-379120BF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98B5-5C05-4E06-A6D0-2E03B10379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C10-CA68-490F-BED5-842283B297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.yahoo.com/" TargetMode="External"/><Relationship Id="rId3" Type="http://schemas.openxmlformats.org/officeDocument/2006/relationships/hyperlink" Target="http://searchenginewatch.com/blog/article.php/3494201" TargetMode="External"/><Relationship Id="rId4" Type="http://schemas.openxmlformats.org/officeDocument/2006/relationships/hyperlink" Target="http://searchenginewatch.com/blog/article.php/3494201" TargetMode="External"/><Relationship Id="rId5" Type="http://schemas.openxmlformats.org/officeDocument/2006/relationships/hyperlink" Target="http://searchenginewatch.com/blog/article.php/3494201" TargetMode="External"/><Relationship Id="rId6" Type="http://schemas.openxmlformats.org/officeDocument/2006/relationships/hyperlink" Target="http://searchenginewatch.com/blog/article.php/3494201" TargetMode="External"/><Relationship Id="rId7" Type="http://schemas.openxmlformats.org/officeDocument/2006/relationships/hyperlink" Target="http://searchenginewatch.com/blog/article.php/3494201" TargetMode="External"/><Relationship Id="rId8" Type="http://schemas.openxmlformats.org/officeDocument/2006/relationships/hyperlink" Target="http://searchenginewatch.com/blog/article.php/3494201" TargetMode="External"/><Relationship Id="rId9" Type="http://schemas.openxmlformats.org/officeDocument/2006/relationships/hyperlink" Target="http://searchenginewatch.com/blog/article.php/3494201" TargetMode="External"/><Relationship Id="rId10" Type="http://schemas.openxmlformats.org/officeDocument/2006/relationships/hyperlink" Target="http://searchenginewatch.com/blog/article.php/3494201" TargetMode="External"/><Relationship Id="rId11" Type="http://schemas.openxmlformats.org/officeDocument/2006/relationships/hyperlink" Target="http://searchenginewatch.com/blog/article.php/3494201" TargetMode="External"/><Relationship Id="rId12" Type="http://schemas.openxmlformats.org/officeDocument/2006/relationships/hyperlink" Target="http://searchenginewatch.com/blog/article.php/3494201" TargetMode="External"/><Relationship Id="rId13" Type="http://schemas.openxmlformats.org/officeDocument/2006/relationships/hyperlink" Target="http://searchenginewatch.com/blog/article.php/3494201" TargetMode="External"/><Relationship Id="rId14" Type="http://schemas.openxmlformats.org/officeDocument/2006/relationships/hyperlink" Target="http://www.google.com/webhp?hl=en" TargetMode="External"/><Relationship Id="rId15" Type="http://schemas.openxmlformats.org/officeDocument/2006/relationships/hyperlink" Target="http://searchenginewatch.com/blog/article.php/3494201" TargetMode="External"/><Relationship Id="rId16" Type="http://schemas.openxmlformats.org/officeDocument/2006/relationships/hyperlink" Target="http://searchenginewatch.com/blog/article.php/3494201" TargetMode="External"/><Relationship Id="rId17" Type="http://schemas.openxmlformats.org/officeDocument/2006/relationships/hyperlink" Target="http://searchenginewatch.com/blog/article.php/3494201" TargetMode="External"/><Relationship Id="rId18" Type="http://schemas.openxmlformats.org/officeDocument/2006/relationships/hyperlink" Target="http://searchenginewatch.com/blog/article.php/3494201" TargetMode="External"/><Relationship Id="rId19" Type="http://schemas.openxmlformats.org/officeDocument/2006/relationships/hyperlink" Target="http://searchenginewatch.com/blog/article.php/3494201" TargetMode="External"/><Relationship Id="rId20" Type="http://schemas.openxmlformats.org/officeDocument/2006/relationships/hyperlink" Target="http://searchenginewatch.com/blog/article.php/3494201" TargetMode="External"/><Relationship Id="rId21" Type="http://schemas.openxmlformats.org/officeDocument/2006/relationships/hyperlink" Target="http://searchenginewatch.com/blog/article.php/3494201" TargetMode="External"/><Relationship Id="rId22" Type="http://schemas.openxmlformats.org/officeDocument/2006/relationships/hyperlink" Target="http://searchenginewatch.com/blog/article.php/3494201" TargetMode="External"/><Relationship Id="rId23" Type="http://schemas.openxmlformats.org/officeDocument/2006/relationships/hyperlink" Target="http://searchenginewatch.com/blog/article.php/3494201" TargetMode="External"/><Relationship Id="rId24" Type="http://schemas.openxmlformats.org/officeDocument/2006/relationships/hyperlink" Target="http://searchenginewatch.com/blog/article.php/3494201" TargetMode="External"/><Relationship Id="rId25" Type="http://schemas.openxmlformats.org/officeDocument/2006/relationships/hyperlink" Target="http://searchenginewatch.com/blog/article.php/3494201" TargetMode="External"/><Relationship Id="rId26" Type="http://schemas.openxmlformats.org/officeDocument/2006/relationships/hyperlink" Target="http://scholar.google.com/" TargetMode="External"/><Relationship Id="rId27" Type="http://schemas.openxmlformats.org/officeDocument/2006/relationships/hyperlink" Target="http://www.msn.com/" TargetMode="External"/><Relationship Id="rId28" Type="http://schemas.openxmlformats.org/officeDocument/2006/relationships/hyperlink" Target="http://www.msn.com/" TargetMode="External"/><Relationship Id="rId29" Type="http://schemas.openxmlformats.org/officeDocument/2006/relationships/hyperlink" Target="http://www.teoma.com/" TargetMode="External"/><Relationship Id="rId30" Type="http://schemas.openxmlformats.org/officeDocument/2006/relationships/hyperlink" Target="http://www.teoma.com/" TargetMode="External"/><Relationship Id="rId31" Type="http://schemas.openxmlformats.org/officeDocument/2006/relationships/hyperlink" Target="http://www.lub.lu.se/netlab/documents/nav_menu.html#bysu" TargetMode="External"/><Relationship Id="rId32" Type="http://schemas.openxmlformats.org/officeDocument/2006/relationships/hyperlink" Target="http://www.lub.lu.se/netlab/documents/nav_menu.html#bysu" TargetMode="External"/><Relationship Id="rId33" Type="http://schemas.openxmlformats.org/officeDocument/2006/relationships/hyperlink" Target="http://www.lub.lu.se/netlab/documents/nav_menu.html#bysu" TargetMode="External"/><Relationship Id="rId34" Type="http://schemas.openxmlformats.org/officeDocument/2006/relationships/hyperlink" Target="http://www.lub.lu.se/netlab/documents/nav_menu.html#bysu" TargetMode="External"/><Relationship Id="rId35" Type="http://schemas.openxmlformats.org/officeDocument/2006/relationships/hyperlink" Target="http://www.lub.lu.se/netlab/documents/nav_menu.html#bysu" TargetMode="External"/><Relationship Id="rId36" Type="http://schemas.openxmlformats.org/officeDocument/2006/relationships/hyperlink" Target="http://www.lub.lu.se/netlab/documents/nav_menu.html#bysu" TargetMode="External"/><Relationship Id="rId3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seznam.cz/" TargetMode="External"/><Relationship Id="rId4" Type="http://schemas.openxmlformats.org/officeDocument/2006/relationships/hyperlink" Target="http://www.lupa.cz/clanek.php3?show=4033" TargetMode="External"/><Relationship Id="rId5" Type="http://schemas.openxmlformats.org/officeDocument/2006/relationships/hyperlink" Target="http://www.altavista.com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earchengineshowdown.com/" TargetMode="External"/><Relationship Id="rId3" Type="http://schemas.openxmlformats.org/officeDocument/2006/relationships/hyperlink" Target="http://searchengineshowdown.com/" TargetMode="External"/><Relationship Id="rId4" Type="http://schemas.openxmlformats.org/officeDocument/2006/relationships/hyperlink" Target="http://searchengineshowdown.com/" TargetMode="External"/><Relationship Id="rId5" Type="http://schemas.openxmlformats.org/officeDocument/2006/relationships/hyperlink" Target="http://searchengineshowdown.com/" TargetMode="External"/><Relationship Id="rId6" Type="http://schemas.openxmlformats.org/officeDocument/2006/relationships/hyperlink" Target="http://searchengineshowdown.com/" TargetMode="External"/><Relationship Id="rId7" Type="http://schemas.openxmlformats.org/officeDocument/2006/relationships/hyperlink" Target="http://searchenginewatch.com/" TargetMode="External"/><Relationship Id="rId8" Type="http://schemas.openxmlformats.org/officeDocument/2006/relationships/hyperlink" Target="http://searchenginewatch.com/" TargetMode="External"/><Relationship Id="rId9" Type="http://schemas.openxmlformats.org/officeDocument/2006/relationships/hyperlink" Target="http://searchenginewatch.com/" TargetMode="External"/><Relationship Id="rId10" Type="http://schemas.openxmlformats.org/officeDocument/2006/relationships/hyperlink" Target="http://searchenginewatch.com/" TargetMode="External"/><Relationship Id="rId11" Type="http://schemas.openxmlformats.org/officeDocument/2006/relationships/hyperlink" Target="http://searchenginewatch.com/" TargetMode="External"/><Relationship Id="rId12" Type="http://schemas.openxmlformats.org/officeDocument/2006/relationships/hyperlink" Target="http://searchenginewatch.com/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moz.org/" TargetMode="External"/><Relationship Id="rId3" Type="http://schemas.openxmlformats.org/officeDocument/2006/relationships/hyperlink" Target="http://www.dmoz.org/" TargetMode="External"/><Relationship Id="rId4" Type="http://schemas.openxmlformats.org/officeDocument/2006/relationships/hyperlink" Target="http://www.dmoz.org/" TargetMode="External"/><Relationship Id="rId5" Type="http://schemas.openxmlformats.org/officeDocument/2006/relationships/hyperlink" Target="http://www.dmoz.org/" TargetMode="External"/><Relationship Id="rId6" Type="http://schemas.openxmlformats.org/officeDocument/2006/relationships/hyperlink" Target="http://www.yahoo.com/" TargetMode="External"/><Relationship Id="rId7" Type="http://schemas.openxmlformats.org/officeDocument/2006/relationships/hyperlink" Target="http://jib-info.cuni.cz/tematbrany/studie_html/" TargetMode="External"/><Relationship Id="rId8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ub.lu.se/tk/SBIGs.html" TargetMode="External"/><Relationship Id="rId3" Type="http://schemas.openxmlformats.org/officeDocument/2006/relationships/hyperlink" Target="http://www.lii.org/" TargetMode="External"/><Relationship Id="rId4" Type="http://schemas.openxmlformats.org/officeDocument/2006/relationships/hyperlink" Target="http://infomine.ucr.edu/" TargetMode="External"/><Relationship Id="rId5" Type="http://schemas.openxmlformats.org/officeDocument/2006/relationships/hyperlink" Target="http://www.academicinfo.net/" TargetMode="External"/><Relationship Id="rId6" Type="http://schemas.openxmlformats.org/officeDocument/2006/relationships/hyperlink" Target="http://www.academicinfo.net/" TargetMode="External"/><Relationship Id="rId7" Type="http://schemas.openxmlformats.org/officeDocument/2006/relationships/hyperlink" Target="http://www.britannica.com/" TargetMode="External"/><Relationship Id="rId8" Type="http://schemas.openxmlformats.org/officeDocument/2006/relationships/hyperlink" Target="http://www.renardus.org/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Vyhledávací stroje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a předmětové katalog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Co vědě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 hledáme na internetu, musíme znát předmět, o který se zajímá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které předmětové kategorie patří hledaná inform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íme být ochotni věnovat čas navigování hierarchickou strukturo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vyžadujeme mnoho na výstup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erarchické struktury sché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kace tématu, o němž máme obecné povědom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vigace k asociovaným předmětů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hodný startovací bod pro další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určité míry záruka kv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EVÝH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zsah katalog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ůzná kategorizační schém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ěkdy zdlouhavá navigac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atnost odkaz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Yahoo!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h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5th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nnua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ar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Engin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Wat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Award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1. místo v kategorii Outstanding Search Service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Googl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Th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 5th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Annual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Sear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Engine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Watch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Award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2. místo v kategorii Outstanding Search Service, bodoval napříč kategoriemi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Google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Scholar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MSN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Search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Teoma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znamy: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Browsing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and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searching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 Internet </a:t>
            </a:r>
            <a:r>
              <a:rPr b="0" lang="cs-CZ" sz="28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resources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, Vyhledavace.wz.c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o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vojí typ rozhraní pro vyhledáván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dnoduché rozhra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zadávaní jednoduchých dotazů, pokročilé dotazy – nutné znát dotazovací jazy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rozhraní pro pokročilé v. – návodné men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Nástroje pro vyhledávání – formulace dotaz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+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, OR, NO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ND NOT, -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(bool. operátor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ND – současný výskyt obou vyhledávacích termínů, zužuje dot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R – alespoň jeden z vyhledávacích termínů, rozšiřuje dotaz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OT – operátor vyloučení dokumentů obsahující zadaný termí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ximitní operátory: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NEAR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většinou 10 slov)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ADJ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adjacent),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fráze 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“ ”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tězec slov, které se v textu dokumentu musí vyskytovat v přesně stanoveném pořadí vedle se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runcation – krácení podle slovních kořenů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temming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vyzkoušejte stemming v pokročilém vyhledává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wild cards – zástupné znaky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? 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í kulatých závore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změna pořadí pro vyhodnoco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incip „zevnitř-ven“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raz v závorce – bool. výra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jmy, které mají být vyhodnoceny jako první, musí být na nejnižší úrovni vnoře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99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9900"/>
                </a:solidFill>
                <a:latin typeface="Verdana"/>
              </a:rPr>
              <a:t>Třetí výra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(druhý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výraz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cc0000"/>
                </a:solidFill>
                <a:latin typeface="Verdana"/>
              </a:rPr>
              <a:t>(první výraz k vyhodnocení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336699"/>
                </a:solidFill>
                <a:latin typeface="Verdana"/>
              </a:rPr>
              <a:t>k vyhodnocení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ýrazy na stejné úrovni – vyhodnocovány zleva dopra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 AND (y OR z) AND 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 y OR z q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340000" y="1413000"/>
            <a:ext cx="4005360" cy="4824360"/>
            <a:chOff x="2340000" y="1413000"/>
            <a:chExt cx="4005360" cy="48243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2340000" y="1413000"/>
              <a:ext cx="4005360" cy="48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2340000" y="1413000"/>
              <a:ext cx="4005360" cy="482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užití filtr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ledávání podle p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mální hlediska pro zpřesnění dotaz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mezení prostoru dokumentů, v němž je dotaz vyhodnocová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zadání do formulář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enu v pokročilém rozhraní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e základního rozhraní pomocí definovaných příkaz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O co nám půjd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341000"/>
            <a:ext cx="8001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edávací nástroje/služby, které slouží k vyhledávání informačních zdrojů dostupných volně/veřejně v prostoru ww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hledávání tzv. povrchového web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ožné odkazy na placené zdroje, ne plný tex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iditelný web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invisible web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informace „ukryté“ v databází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kazy 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ahoo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ÁKLADNÍ TYP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vyhledávací stroj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earch engin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atabáze vyhledávacího stroje je budována na základě automatizovaného sběru dat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(robot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worm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erv,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pide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pavou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yhledávání na základě klíčových slo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předmětové katalogy/adresář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ubject directories, subject services, portals ...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běr informačních zdrojů ručně, jejich kategorizace – (spolu)pracovníci služby, inf. profesionálové a odborníci z oboru, tvůrci stráne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přístupňování IZ prostřednictvím schémat předmětové kategorizace – prohlížení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brows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rowsing and searching Internet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ALE POZ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línání jednotlivých typů, stírání rozdíl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ustálé změ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Yahoo!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původně předmětový katalog, dnes fulltextové vyhledávání, portá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Sezna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fulltextové vyhledávání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více viz </a:t>
            </a:r>
            <a:r>
              <a:rPr b="0" lang="cs-CZ" sz="2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Seznam vykročil k dospělosti</a:t>
            </a: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ltaVist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připojen k databázi Yahoo!, neplatí mnoho původních pokročilých způsobů pro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de změny sledov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př.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ear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Engine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Showdown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novinky, recenze, charakteristika jednotlivých služe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ear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Engine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Watch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– soustavně monitoruje vše, co se děje kolem vyhl. strojů a předmětových adresář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růběžné rešerše v oborových db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služby ALER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edmětov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ganizovaný a strukturovaný přístup k informačním zdrojům na Internet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různá schémata předmětové kategoriza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erarchický princip, podřazení specifičtějšího tématu obecnému, seskupování příbuzných téma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Verdana"/>
              </a:rPr>
              <a:t>portál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dle vyhledávání informací (katalogového i fulltextového typu) nabízejí zpravodajství, diskusní fóra, online zábavu, bezplatnou elektronickou schránku přes rozhraní webových strán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39243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00"/>
                </a:solidFill>
                <a:latin typeface="Verdana"/>
              </a:rPr>
              <a:t>Komerč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9900"/>
                </a:solidFill>
                <a:latin typeface="Verdana"/>
              </a:rPr>
              <a:t>orientované adresář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slovení co nejširší veřejnos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lasti společenského života – zábava, sport, obchod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mezená anotace, různá kval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Open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Directory</a:t>
            </a: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Projec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590 tis. kategorií, 4 mil. odkazů, 67 576 editor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Yahoo!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– 3 mil. odkazů, tvůrci strá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2920" y="549360"/>
            <a:ext cx="39243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Oborové informačn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brány/předmětové brá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pora rozvoje výzkumu, vědy a vzděláván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aměřeny oborově nebo univerzál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hodnocené I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ýběr na základě kritérií, informační specialisti, odborní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žadavek kvalitního předmětového přístup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íce viz.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Stoklasová,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336699"/>
                </a:solidFill>
                <a:latin typeface="Verdana"/>
              </a:rPr>
              <a:t>OIB - </a:t>
            </a:r>
            <a:r>
              <a:rPr b="0" i="1" lang="cs-CZ" sz="3400" spc="-1" strike="noStrike">
                <a:solidFill>
                  <a:srgbClr val="336699"/>
                </a:solidFill>
                <a:latin typeface="Verdana"/>
              </a:rPr>
              <a:t>quality-controlled subject gateways/subject gateway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eznam OI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alší významné OIB univerzálního charakteru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Librarians' Index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chéma, LC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Infomine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CSH, LC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Academic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Inf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Britannic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ulltex. vyhl. v encyklopedii, služba Web's Best Site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Renardu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vropská polytematická informační brán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DY použijeme OIB?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kruh předmětu je širok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získat odkazy na webové stránky, které doporučují, hodnotí a anotují exper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získat odkazy na webové sídla k danému tématu a ne seznam stránek obsažených v těchto sídle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ceme-li se vyhnout IZ s nízkým obsahem, které vracejí 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 Presová</cp:lastModifiedBy>
  <dcterms:modified xsi:type="dcterms:W3CDTF">2005-04-05T21:11:23Z</dcterms:modified>
  <cp:revision>22</cp:revision>
  <dc:subject/>
  <dc:title>Tvorba rešerší </dc:title>
</cp:coreProperties>
</file>