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5A3-38B3-42BC-9924-4339BDCB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7FA-1704-4BB0-BFBF-F2CFDCA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124-068E-465A-84A6-221CAC16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938-C831-4461-AB14-427D8923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37AC-C6A2-4895-AE09-D3B5BE4B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BFF9-C365-49AE-B162-47EFCFF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F4B4-F93D-4D3B-B0C8-8A4526E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7ED8-578F-4613-9BE9-7EFF314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575-6876-423C-BB37-B83AC89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004F-0C58-48F2-A3A3-E014C192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A2B5-0D12-440A-80EB-F75CD72B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11F-299C-429B-A864-451BCF5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D4B6-EA7D-4C45-935D-ADBB88E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D028-910E-4156-97C2-FA6977A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E9A7-9384-4A9A-AD57-0F9300D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97F4-7086-46BD-BB4E-A44BF491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D0E-86AA-4777-8600-C3986F7E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6DF-853E-4068-B49F-2065E3D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54F-3858-477D-8B51-481ABB7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6E8-7482-42E6-A722-554CC1EA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A9D-1504-49B7-AAD2-9F96454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16E-8378-4413-8A2A-24B71465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8CC-1D29-4B61-A976-5CF6AED5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F21-9498-4ED1-BE57-2E95B47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B85-627F-411C-9CF5-5D92CB9371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C881-A452-443E-9695-1140192F5B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yahoo.com/" TargetMode="External"/><Relationship Id="rId3" Type="http://schemas.openxmlformats.org/officeDocument/2006/relationships/hyperlink" Target="http://searchenginewatch.com/blog/article.php/3494201" TargetMode="External"/><Relationship Id="rId4" Type="http://schemas.openxmlformats.org/officeDocument/2006/relationships/hyperlink" Target="http://searchenginewatch.com/blog/article.php/3494201" TargetMode="External"/><Relationship Id="rId5" Type="http://schemas.openxmlformats.org/officeDocument/2006/relationships/hyperlink" Target="http://searchenginewatch.com/blog/article.php/3494201" TargetMode="External"/><Relationship Id="rId6" Type="http://schemas.openxmlformats.org/officeDocument/2006/relationships/hyperlink" Target="http://searchenginewatch.com/blog/article.php/3494201" TargetMode="External"/><Relationship Id="rId7" Type="http://schemas.openxmlformats.org/officeDocument/2006/relationships/hyperlink" Target="http://searchenginewatch.com/blog/article.php/3494201" TargetMode="External"/><Relationship Id="rId8" Type="http://schemas.openxmlformats.org/officeDocument/2006/relationships/hyperlink" Target="http://searchenginewatch.com/blog/article.php/3494201" TargetMode="External"/><Relationship Id="rId9" Type="http://schemas.openxmlformats.org/officeDocument/2006/relationships/hyperlink" Target="http://searchenginewatch.com/blog/article.php/3494201" TargetMode="External"/><Relationship Id="rId10" Type="http://schemas.openxmlformats.org/officeDocument/2006/relationships/hyperlink" Target="http://searchenginewatch.com/blog/article.php/3494201" TargetMode="External"/><Relationship Id="rId11" Type="http://schemas.openxmlformats.org/officeDocument/2006/relationships/hyperlink" Target="http://searchenginewatch.com/blog/article.php/3494201" TargetMode="External"/><Relationship Id="rId12" Type="http://schemas.openxmlformats.org/officeDocument/2006/relationships/hyperlink" Target="http://searchenginewatch.com/blog/article.php/3494201" TargetMode="External"/><Relationship Id="rId13" Type="http://schemas.openxmlformats.org/officeDocument/2006/relationships/hyperlink" Target="http://searchenginewatch.com/blog/article.php/3494201" TargetMode="External"/><Relationship Id="rId14" Type="http://schemas.openxmlformats.org/officeDocument/2006/relationships/hyperlink" Target="http://www.google.com/webhp?hl=en" TargetMode="External"/><Relationship Id="rId15" Type="http://schemas.openxmlformats.org/officeDocument/2006/relationships/hyperlink" Target="http://searchenginewatch.com/blog/article.php/3494201" TargetMode="External"/><Relationship Id="rId16" Type="http://schemas.openxmlformats.org/officeDocument/2006/relationships/hyperlink" Target="http://searchenginewatch.com/blog/article.php/3494201" TargetMode="External"/><Relationship Id="rId17" Type="http://schemas.openxmlformats.org/officeDocument/2006/relationships/hyperlink" Target="http://searchenginewatch.com/blog/article.php/3494201" TargetMode="External"/><Relationship Id="rId18" Type="http://schemas.openxmlformats.org/officeDocument/2006/relationships/hyperlink" Target="http://searchenginewatch.com/blog/article.php/3494201" TargetMode="External"/><Relationship Id="rId19" Type="http://schemas.openxmlformats.org/officeDocument/2006/relationships/hyperlink" Target="http://searchenginewatch.com/blog/article.php/3494201" TargetMode="External"/><Relationship Id="rId20" Type="http://schemas.openxmlformats.org/officeDocument/2006/relationships/hyperlink" Target="http://searchenginewatch.com/blog/article.php/3494201" TargetMode="External"/><Relationship Id="rId21" Type="http://schemas.openxmlformats.org/officeDocument/2006/relationships/hyperlink" Target="http://searchenginewatch.com/blog/article.php/3494201" TargetMode="External"/><Relationship Id="rId22" Type="http://schemas.openxmlformats.org/officeDocument/2006/relationships/hyperlink" Target="http://searchenginewatch.com/blog/article.php/3494201" TargetMode="External"/><Relationship Id="rId23" Type="http://schemas.openxmlformats.org/officeDocument/2006/relationships/hyperlink" Target="http://searchenginewatch.com/blog/article.php/3494201" TargetMode="External"/><Relationship Id="rId24" Type="http://schemas.openxmlformats.org/officeDocument/2006/relationships/hyperlink" Target="http://searchenginewatch.com/blog/article.php/3494201" TargetMode="External"/><Relationship Id="rId25" Type="http://schemas.openxmlformats.org/officeDocument/2006/relationships/hyperlink" Target="http://searchenginewatch.com/blog/article.php/3494201" TargetMode="External"/><Relationship Id="rId26" Type="http://schemas.openxmlformats.org/officeDocument/2006/relationships/hyperlink" Target="http://scholar.google.com/" TargetMode="External"/><Relationship Id="rId27" Type="http://schemas.openxmlformats.org/officeDocument/2006/relationships/hyperlink" Target="http://www.msn.com/" TargetMode="External"/><Relationship Id="rId28" Type="http://schemas.openxmlformats.org/officeDocument/2006/relationships/hyperlink" Target="http://www.msn.com/" TargetMode="External"/><Relationship Id="rId29" Type="http://schemas.openxmlformats.org/officeDocument/2006/relationships/hyperlink" Target="http://www.teoma.com/" TargetMode="External"/><Relationship Id="rId30" Type="http://schemas.openxmlformats.org/officeDocument/2006/relationships/hyperlink" Target="http://www.teoma.com/" TargetMode="External"/><Relationship Id="rId31" Type="http://schemas.openxmlformats.org/officeDocument/2006/relationships/hyperlink" Target="http://www.lub.lu.se/netlab/documents/nav_menu.html#bysu" TargetMode="External"/><Relationship Id="rId32" Type="http://schemas.openxmlformats.org/officeDocument/2006/relationships/hyperlink" Target="http://www.lub.lu.se/netlab/documents/nav_menu.html#bysu" TargetMode="External"/><Relationship Id="rId33" Type="http://schemas.openxmlformats.org/officeDocument/2006/relationships/hyperlink" Target="http://www.lub.lu.se/netlab/documents/nav_menu.html#bysu" TargetMode="External"/><Relationship Id="rId34" Type="http://schemas.openxmlformats.org/officeDocument/2006/relationships/hyperlink" Target="http://www.lub.lu.se/netlab/documents/nav_menu.html#bysu" TargetMode="External"/><Relationship Id="rId35" Type="http://schemas.openxmlformats.org/officeDocument/2006/relationships/hyperlink" Target="http://www.lub.lu.se/netlab/documents/nav_menu.html#bysu" TargetMode="External"/><Relationship Id="rId36" Type="http://schemas.openxmlformats.org/officeDocument/2006/relationships/hyperlink" Target="http://www.lub.lu.se/netlab/documents/nav_menu.html#bysu" TargetMode="External"/><Relationship Id="rId3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seznam.cz/" TargetMode="External"/><Relationship Id="rId4" Type="http://schemas.openxmlformats.org/officeDocument/2006/relationships/hyperlink" Target="http://www.lupa.cz/clanek.php3?show=4033" TargetMode="External"/><Relationship Id="rId5" Type="http://schemas.openxmlformats.org/officeDocument/2006/relationships/hyperlink" Target="http://www.altavista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engineshowdown.com/" TargetMode="External"/><Relationship Id="rId3" Type="http://schemas.openxmlformats.org/officeDocument/2006/relationships/hyperlink" Target="http://searchengineshowdown.com/" TargetMode="External"/><Relationship Id="rId4" Type="http://schemas.openxmlformats.org/officeDocument/2006/relationships/hyperlink" Target="http://searchengineshowdown.com/" TargetMode="External"/><Relationship Id="rId5" Type="http://schemas.openxmlformats.org/officeDocument/2006/relationships/hyperlink" Target="http://searchengineshowdown.com/" TargetMode="External"/><Relationship Id="rId6" Type="http://schemas.openxmlformats.org/officeDocument/2006/relationships/hyperlink" Target="http://searchengineshowdown.com/" TargetMode="External"/><Relationship Id="rId7" Type="http://schemas.openxmlformats.org/officeDocument/2006/relationships/hyperlink" Target="http://searchenginewatch.com/" TargetMode="External"/><Relationship Id="rId8" Type="http://schemas.openxmlformats.org/officeDocument/2006/relationships/hyperlink" Target="http://searchenginewatch.com/" TargetMode="External"/><Relationship Id="rId9" Type="http://schemas.openxmlformats.org/officeDocument/2006/relationships/hyperlink" Target="http://searchenginewatch.com/" TargetMode="External"/><Relationship Id="rId10" Type="http://schemas.openxmlformats.org/officeDocument/2006/relationships/hyperlink" Target="http://searchenginewatch.com/" TargetMode="External"/><Relationship Id="rId11" Type="http://schemas.openxmlformats.org/officeDocument/2006/relationships/hyperlink" Target="http://searchenginewatch.com/" TargetMode="External"/><Relationship Id="rId12" Type="http://schemas.openxmlformats.org/officeDocument/2006/relationships/hyperlink" Target="http://searchenginewatch.com/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oz.org/" TargetMode="External"/><Relationship Id="rId3" Type="http://schemas.openxmlformats.org/officeDocument/2006/relationships/hyperlink" Target="http://www.dmoz.org/" TargetMode="External"/><Relationship Id="rId4" Type="http://schemas.openxmlformats.org/officeDocument/2006/relationships/hyperlink" Target="http://www.dmoz.org/" TargetMode="External"/><Relationship Id="rId5" Type="http://schemas.openxmlformats.org/officeDocument/2006/relationships/hyperlink" Target="http://www.dmoz.org/" TargetMode="External"/><Relationship Id="rId6" Type="http://schemas.openxmlformats.org/officeDocument/2006/relationships/hyperlink" Target="http://www.yahoo.com/" TargetMode="External"/><Relationship Id="rId7" Type="http://schemas.openxmlformats.org/officeDocument/2006/relationships/hyperlink" Target="http://jib-info.cuni.cz/tematbrany/studie_html/" TargetMode="External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ub.lu.se/tk/SBIGs.html" TargetMode="External"/><Relationship Id="rId3" Type="http://schemas.openxmlformats.org/officeDocument/2006/relationships/hyperlink" Target="http://www.lii.org/" TargetMode="External"/><Relationship Id="rId4" Type="http://schemas.openxmlformats.org/officeDocument/2006/relationships/hyperlink" Target="http://infomine.ucr.edu/" TargetMode="External"/><Relationship Id="rId5" Type="http://schemas.openxmlformats.org/officeDocument/2006/relationships/hyperlink" Target="http://www.academicinfo.net/" TargetMode="External"/><Relationship Id="rId6" Type="http://schemas.openxmlformats.org/officeDocument/2006/relationships/hyperlink" Target="http://www.academicinfo.net/" TargetMode="External"/><Relationship Id="rId7" Type="http://schemas.openxmlformats.org/officeDocument/2006/relationships/hyperlink" Target="http://www.britannica.com/" TargetMode="External"/><Relationship Id="rId8" Type="http://schemas.openxmlformats.org/officeDocument/2006/relationships/hyperlink" Target="http://www.renardus.org/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Vyhledávací stroj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a předmětové katalog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Co vědě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 hledáme na internetu, musíme znát předmět, o který se zajímá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které předmětové kategorie patří hledaná inform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íme být ochotni věnovat čas navigování hierarchickou struktu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vyžadujeme mnoho na výstup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erarchické struktury sché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kace tématu, o němž máme obecné povědom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vigace k asociovaným předmětů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hodný startovací bod pro další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určité míry záruka kv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sah katalog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ůzná kategorizační schém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ěkdy zdlouhavá navig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tnost odkaz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. místo v kategorii Outstanding Search Service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Goog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2. místo v kategorii Outstanding Search Service, bodoval napříč kategoriemi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gle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Schola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MSN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Sear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Teoma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y: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Browsing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and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searching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 Internet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resource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Vyhledavace.wz.c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ojí typ rozhraní pro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dnoduché rozhra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zadávaní jednoduchých dotazů, pokročilé dotazy – nutné znát dotazovací jazy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hraní pro pokročilé v. – návodné me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Nástroje pro vyhledávání – formulace dotaz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+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, OR, NO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ND NOT, -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bool. operá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D – současný výskyt obou vyhledávacích termínů, zuž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R – alespoň jeden z vyhledávacích termínů, rozšiř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T – operátor vyloučení dokumentů obsahující zadaný termí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NE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většinou 10 slov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AD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djacent)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ráz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“ ”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tězec slov, které se v textu dokumentu musí vyskytovat v přesně stanoveném pořadí vedle se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uncation – krácení podle slovních kořenů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mming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vyzkoušejte stemming v pokročilém vyhledáv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ild cards – zástupné znaky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kulatých závor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měna pořadí pro vyhodno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incip „zevnitř-ven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az v závorce – bool. výr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jmy, které mají být vyhodnoceny jako první, musí být na nejnižší úrovni vno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Třetí 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(druh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cc0000"/>
                </a:solidFill>
                <a:latin typeface="Verdana"/>
              </a:rPr>
              <a:t>(první výraz k vyhodnocení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k vyhodnoce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ýrazy na stejné úrovni – vyhodnocovány zleva dopr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AND (y OR z) AND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y OR z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40000" y="1413000"/>
            <a:ext cx="4005360" cy="4824360"/>
            <a:chOff x="2340000" y="1413000"/>
            <a:chExt cx="4005360" cy="48243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340000" y="1413000"/>
              <a:ext cx="400536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2340000" y="1413000"/>
              <a:ext cx="400536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filt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podle 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ální hlediska pro zpřesnění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í prostoru dokumentů, v němž je dotaz vyhodnocová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dání do formulář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nu v pokročilém rozhraní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 základního rozhraní pomocí definovaných příkaz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 co nám půjd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34100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ací nástroje/služby, které slouží k vyhledávání informačních zdrojů dostupných volně/veřejně v prostoru ww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hledávání tzv. povrchového web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ožné odkazy na placené zdroje, ne plný tex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iditelný web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nvisible web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informace „ukryté“ v databáz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kazy 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ÁKLADNÍ TYP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vyhledávací stroj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atabáze vyhledávacího stroje je budována na základě automatizovaného sběru da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robot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or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erv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pid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avou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hledávání na základě klíčových slo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předmětové katalogy/adresář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ubject directories, subject services, portals ..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běr informačních zdrojů ručně, jejich kategorizace – (spolu)pracovníci služby, inf. profesionálové a odborníci z oboru, tvůrci strán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přístupňování IZ prostřednictvím schémat předmětové kategorizace – prohlížen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brows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rowsing and searching Internet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ALE POZ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línání jednotlivých typů, stírání rozd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stálé změ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původně předmětový katalog, dnes fulltextové vyhledávání, portá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ezn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fulltextové vyhledávání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íce viz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eznam vykročil k dospělosti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ltaVist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řipojen k databázi Yahoo!, neplatí mnoho původních pokročilých způsobů pro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e změny sledov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Showdow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novinky, recenze, charakteristika jednotlivých služ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soustavně monitoruje vše, co se děje kolem vyhl. strojů a předmětových adresář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běžné rešerše v oborových db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lužby ALER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edmětov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ganizovaný a strukturovaný přístup k informačním zdrojům na Interne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ůzná schémata předmětové kategoriza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erarchický princip, podřazení specifičtějšího tématu obecnému, seskupování příbuzných téma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rtál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dle vyhledávání informací (katalogového i fulltextového typu) nabízejí zpravodajství, diskusní fóra, online zábavu, bezplatnou elektronickou schránku přes rozhraní webových strán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Komerč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orientované adresář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slovení co nejširší veřej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lasti společenského života – zábava, sport, obcho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mezená anotace, různá kval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pen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Directory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Projec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590 tis. kategorií, 4 mil. odkazů, 67 576 editor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Yahoo!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3 mil. odkazů, tvůrci strá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Oborové informač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brány/předmětové brá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pora rozvoje výzkumu, vědy a vzdělává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aměřeny oborově nebo univerzál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hodnocené 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běr na základě kritérií, informační specialisti, odborní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žadavek kvalitního předmětového přístu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íce viz.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toklasová,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OIB - </a:t>
            </a:r>
            <a:r>
              <a:rPr b="0" i="1" lang="cs-CZ" sz="3400" spc="-1" strike="noStrike">
                <a:solidFill>
                  <a:srgbClr val="336699"/>
                </a:solidFill>
                <a:latin typeface="Verdana"/>
              </a:rPr>
              <a:t>quality-controlled subject gateways/subject gateway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znam OI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lší významné OIB univerzálního charakter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Librarians' Ind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chéma, LC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min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CSH, LC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cademic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nf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Britannic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ulltex. vyhl. v encyklopedii, služba Web's Best Site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Renardu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vropská polytematická informační brá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Y použijeme OIB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kruh předmětu je širo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tránky, které doporučují, hodnotí a anotují exper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ídla k danému tématu a ne seznam stránek obsažených v těchto sídl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se vyhnout IZ s nízkým obsahem, které vracejí 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4-05T21:11:23Z</dcterms:modified>
  <cp:revision>22</cp:revision>
  <dc:subject/>
  <dc:title>Tvorba rešerší </dc:title>
</cp:coreProperties>
</file>