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974-7F99-43CB-8EBE-1639A65E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303-9601-4F6B-B0A6-015C304A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146F-A372-4DBB-9431-5B230C3C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444-FA4F-42BC-9B32-8F0A66D3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F492-665A-40CC-8CF1-00E12CA5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3EAA-B067-4C34-8B3B-EDFA7EEC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9567-DD53-4007-83DA-1AB0D297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53FB-CCEB-401D-90CD-77E88F86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EF27-AC34-42F8-A95F-7C6E7C07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DAB4-C76D-47E5-A16F-6686036C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E8CD-023C-4015-84A7-633AF698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763-0D92-4A0A-B0F2-D33BC505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1B79-7E69-4F4C-BE01-B1CA8AB8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1DBB-DA19-48CC-9D6C-2C851156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002A-C386-445A-87E4-AA255BAA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E3D7-26CC-4BB8-9F22-8AF4B492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1757-5834-4C27-95F2-92CF22CA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28B-FFD2-4DB0-B15E-862ED575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A87-E784-4007-A0AA-7A8385F3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184-CA31-43EB-B1CF-3E757429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C1B6-C5E1-4055-BC97-A0D10005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420-0318-4C48-817E-3D265062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02A-FE40-4948-A2C9-881993C2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76F-D4C7-418A-8908-6B297B0D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BA85-E4B9-47EF-A885-7E78095C62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C6CE-21BA-4010-A031-8FE929AE25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earch.yahoo.com/" TargetMode="External"/><Relationship Id="rId3" Type="http://schemas.openxmlformats.org/officeDocument/2006/relationships/hyperlink" Target="http://searchenginewatch.com/blog/article.php/3494201" TargetMode="External"/><Relationship Id="rId4" Type="http://schemas.openxmlformats.org/officeDocument/2006/relationships/hyperlink" Target="http://searchenginewatch.com/blog/article.php/3494201" TargetMode="External"/><Relationship Id="rId5" Type="http://schemas.openxmlformats.org/officeDocument/2006/relationships/hyperlink" Target="http://searchenginewatch.com/blog/article.php/3494201" TargetMode="External"/><Relationship Id="rId6" Type="http://schemas.openxmlformats.org/officeDocument/2006/relationships/hyperlink" Target="http://searchenginewatch.com/blog/article.php/3494201" TargetMode="External"/><Relationship Id="rId7" Type="http://schemas.openxmlformats.org/officeDocument/2006/relationships/hyperlink" Target="http://searchenginewatch.com/blog/article.php/3494201" TargetMode="External"/><Relationship Id="rId8" Type="http://schemas.openxmlformats.org/officeDocument/2006/relationships/hyperlink" Target="http://searchenginewatch.com/blog/article.php/3494201" TargetMode="External"/><Relationship Id="rId9" Type="http://schemas.openxmlformats.org/officeDocument/2006/relationships/hyperlink" Target="http://searchenginewatch.com/blog/article.php/3494201" TargetMode="External"/><Relationship Id="rId10" Type="http://schemas.openxmlformats.org/officeDocument/2006/relationships/hyperlink" Target="http://searchenginewatch.com/blog/article.php/3494201" TargetMode="External"/><Relationship Id="rId11" Type="http://schemas.openxmlformats.org/officeDocument/2006/relationships/hyperlink" Target="http://searchenginewatch.com/blog/article.php/3494201" TargetMode="External"/><Relationship Id="rId12" Type="http://schemas.openxmlformats.org/officeDocument/2006/relationships/hyperlink" Target="http://searchenginewatch.com/blog/article.php/3494201" TargetMode="External"/><Relationship Id="rId13" Type="http://schemas.openxmlformats.org/officeDocument/2006/relationships/hyperlink" Target="http://searchenginewatch.com/blog/article.php/3494201" TargetMode="External"/><Relationship Id="rId14" Type="http://schemas.openxmlformats.org/officeDocument/2006/relationships/hyperlink" Target="http://www.google.com/webhp?hl=en" TargetMode="External"/><Relationship Id="rId15" Type="http://schemas.openxmlformats.org/officeDocument/2006/relationships/hyperlink" Target="http://searchenginewatch.com/blog/article.php/3494201" TargetMode="External"/><Relationship Id="rId16" Type="http://schemas.openxmlformats.org/officeDocument/2006/relationships/hyperlink" Target="http://searchenginewatch.com/blog/article.php/3494201" TargetMode="External"/><Relationship Id="rId17" Type="http://schemas.openxmlformats.org/officeDocument/2006/relationships/hyperlink" Target="http://searchenginewatch.com/blog/article.php/3494201" TargetMode="External"/><Relationship Id="rId18" Type="http://schemas.openxmlformats.org/officeDocument/2006/relationships/hyperlink" Target="http://searchenginewatch.com/blog/article.php/3494201" TargetMode="External"/><Relationship Id="rId19" Type="http://schemas.openxmlformats.org/officeDocument/2006/relationships/hyperlink" Target="http://searchenginewatch.com/blog/article.php/3494201" TargetMode="External"/><Relationship Id="rId20" Type="http://schemas.openxmlformats.org/officeDocument/2006/relationships/hyperlink" Target="http://searchenginewatch.com/blog/article.php/3494201" TargetMode="External"/><Relationship Id="rId21" Type="http://schemas.openxmlformats.org/officeDocument/2006/relationships/hyperlink" Target="http://searchenginewatch.com/blog/article.php/3494201" TargetMode="External"/><Relationship Id="rId22" Type="http://schemas.openxmlformats.org/officeDocument/2006/relationships/hyperlink" Target="http://searchenginewatch.com/blog/article.php/3494201" TargetMode="External"/><Relationship Id="rId23" Type="http://schemas.openxmlformats.org/officeDocument/2006/relationships/hyperlink" Target="http://searchenginewatch.com/blog/article.php/3494201" TargetMode="External"/><Relationship Id="rId24" Type="http://schemas.openxmlformats.org/officeDocument/2006/relationships/hyperlink" Target="http://searchenginewatch.com/blog/article.php/3494201" TargetMode="External"/><Relationship Id="rId25" Type="http://schemas.openxmlformats.org/officeDocument/2006/relationships/hyperlink" Target="http://searchenginewatch.com/blog/article.php/3494201" TargetMode="External"/><Relationship Id="rId26" Type="http://schemas.openxmlformats.org/officeDocument/2006/relationships/hyperlink" Target="http://scholar.google.com/" TargetMode="External"/><Relationship Id="rId27" Type="http://schemas.openxmlformats.org/officeDocument/2006/relationships/hyperlink" Target="http://www.msn.com/" TargetMode="External"/><Relationship Id="rId28" Type="http://schemas.openxmlformats.org/officeDocument/2006/relationships/hyperlink" Target="http://www.msn.com/" TargetMode="External"/><Relationship Id="rId29" Type="http://schemas.openxmlformats.org/officeDocument/2006/relationships/hyperlink" Target="http://www.teoma.com/" TargetMode="External"/><Relationship Id="rId30" Type="http://schemas.openxmlformats.org/officeDocument/2006/relationships/hyperlink" Target="http://www.teoma.com/" TargetMode="External"/><Relationship Id="rId31" Type="http://schemas.openxmlformats.org/officeDocument/2006/relationships/hyperlink" Target="http://www.lub.lu.se/netlab/documents/nav_menu.html#bysu" TargetMode="External"/><Relationship Id="rId32" Type="http://schemas.openxmlformats.org/officeDocument/2006/relationships/hyperlink" Target="http://www.lub.lu.se/netlab/documents/nav_menu.html#bysu" TargetMode="External"/><Relationship Id="rId33" Type="http://schemas.openxmlformats.org/officeDocument/2006/relationships/hyperlink" Target="http://www.lub.lu.se/netlab/documents/nav_menu.html#bysu" TargetMode="External"/><Relationship Id="rId34" Type="http://schemas.openxmlformats.org/officeDocument/2006/relationships/hyperlink" Target="http://www.lub.lu.se/netlab/documents/nav_menu.html#bysu" TargetMode="External"/><Relationship Id="rId35" Type="http://schemas.openxmlformats.org/officeDocument/2006/relationships/hyperlink" Target="http://www.lub.lu.se/netlab/documents/nav_menu.html#bysu" TargetMode="External"/><Relationship Id="rId36" Type="http://schemas.openxmlformats.org/officeDocument/2006/relationships/hyperlink" Target="http://www.lub.lu.se/netlab/documents/nav_menu.html#bysu" TargetMode="External"/><Relationship Id="rId3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ahoo.com/" TargetMode="External"/><Relationship Id="rId3" Type="http://schemas.openxmlformats.org/officeDocument/2006/relationships/hyperlink" Target="http://www.seznam.cz/" TargetMode="External"/><Relationship Id="rId4" Type="http://schemas.openxmlformats.org/officeDocument/2006/relationships/hyperlink" Target="http://www.lupa.cz/clanek.php3?show=4033" TargetMode="External"/><Relationship Id="rId5" Type="http://schemas.openxmlformats.org/officeDocument/2006/relationships/hyperlink" Target="http://www.altavista.com/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earchengineshowdown.com/" TargetMode="External"/><Relationship Id="rId3" Type="http://schemas.openxmlformats.org/officeDocument/2006/relationships/hyperlink" Target="http://searchengineshowdown.com/" TargetMode="External"/><Relationship Id="rId4" Type="http://schemas.openxmlformats.org/officeDocument/2006/relationships/hyperlink" Target="http://searchengineshowdown.com/" TargetMode="External"/><Relationship Id="rId5" Type="http://schemas.openxmlformats.org/officeDocument/2006/relationships/hyperlink" Target="http://searchengineshowdown.com/" TargetMode="External"/><Relationship Id="rId6" Type="http://schemas.openxmlformats.org/officeDocument/2006/relationships/hyperlink" Target="http://searchengineshowdown.com/" TargetMode="External"/><Relationship Id="rId7" Type="http://schemas.openxmlformats.org/officeDocument/2006/relationships/hyperlink" Target="http://searchenginewatch.com/" TargetMode="External"/><Relationship Id="rId8" Type="http://schemas.openxmlformats.org/officeDocument/2006/relationships/hyperlink" Target="http://searchenginewatch.com/" TargetMode="External"/><Relationship Id="rId9" Type="http://schemas.openxmlformats.org/officeDocument/2006/relationships/hyperlink" Target="http://searchenginewatch.com/" TargetMode="External"/><Relationship Id="rId10" Type="http://schemas.openxmlformats.org/officeDocument/2006/relationships/hyperlink" Target="http://searchenginewatch.com/" TargetMode="External"/><Relationship Id="rId11" Type="http://schemas.openxmlformats.org/officeDocument/2006/relationships/hyperlink" Target="http://searchenginewatch.com/" TargetMode="External"/><Relationship Id="rId12" Type="http://schemas.openxmlformats.org/officeDocument/2006/relationships/hyperlink" Target="http://searchenginewatch.com/" TargetMode="External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moz.org/" TargetMode="External"/><Relationship Id="rId3" Type="http://schemas.openxmlformats.org/officeDocument/2006/relationships/hyperlink" Target="http://www.dmoz.org/" TargetMode="External"/><Relationship Id="rId4" Type="http://schemas.openxmlformats.org/officeDocument/2006/relationships/hyperlink" Target="http://www.dmoz.org/" TargetMode="External"/><Relationship Id="rId5" Type="http://schemas.openxmlformats.org/officeDocument/2006/relationships/hyperlink" Target="http://www.dmoz.org/" TargetMode="External"/><Relationship Id="rId6" Type="http://schemas.openxmlformats.org/officeDocument/2006/relationships/hyperlink" Target="http://www.yahoo.com/" TargetMode="External"/><Relationship Id="rId7" Type="http://schemas.openxmlformats.org/officeDocument/2006/relationships/hyperlink" Target="http://jib-info.cuni.cz/tematbrany/studie_html/" TargetMode="External"/><Relationship Id="rId8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ub.lu.se/tk/SBIGs.html" TargetMode="External"/><Relationship Id="rId3" Type="http://schemas.openxmlformats.org/officeDocument/2006/relationships/hyperlink" Target="http://www.lii.org/" TargetMode="External"/><Relationship Id="rId4" Type="http://schemas.openxmlformats.org/officeDocument/2006/relationships/hyperlink" Target="http://infomine.ucr.edu/" TargetMode="External"/><Relationship Id="rId5" Type="http://schemas.openxmlformats.org/officeDocument/2006/relationships/hyperlink" Target="http://www.academicinfo.net/" TargetMode="External"/><Relationship Id="rId6" Type="http://schemas.openxmlformats.org/officeDocument/2006/relationships/hyperlink" Target="http://www.academicinfo.net/" TargetMode="External"/><Relationship Id="rId7" Type="http://schemas.openxmlformats.org/officeDocument/2006/relationships/hyperlink" Target="http://www.britannica.com/" TargetMode="External"/><Relationship Id="rId8" Type="http://schemas.openxmlformats.org/officeDocument/2006/relationships/hyperlink" Target="http://www.renardus.org/" TargetMode="Externa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Vyhledávací stroje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a předmětové katalog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Rešeršní a studijně rozborová činno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1. 4.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00640"/>
            <a:ext cx="338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Co vědět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 hledáme na internetu, musíme znát předmět, o který se zajímá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 které předmětové kategorie patří hledaná inform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síme být ochotni věnovat čas navigování hierarchickou struktur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vyžadujeme mnoho na výstup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ÝHO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erarchické struktury sché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ecifikace tématu, o němž máme obecné povědom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vigace k asociovaným předmětů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hodný startovací bod pro další vyhledá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 určité míry záruka kva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EVÝHO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zsah katalog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ůzná kategorizační schém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ěkdy zdlouhavá naviga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atnost odkaz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yhledávací stroj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Yahoo!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The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5th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Annual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Search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Engine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Watch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Award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1. místo v kategorii Outstanding Search Service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Googl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The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 5th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Annual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9"/>
              </a:rPr>
              <a:t>Search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0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1"/>
              </a:rPr>
              <a:t>Engine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2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3"/>
              </a:rPr>
              <a:t>Watch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4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5"/>
              </a:rPr>
              <a:t>Award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2. místo v kategorii Outstanding Search Service, bodoval napříč kategoriemi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Google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6"/>
              </a:rPr>
              <a:t>Scholar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7"/>
              </a:rPr>
              <a:t>MSN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8"/>
              </a:rPr>
              <a:t>Searc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9"/>
              </a:rPr>
              <a:t>Teoma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30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znamy: 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1"/>
              </a:rPr>
              <a:t>Browsing 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2"/>
              </a:rPr>
              <a:t>and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3"/>
              </a:rPr>
              <a:t> 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4"/>
              </a:rPr>
              <a:t>searching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5"/>
              </a:rPr>
              <a:t> Internet 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6"/>
              </a:rPr>
              <a:t>resources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 Vyhledavace.wz.c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yhledávací stroj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vojí typ rozhraní pro vyhledává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ednoduché rozhra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zadávaní jednoduchých dotazů, pokročilé dotazy – nutné znát dotazovací jazy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hraní pro pokročilé v. – návodné men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Nástroje pro vyhledávání – formulace dotazů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+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, OR, NOT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AND NOT, -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bool. operátor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ND – současný výskyt obou vyhledávacích termínů, zužuje dotaz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R – alespoň jeden z vyhledávacích termínů, rozšiřuje dotaz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T – operátor vyloučení dokumentů obsahující zadaný termí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ximitní operátory: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NEA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většinou 10 slov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ADJ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adjacent)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ráze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“ ”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řetězec slov, které se v textu dokumentu musí vyskytovat v přesně stanoveném pořadí vedle seb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runcation – krácení podle slovních kořenů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temming –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vyzkoušejte stemming v pokročilém vyhledáván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wild cards – zástupné znaky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? *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oužití kulatých závor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měna pořadí pro vyhodnoco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incip „zevnitř-ven“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raz v závorce – bool. výraz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ojmy, které mají být vyhodnoceny jako první, musí být na nejnižší úrovni vnoře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9900"/>
                </a:solidFill>
                <a:latin typeface="Verdana"/>
              </a:rPr>
              <a:t>Třetí výraz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336699"/>
                </a:solidFill>
                <a:latin typeface="Verdana"/>
              </a:rPr>
              <a:t>(druhý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336699"/>
                </a:solidFill>
                <a:latin typeface="Verdana"/>
              </a:rPr>
              <a:t>výraz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cc0000"/>
                </a:solidFill>
                <a:latin typeface="Verdana"/>
              </a:rPr>
              <a:t>(první výraz k vyhodnocení)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336699"/>
                </a:solidFill>
                <a:latin typeface="Verdana"/>
              </a:rPr>
              <a:t>k vyhodnocení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ýrazy na stejné úrovni – vyhodnocovány zleva dopra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x AND (y OR z) AND q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x y OR z q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340000" y="1413000"/>
            <a:ext cx="4005360" cy="4824360"/>
            <a:chOff x="2340000" y="1413000"/>
            <a:chExt cx="4005360" cy="482436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2340000" y="1413000"/>
              <a:ext cx="4005360" cy="48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 txBox="1"/>
            <p:nvPr/>
          </p:nvSpPr>
          <p:spPr>
            <a:xfrm>
              <a:off x="2340000" y="1413000"/>
              <a:ext cx="4005360" cy="482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469800" indent="-46980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oužití filt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yhledávání podle po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mální hlediska pro zpřesnění dotaz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mezení prostoru dokumentů, v němž je dotaz vyhodnocová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adání do formulář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enu v pokročilém rozhraní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e základního rozhraní pomocí definovaných příkazů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O co nám půjd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341000"/>
            <a:ext cx="8001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hledávací nástroje/služby, které slouží k vyhledávání informačních zdrojů dostupných volně/veřejně v prostoru ww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ohledávání tzv. povrchového web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možné odkazy na placené zdroje, ne plný tex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12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viditelný web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invisible web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informace „ukryté“ v databází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říkazy GOO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ahoo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ZÁKLADNÍ TYP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900"/>
                </a:solidFill>
                <a:latin typeface="Verdana"/>
              </a:rPr>
              <a:t>vyhledávací stroje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earch engin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atabáze vyhledávacího stroje je budována na základě automatizovaného sběru dat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robot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worm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erv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spider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avouk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yhledávání na základě klíčových slov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900"/>
                </a:solidFill>
                <a:latin typeface="Verdana"/>
              </a:rPr>
              <a:t>předmětové katalogy/adresáře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ubject directories, subject services, portals ...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běr informačních zdrojů ručně, jejich kategorizace – (spolu)pracovníci služby, inf. profesionálové a odborníci z oboru, tvůrci strán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zpřístupňování IZ prostřednictvím schémat předmětové kategorizace – prohlížení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brows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rowsing and searching Internet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ALE POZ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línání jednotlivých typů, stírání rozdíl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ustálé změ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Yahoo!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– původně předmětový katalog, dnes fulltextové vyhledávání, portá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Sezna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fulltextové vyhledávání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více viz </a:t>
            </a:r>
            <a:r>
              <a:rPr b="0" lang="cs-CZ" sz="23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Seznam vykročil k dospělosti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AltaVist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připojen k databázi Yahoo!, neplatí mnoho původních pokročilých způsobů pro vyhledá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Kde změny sledov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earch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Engine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Showdow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novinky, recenze, charakteristika jednotlivých služe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Search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Engine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Watch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– soustavně monitoruje vše, co se děje kolem vyhl. strojů a předmětových adresář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ůběžné rešerše v oborových db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služby ALERT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ředmětové katalo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ganizovaný a strukturovaný přístup k informačním zdrojům na Internet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různá schémata předmětové kategoriza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erarchický princip, podřazení specifičtějšího tématu obecnému, seskupování příbuzných téma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portál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dle vyhledávání informací (katalogového i fulltextového typu) nabízejí zpravodajství, diskusní fóra, online zábavu, bezplatnou elektronickou schránku přes rozhraní webových strán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549360"/>
            <a:ext cx="392436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00"/>
                </a:solidFill>
                <a:latin typeface="Verdana"/>
              </a:rPr>
              <a:t>Komerčn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00"/>
                </a:solidFill>
                <a:latin typeface="Verdana"/>
              </a:rPr>
              <a:t>orientované adresář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slovení co nejširší veřej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blasti společenského života – zábava, sport, obchod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mezená anotace, různá kvali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Open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Directory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Projec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590 tis. kategorií, 4 mil. odkazů, 67 576 editor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Yahoo!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3 mil. odkazů, tvůrci strán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2920" y="549360"/>
            <a:ext cx="392436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Oborové informační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brány/předmětové brá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dpora rozvoje výzkumu, vědy a vzdělávání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aměřeny oborově nebo univerzáln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hodnocené I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ýběr na základě kritérií, informační specialisti, odborníc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žadavek kvalitního předmětového přístup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íce viz.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Stoklasová,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336699"/>
                </a:solidFill>
                <a:latin typeface="Verdana"/>
              </a:rPr>
              <a:t>OIB - </a:t>
            </a:r>
            <a:r>
              <a:rPr b="0" i="1" lang="cs-CZ" sz="3400" spc="-1" strike="noStrike">
                <a:solidFill>
                  <a:srgbClr val="336699"/>
                </a:solidFill>
                <a:latin typeface="Verdana"/>
              </a:rPr>
              <a:t>quality-controlled subject gateways/subject gateway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eznam OI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lší významné OIB univerzálního charakteru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Librarians' Index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chéma, LC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Infomin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CSH, LC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Academic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Inf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Britannic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fulltex. vyhl. v encyklopedii, služba Web's Best Site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Renardu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evropská polytematická informační brán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KDY použijeme OIB?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kruh předmětu je širok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ceme-li získat odkazy na webové stránky, které doporučují, hodnotí a anotují exper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ceme-li získat odkazy na webové sídla k danému tématu a ne seznam stránek obsažených v těchto sídle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ceme-li se vyhnout IZ s nízkým obsahem, které vracejí 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58:22Z</dcterms:created>
  <dc:creator>SilvieP.</dc:creator>
  <dc:description/>
  <dc:language>en-US</dc:language>
  <cp:lastModifiedBy>Silvie Presová</cp:lastModifiedBy>
  <dcterms:modified xsi:type="dcterms:W3CDTF">2005-04-05T21:11:23Z</dcterms:modified>
  <cp:revision>22</cp:revision>
  <dc:subject/>
  <dc:title>Tvorba rešerší </dc:title>
</cp:coreProperties>
</file>