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AB63-FD55-4417-BDED-4F0BBC022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9AE9-A6B6-4239-91ED-42181DE2E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8605-5EFB-4D49-8BAC-975AB5D80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B0D1-93A3-44D4-A5FC-52346C039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22B73-168D-43BE-8D0C-FF3E84228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85274-11D4-4597-AABD-F54E7E5B5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B805A-4C25-4913-AF87-84973E7A4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67A74-7649-434A-9F31-292EAA52F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3DF02-FC83-432B-AF46-D1B5574CF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6C6BE-3C97-40DB-9199-635AEDEFB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3FDCA-DD1A-4196-A5B9-1853B489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759F-CBDA-41FE-9174-4492D3360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C1C39-CF9C-4617-AC06-3E3FA7F5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45D78-2CB8-4391-9C23-01DEA0E4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DE171-5EAD-4FAD-B71D-FE103D107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93067-5B4F-4EB0-9350-D3805F454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42382-8AA9-45AA-B517-1600E02EF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D6A0-6C27-475B-AD4E-00ED177C3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7D94-2045-4D1B-A05E-ABD167E86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112B-1099-4DA5-B80B-80AEE6C4C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93F8-2DF0-49B3-905C-25E1241EF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02DB-4B4C-4B48-9810-5E06549E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140C-748C-4647-B424-D1E6ADC9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9C49-6258-4B0C-B9BF-58EC2D52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3A284-7CA0-497A-9352-CE3ACAD62DB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48C19-25FC-43F8-BE72-91EF7BEB87C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earch.yahoo.com/" TargetMode="External"/><Relationship Id="rId3" Type="http://schemas.openxmlformats.org/officeDocument/2006/relationships/hyperlink" Target="http://searchenginewatch.com/blog/article.php/3494201" TargetMode="External"/><Relationship Id="rId4" Type="http://schemas.openxmlformats.org/officeDocument/2006/relationships/hyperlink" Target="http://searchenginewatch.com/blog/article.php/3494201" TargetMode="External"/><Relationship Id="rId5" Type="http://schemas.openxmlformats.org/officeDocument/2006/relationships/hyperlink" Target="http://searchenginewatch.com/blog/article.php/3494201" TargetMode="External"/><Relationship Id="rId6" Type="http://schemas.openxmlformats.org/officeDocument/2006/relationships/hyperlink" Target="http://searchenginewatch.com/blog/article.php/3494201" TargetMode="External"/><Relationship Id="rId7" Type="http://schemas.openxmlformats.org/officeDocument/2006/relationships/hyperlink" Target="http://searchenginewatch.com/blog/article.php/3494201" TargetMode="External"/><Relationship Id="rId8" Type="http://schemas.openxmlformats.org/officeDocument/2006/relationships/hyperlink" Target="http://searchenginewatch.com/blog/article.php/3494201" TargetMode="External"/><Relationship Id="rId9" Type="http://schemas.openxmlformats.org/officeDocument/2006/relationships/hyperlink" Target="http://searchenginewatch.com/blog/article.php/3494201" TargetMode="External"/><Relationship Id="rId10" Type="http://schemas.openxmlformats.org/officeDocument/2006/relationships/hyperlink" Target="http://searchenginewatch.com/blog/article.php/3494201" TargetMode="External"/><Relationship Id="rId11" Type="http://schemas.openxmlformats.org/officeDocument/2006/relationships/hyperlink" Target="http://searchenginewatch.com/blog/article.php/3494201" TargetMode="External"/><Relationship Id="rId12" Type="http://schemas.openxmlformats.org/officeDocument/2006/relationships/hyperlink" Target="http://searchenginewatch.com/blog/article.php/3494201" TargetMode="External"/><Relationship Id="rId13" Type="http://schemas.openxmlformats.org/officeDocument/2006/relationships/hyperlink" Target="http://searchenginewatch.com/blog/article.php/3494201" TargetMode="External"/><Relationship Id="rId14" Type="http://schemas.openxmlformats.org/officeDocument/2006/relationships/hyperlink" Target="http://www.google.com/webhp?hl=en" TargetMode="External"/><Relationship Id="rId15" Type="http://schemas.openxmlformats.org/officeDocument/2006/relationships/hyperlink" Target="http://searchenginewatch.com/blog/article.php/3494201" TargetMode="External"/><Relationship Id="rId16" Type="http://schemas.openxmlformats.org/officeDocument/2006/relationships/hyperlink" Target="http://searchenginewatch.com/blog/article.php/3494201" TargetMode="External"/><Relationship Id="rId17" Type="http://schemas.openxmlformats.org/officeDocument/2006/relationships/hyperlink" Target="http://searchenginewatch.com/blog/article.php/3494201" TargetMode="External"/><Relationship Id="rId18" Type="http://schemas.openxmlformats.org/officeDocument/2006/relationships/hyperlink" Target="http://searchenginewatch.com/blog/article.php/3494201" TargetMode="External"/><Relationship Id="rId19" Type="http://schemas.openxmlformats.org/officeDocument/2006/relationships/hyperlink" Target="http://searchenginewatch.com/blog/article.php/3494201" TargetMode="External"/><Relationship Id="rId20" Type="http://schemas.openxmlformats.org/officeDocument/2006/relationships/hyperlink" Target="http://searchenginewatch.com/blog/article.php/3494201" TargetMode="External"/><Relationship Id="rId21" Type="http://schemas.openxmlformats.org/officeDocument/2006/relationships/hyperlink" Target="http://searchenginewatch.com/blog/article.php/3494201" TargetMode="External"/><Relationship Id="rId22" Type="http://schemas.openxmlformats.org/officeDocument/2006/relationships/hyperlink" Target="http://searchenginewatch.com/blog/article.php/3494201" TargetMode="External"/><Relationship Id="rId23" Type="http://schemas.openxmlformats.org/officeDocument/2006/relationships/hyperlink" Target="http://searchenginewatch.com/blog/article.php/3494201" TargetMode="External"/><Relationship Id="rId24" Type="http://schemas.openxmlformats.org/officeDocument/2006/relationships/hyperlink" Target="http://searchenginewatch.com/blog/article.php/3494201" TargetMode="External"/><Relationship Id="rId25" Type="http://schemas.openxmlformats.org/officeDocument/2006/relationships/hyperlink" Target="http://searchenginewatch.com/blog/article.php/3494201" TargetMode="External"/><Relationship Id="rId26" Type="http://schemas.openxmlformats.org/officeDocument/2006/relationships/hyperlink" Target="http://scholar.google.com/" TargetMode="External"/><Relationship Id="rId27" Type="http://schemas.openxmlformats.org/officeDocument/2006/relationships/hyperlink" Target="http://www.msn.com/" TargetMode="External"/><Relationship Id="rId28" Type="http://schemas.openxmlformats.org/officeDocument/2006/relationships/hyperlink" Target="http://www.msn.com/" TargetMode="External"/><Relationship Id="rId29" Type="http://schemas.openxmlformats.org/officeDocument/2006/relationships/hyperlink" Target="http://www.teoma.com/" TargetMode="External"/><Relationship Id="rId30" Type="http://schemas.openxmlformats.org/officeDocument/2006/relationships/hyperlink" Target="http://www.teoma.com/" TargetMode="External"/><Relationship Id="rId31" Type="http://schemas.openxmlformats.org/officeDocument/2006/relationships/hyperlink" Target="http://www.lub.lu.se/netlab/documents/nav_menu.html#bysu" TargetMode="External"/><Relationship Id="rId32" Type="http://schemas.openxmlformats.org/officeDocument/2006/relationships/hyperlink" Target="http://www.lub.lu.se/netlab/documents/nav_menu.html#bysu" TargetMode="External"/><Relationship Id="rId33" Type="http://schemas.openxmlformats.org/officeDocument/2006/relationships/hyperlink" Target="http://www.lub.lu.se/netlab/documents/nav_menu.html#bysu" TargetMode="External"/><Relationship Id="rId34" Type="http://schemas.openxmlformats.org/officeDocument/2006/relationships/hyperlink" Target="http://www.lub.lu.se/netlab/documents/nav_menu.html#bysu" TargetMode="External"/><Relationship Id="rId35" Type="http://schemas.openxmlformats.org/officeDocument/2006/relationships/hyperlink" Target="http://www.lub.lu.se/netlab/documents/nav_menu.html#bysu" TargetMode="External"/><Relationship Id="rId36" Type="http://schemas.openxmlformats.org/officeDocument/2006/relationships/hyperlink" Target="http://www.lub.lu.se/netlab/documents/nav_menu.html#bysu" TargetMode="External"/><Relationship Id="rId3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yahoo.com/" TargetMode="External"/><Relationship Id="rId3" Type="http://schemas.openxmlformats.org/officeDocument/2006/relationships/hyperlink" Target="http://www.seznam.cz/" TargetMode="External"/><Relationship Id="rId4" Type="http://schemas.openxmlformats.org/officeDocument/2006/relationships/hyperlink" Target="http://www.lupa.cz/clanek.php3?show=4033" TargetMode="External"/><Relationship Id="rId5" Type="http://schemas.openxmlformats.org/officeDocument/2006/relationships/hyperlink" Target="http://www.altavista.com/" TargetMode="Externa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earchengineshowdown.com/" TargetMode="External"/><Relationship Id="rId3" Type="http://schemas.openxmlformats.org/officeDocument/2006/relationships/hyperlink" Target="http://searchengineshowdown.com/" TargetMode="External"/><Relationship Id="rId4" Type="http://schemas.openxmlformats.org/officeDocument/2006/relationships/hyperlink" Target="http://searchengineshowdown.com/" TargetMode="External"/><Relationship Id="rId5" Type="http://schemas.openxmlformats.org/officeDocument/2006/relationships/hyperlink" Target="http://searchengineshowdown.com/" TargetMode="External"/><Relationship Id="rId6" Type="http://schemas.openxmlformats.org/officeDocument/2006/relationships/hyperlink" Target="http://searchengineshowdown.com/" TargetMode="External"/><Relationship Id="rId7" Type="http://schemas.openxmlformats.org/officeDocument/2006/relationships/hyperlink" Target="http://searchenginewatch.com/" TargetMode="External"/><Relationship Id="rId8" Type="http://schemas.openxmlformats.org/officeDocument/2006/relationships/hyperlink" Target="http://searchenginewatch.com/" TargetMode="External"/><Relationship Id="rId9" Type="http://schemas.openxmlformats.org/officeDocument/2006/relationships/hyperlink" Target="http://searchenginewatch.com/" TargetMode="External"/><Relationship Id="rId10" Type="http://schemas.openxmlformats.org/officeDocument/2006/relationships/hyperlink" Target="http://searchenginewatch.com/" TargetMode="External"/><Relationship Id="rId11" Type="http://schemas.openxmlformats.org/officeDocument/2006/relationships/hyperlink" Target="http://searchenginewatch.com/" TargetMode="External"/><Relationship Id="rId12" Type="http://schemas.openxmlformats.org/officeDocument/2006/relationships/hyperlink" Target="http://searchenginewatch.com/" TargetMode="External"/><Relationship Id="rId1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dmoz.org/" TargetMode="External"/><Relationship Id="rId3" Type="http://schemas.openxmlformats.org/officeDocument/2006/relationships/hyperlink" Target="http://www.dmoz.org/" TargetMode="External"/><Relationship Id="rId4" Type="http://schemas.openxmlformats.org/officeDocument/2006/relationships/hyperlink" Target="http://www.dmoz.org/" TargetMode="External"/><Relationship Id="rId5" Type="http://schemas.openxmlformats.org/officeDocument/2006/relationships/hyperlink" Target="http://www.dmoz.org/" TargetMode="External"/><Relationship Id="rId6" Type="http://schemas.openxmlformats.org/officeDocument/2006/relationships/hyperlink" Target="http://www.yahoo.com/" TargetMode="External"/><Relationship Id="rId7" Type="http://schemas.openxmlformats.org/officeDocument/2006/relationships/hyperlink" Target="http://jib-info.cuni.cz/tematbrany/studie_html/" TargetMode="External"/><Relationship Id="rId8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lub.lu.se/tk/SBIGs.html" TargetMode="External"/><Relationship Id="rId3" Type="http://schemas.openxmlformats.org/officeDocument/2006/relationships/hyperlink" Target="http://www.lii.org/" TargetMode="External"/><Relationship Id="rId4" Type="http://schemas.openxmlformats.org/officeDocument/2006/relationships/hyperlink" Target="http://infomine.ucr.edu/" TargetMode="External"/><Relationship Id="rId5" Type="http://schemas.openxmlformats.org/officeDocument/2006/relationships/hyperlink" Target="http://www.academicinfo.net/" TargetMode="External"/><Relationship Id="rId6" Type="http://schemas.openxmlformats.org/officeDocument/2006/relationships/hyperlink" Target="http://www.academicinfo.net/" TargetMode="External"/><Relationship Id="rId7" Type="http://schemas.openxmlformats.org/officeDocument/2006/relationships/hyperlink" Target="http://www.britannica.com/" TargetMode="External"/><Relationship Id="rId8" Type="http://schemas.openxmlformats.org/officeDocument/2006/relationships/hyperlink" Target="http://www.renardus.org/" TargetMode="External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Verdana"/>
              </a:rPr>
              <a:t>Vyhledávací stroje</a:t>
            </a: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Verdana"/>
              </a:rPr>
              <a:t>a předmětové katalog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Verdana"/>
              </a:rPr>
              <a:t>Rešeršní a studijně rozborová činnos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Verdana"/>
              </a:rPr>
              <a:t>1. 4. 200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971640" y="5300640"/>
            <a:ext cx="33843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vyučující: Silvie Preso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presova</a:t>
            </a: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@</a:t>
            </a: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phil.muni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Kabinet knihovnictví – Ústav české literatury a knihovnictví, FF 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Co vědět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 hledáme na internetu, musíme znát předmět, o který se zajímám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o které předmětové kategorie patří hledaná inform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usíme být ochotni věnovat čas navigování hierarchickou strukturo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evyžadujeme mnoho na výstupu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VÝHO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erarchické struktury sché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pecifikace tématu, o němž máme obecné povědom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avigace k asociovaným předmětů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hodný startovací bod pro další vyhledáván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o určité míry záruka kvali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NEVÝHO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ozsah katalog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ůzná kategorizační schéma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ěkdy zdlouhavá navigac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atnost odkaz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Vyhledávací stroj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Yahoo!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The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 5th 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Annual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 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7"/>
              </a:rPr>
              <a:t>Search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8"/>
              </a:rPr>
              <a:t> 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9"/>
              </a:rPr>
              <a:t>Engine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10"/>
              </a:rPr>
              <a:t> 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11"/>
              </a:rPr>
              <a:t>Watch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12"/>
              </a:rPr>
              <a:t> 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13"/>
              </a:rPr>
              <a:t>Award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1. místo v kategorii Outstanding Search Service)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336699"/>
                </a:solidFill>
                <a:uFillTx/>
                <a:latin typeface="Verdana"/>
                <a:hlinkClick r:id="rId14"/>
              </a:rPr>
              <a:t>Googl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15"/>
              </a:rPr>
              <a:t>The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16"/>
              </a:rPr>
              <a:t> 5th 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17"/>
              </a:rPr>
              <a:t>Annual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18"/>
              </a:rPr>
              <a:t> 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19"/>
              </a:rPr>
              <a:t>Search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20"/>
              </a:rPr>
              <a:t> 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21"/>
              </a:rPr>
              <a:t>Engine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22"/>
              </a:rPr>
              <a:t> 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23"/>
              </a:rPr>
              <a:t>Watch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24"/>
              </a:rPr>
              <a:t> 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25"/>
              </a:rPr>
              <a:t>Award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2. místo v kategorii Outstanding Search Service, bodoval napříč kategoriemi)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Google 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26"/>
              </a:rPr>
              <a:t>Scholar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336699"/>
                </a:solidFill>
                <a:uFillTx/>
                <a:latin typeface="Verdana"/>
                <a:hlinkClick r:id="rId27"/>
              </a:rPr>
              <a:t>MSN </a:t>
            </a:r>
            <a:r>
              <a:rPr b="0" lang="cs-CZ" sz="3000" spc="-1" strike="noStrike" u="sng">
                <a:solidFill>
                  <a:srgbClr val="336699"/>
                </a:solidFill>
                <a:uFillTx/>
                <a:latin typeface="Verdana"/>
                <a:hlinkClick r:id="rId28"/>
              </a:rPr>
              <a:t>Search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,  </a:t>
            </a:r>
            <a:r>
              <a:rPr b="0" lang="cs-CZ" sz="3000" spc="-1" strike="noStrike" u="sng">
                <a:solidFill>
                  <a:srgbClr val="336699"/>
                </a:solidFill>
                <a:uFillTx/>
                <a:latin typeface="Verdana"/>
                <a:hlinkClick r:id="rId29"/>
              </a:rPr>
              <a:t>Teoma</a:t>
            </a:r>
            <a:r>
              <a:rPr b="0" lang="cs-CZ" sz="3000" spc="-1" strike="noStrike" u="sng">
                <a:solidFill>
                  <a:srgbClr val="336699"/>
                </a:solidFill>
                <a:uFillTx/>
                <a:latin typeface="Verdana"/>
                <a:hlinkClick r:id="rId30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eznamy: </a:t>
            </a:r>
            <a:r>
              <a:rPr b="0" lang="cs-CZ" sz="2800" spc="-1" strike="noStrike" u="sng">
                <a:solidFill>
                  <a:srgbClr val="336699"/>
                </a:solidFill>
                <a:uFillTx/>
                <a:latin typeface="Verdana"/>
                <a:hlinkClick r:id="rId31"/>
              </a:rPr>
              <a:t>Browsing </a:t>
            </a:r>
            <a:r>
              <a:rPr b="0" lang="cs-CZ" sz="2800" spc="-1" strike="noStrike" u="sng">
                <a:solidFill>
                  <a:srgbClr val="336699"/>
                </a:solidFill>
                <a:uFillTx/>
                <a:latin typeface="Verdana"/>
                <a:hlinkClick r:id="rId32"/>
              </a:rPr>
              <a:t>and</a:t>
            </a:r>
            <a:r>
              <a:rPr b="0" lang="cs-CZ" sz="2800" spc="-1" strike="noStrike" u="sng">
                <a:solidFill>
                  <a:srgbClr val="336699"/>
                </a:solidFill>
                <a:uFillTx/>
                <a:latin typeface="Verdana"/>
                <a:hlinkClick r:id="rId33"/>
              </a:rPr>
              <a:t> </a:t>
            </a:r>
            <a:r>
              <a:rPr b="0" lang="cs-CZ" sz="2800" spc="-1" strike="noStrike" u="sng">
                <a:solidFill>
                  <a:srgbClr val="336699"/>
                </a:solidFill>
                <a:uFillTx/>
                <a:latin typeface="Verdana"/>
                <a:hlinkClick r:id="rId34"/>
              </a:rPr>
              <a:t>searching</a:t>
            </a:r>
            <a:r>
              <a:rPr b="0" lang="cs-CZ" sz="2800" spc="-1" strike="noStrike" u="sng">
                <a:solidFill>
                  <a:srgbClr val="336699"/>
                </a:solidFill>
                <a:uFillTx/>
                <a:latin typeface="Verdana"/>
                <a:hlinkClick r:id="rId35"/>
              </a:rPr>
              <a:t> Internet </a:t>
            </a:r>
            <a:r>
              <a:rPr b="0" lang="cs-CZ" sz="2800" spc="-1" strike="noStrike" u="sng">
                <a:solidFill>
                  <a:srgbClr val="336699"/>
                </a:solidFill>
                <a:uFillTx/>
                <a:latin typeface="Verdana"/>
                <a:hlinkClick r:id="rId36"/>
              </a:rPr>
              <a:t>resources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, Vyhledavace.wz.cz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Vyhledávací stroj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vojí typ rozhraní pro vyhledává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jednoduché rozhran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zadávaní jednoduchých dotazů, pokročilé dotazy – nutné znát dotazovací jazy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rozhraní pro pokročilé v. – návodné men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6699"/>
                </a:solidFill>
                <a:latin typeface="Verdana"/>
              </a:rPr>
              <a:t>Nástroje pro vyhledávání – formulace dotazů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ND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(+)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, OR, NOT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(AND NOT, -)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bool. operátory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AND – současný výskyt obou vyhledávacích termínů, zužuje dotaz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OR – alespoň jeden z vyhledávacích termínů, rozšiřuje dotaz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OT – operátor vyloučení dokumentů obsahující zadaný termí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ximitní operátory: </a:t>
            </a:r>
            <a:r>
              <a:rPr b="0" lang="cs-CZ" sz="3000" spc="-1" strike="noStrike">
                <a:solidFill>
                  <a:srgbClr val="336699"/>
                </a:solidFill>
                <a:latin typeface="Verdana"/>
              </a:rPr>
              <a:t>NEAR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(většinou 10 slov)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3000" spc="-1" strike="noStrike">
                <a:solidFill>
                  <a:srgbClr val="336699"/>
                </a:solidFill>
                <a:latin typeface="Verdana"/>
              </a:rPr>
              <a:t>ADJ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(adjacent),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336699"/>
                </a:solidFill>
                <a:latin typeface="Verdana"/>
              </a:rPr>
              <a:t>WIT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fráze </a:t>
            </a:r>
            <a:r>
              <a:rPr b="0" lang="en-US" sz="3000" spc="-1" strike="noStrike">
                <a:solidFill>
                  <a:srgbClr val="336699"/>
                </a:solidFill>
                <a:latin typeface="Verdana"/>
              </a:rPr>
              <a:t>“ ”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řetězec slov, které se v textu dokumentu musí vyskytovat v přesně stanoveném pořadí vedle seb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runcation – krácení podle slovních kořenů </a:t>
            </a:r>
            <a:r>
              <a:rPr b="0" lang="cs-CZ" sz="3000" spc="-1" strike="noStrike">
                <a:solidFill>
                  <a:srgbClr val="336699"/>
                </a:solidFill>
                <a:latin typeface="Verdana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temming –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vyzkoušejte stemming v pokročilém vyhledávání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wild cards – zástupné znaky </a:t>
            </a:r>
            <a:r>
              <a:rPr b="0" lang="cs-CZ" sz="3000" spc="-1" strike="noStrike">
                <a:solidFill>
                  <a:srgbClr val="336699"/>
                </a:solidFill>
                <a:latin typeface="Verdana"/>
              </a:rPr>
              <a:t>? *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Použití kulatých závore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změna pořadí pro vyhodnocován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incip „zevnitř-ven“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ýraz v závorce – bool. výraz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pojmy, které mají být vyhodnoceny jako první, musí být na nejnižší úrovni vnoření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9900"/>
                </a:solidFill>
                <a:latin typeface="Verdana"/>
              </a:rPr>
              <a:t>Třetí výraz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336699"/>
                </a:solidFill>
                <a:latin typeface="Verdana"/>
              </a:rPr>
              <a:t>(druhý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336699"/>
                </a:solidFill>
                <a:latin typeface="Verdana"/>
              </a:rPr>
              <a:t>výraz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cc0000"/>
                </a:solidFill>
                <a:latin typeface="Verdana"/>
              </a:rPr>
              <a:t>(první výraz k vyhodnocení)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336699"/>
                </a:solidFill>
                <a:latin typeface="Verdana"/>
              </a:rPr>
              <a:t>k vyhodnocení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výrazy na stejné úrovni – vyhodnocovány zleva doprav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x AND (y OR z) AND q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x y OR z q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340000" y="1413000"/>
            <a:ext cx="4005360" cy="4824360"/>
            <a:chOff x="2340000" y="1413000"/>
            <a:chExt cx="4005360" cy="4824360"/>
          </a:xfrm>
        </p:grpSpPr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2340000" y="1413000"/>
              <a:ext cx="4005360" cy="482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 txBox="1"/>
            <p:nvPr/>
          </p:nvSpPr>
          <p:spPr>
            <a:xfrm>
              <a:off x="2340000" y="1413000"/>
              <a:ext cx="4005360" cy="482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469800" indent="-46980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Použití filt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yhledávání podle po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rmální hlediska pro zpřesnění dotaz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mezení prostoru dokumentů, v němž je dotaz vyhodnocován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zadání do formulář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menu v pokročilém rozhraní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ze základního rozhraní pomocí definovaných příkazů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O co nám půjde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341000"/>
            <a:ext cx="80010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yhledávací nástroje/služby, které slouží k vyhledávání informačních zdrojů dostupných volně/veřejně v prostoru www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prohledávání tzv. povrchového webu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možné odkazy na placené zdroje, ne plný tex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120000"/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eviditelný web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invisible web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– informace „ukryté“ v databází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říkazy GOOG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ahoo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ZÁKLADNÍ TYP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9900"/>
                </a:solidFill>
                <a:latin typeface="Verdana"/>
              </a:rPr>
              <a:t>vyhledávací stroje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search engine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databáze vyhledávacího stroje je budována na základě automatizovaného sběru dat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(robot,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worm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červ,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spider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pavouk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vyhledávání na základě klíčových slov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9900"/>
                </a:solidFill>
                <a:latin typeface="Verdana"/>
              </a:rPr>
              <a:t>předmětové katalogy/adresáře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subject directories, subject services, portals ...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sběr informačních zdrojů ručně, jejich kategorizace – (spolu)pracovníci služby, inf. profesionálové a odborníci z oboru, tvůrci stráne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zpřístupňování IZ prostřednictvím schémat předmětové kategorizace – prohlížení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(brows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Browsing and searching Internet resour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ALE POZO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línání jednotlivých typů, stírání rozdíl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eustálé změn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Yahoo!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– původně předmětový katalog, dnes fulltextové vyhledávání, portá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Seznam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– fulltextové vyhledávání,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více viz </a:t>
            </a:r>
            <a:r>
              <a:rPr b="0" lang="cs-CZ" sz="23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Seznam vykročil k dospělosti</a:t>
            </a: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AltaVista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– připojen k databázi Yahoo!, neplatí mnoho původních pokročilých způsobů pro vyhledáván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Kde změny sledov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apř.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Search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 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Engine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 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Showdown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– novinky, recenze, charakteristika jednotlivých služeb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7"/>
              </a:rPr>
              <a:t>Search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8"/>
              </a:rPr>
              <a:t> 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9"/>
              </a:rPr>
              <a:t>Engine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10"/>
              </a:rPr>
              <a:t> 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11"/>
              </a:rPr>
              <a:t>Watch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12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– soustavně monitoruje vše, co se děje kolem vyhl. strojů a předmětových adresářů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ůběžné rešerše v oborových db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služby ALERT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Předmětové katalog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rganizovaný a strukturovaný přístup k informačním zdrojům na Internet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00"/>
                </a:solidFill>
                <a:latin typeface="Verdana"/>
              </a:rPr>
              <a:t>různá schémata předmětové kategorizac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erarchický princip, podřazení specifičtějšího tématu obecnému, seskupování příbuzných témat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00"/>
                </a:solidFill>
                <a:latin typeface="Verdana"/>
              </a:rPr>
              <a:t>portály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edle vyhledávání informací (katalogového i fulltextového typu) nabízejí zpravodajství, diskusní fóra, online zábavu, bezplatnou elektronickou schránku přes rozhraní webových stránek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549360"/>
            <a:ext cx="3924360" cy="54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9900"/>
                </a:solidFill>
                <a:latin typeface="Verdana"/>
              </a:rPr>
              <a:t>Komerčně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9900"/>
                </a:solidFill>
                <a:latin typeface="Verdana"/>
              </a:rPr>
              <a:t>orientované adresář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oslovení co nejširší veřejnost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oblasti společenského života – zábava, sport, obchod 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omezená anotace, různá kvali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Open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 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Directory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 Project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– 590 tis. kategorií, 4 mil. odkazů, 67 576 editorů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Yahoo!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– 3 mil. odkazů, tvůrci stráne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2920" y="549360"/>
            <a:ext cx="3924360" cy="54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Verdana"/>
              </a:rPr>
              <a:t>Oborové informační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Verdana"/>
              </a:rPr>
              <a:t>brány/předmětové brán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dpora rozvoje výzkumu, vědy a vzdělávání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zaměřeny oborově nebo univerzálně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zhodnocené IZ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ýběr na základě kritérií, informační specialisti, odborníc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žadavek kvalitního předmětového přístup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íce viz. </a:t>
            </a:r>
            <a:r>
              <a:rPr b="0" lang="en-US" sz="2200" spc="-1" strike="noStrike" u="sng">
                <a:solidFill>
                  <a:srgbClr val="336699"/>
                </a:solidFill>
                <a:uFillTx/>
                <a:latin typeface="Verdana"/>
                <a:hlinkClick r:id="rId7"/>
              </a:rPr>
              <a:t>Stoklasová,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336699"/>
                </a:solidFill>
                <a:latin typeface="Verdana"/>
              </a:rPr>
              <a:t>OIB - </a:t>
            </a:r>
            <a:r>
              <a:rPr b="0" i="1" lang="cs-CZ" sz="3400" spc="-1" strike="noStrike">
                <a:solidFill>
                  <a:srgbClr val="336699"/>
                </a:solidFill>
                <a:latin typeface="Verdana"/>
              </a:rPr>
              <a:t>quality-controlled subject gateways/subject gateway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seznam OIB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alší významné OIB univerzálního charakteru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Librarians' Index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schéma, LCS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Infomine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LCSH, LC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Academic 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Inf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7"/>
              </a:rPr>
              <a:t>Britannica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fulltex. vyhl. v encyklopedii, služba Web's Best Sites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8"/>
              </a:rPr>
              <a:t>Renardus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evropská polytematická informační brána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KDY použijeme OIB?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kruh předmětu je širok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chceme-li získat odkazy na webové stránky, které doporučují, hodnotí a anotují expert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chceme-li získat odkazy na webové sídla k danému tématu a ne seznam stránek obsažených v těchto sídlec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chceme-li se vyhnout IZ s nízkým obsahem, které vracejí S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16:58:22Z</dcterms:created>
  <dc:creator>SilvieP.</dc:creator>
  <dc:description/>
  <dc:language>en-US</dc:language>
  <cp:lastModifiedBy>Silvie Presová</cp:lastModifiedBy>
  <dcterms:modified xsi:type="dcterms:W3CDTF">2005-04-05T21:11:23Z</dcterms:modified>
  <cp:revision>22</cp:revision>
  <dc:subject/>
  <dc:title>Tvorba rešerší </dc:title>
</cp:coreProperties>
</file>