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B297-74DB-431F-BE5B-F245A1903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6F40-500D-43D0-81C5-D2F9F4EF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EE83-1302-4384-8E5D-06718E639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C1BF-F666-4A7A-ADDF-ABF17F15D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EA44-80F8-429F-8EDD-A80797A72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9480-13C8-4D80-B57F-7AAFE5A4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F1FA-85AE-4CD6-902C-C9D73AFE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86C0-5898-47C0-B082-E2A604D2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4CA6-1905-4EC7-BB42-2DB414F8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3220-9B8F-494A-91F9-F587C6B7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5B9F-8F2E-4EA6-8744-3B2355A6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E462-E881-4066-96A0-3CD0AEC9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A94A-2470-4EF8-8284-E066D498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7750-F021-4B71-9DA7-8FC35490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C5CD-4B7F-49E5-98FD-128A9837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FE4A-6DE9-4BCA-9937-55C5A8AAC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6745-518C-4676-BBC4-FF269B54D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3E78-C636-4B59-81E4-F9113CE0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4F43-942B-4F22-89A7-E87FAAE6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D059-A398-43CF-9339-232D285D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7376-A1AB-4488-8B9D-19C67800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3A20-0AB3-4403-B6E5-C2E0984E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44F6-0991-4BF4-9FED-D333C3C4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269A-9AE3-4A22-A9D3-BA4C90D3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4949-8CCE-46C9-8DFB-81BBF2BC972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DD21-DB56-4705-9858-780BF169500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eznam.cz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om/webhp?hl=cs" TargetMode="External"/><Relationship Id="rId3" Type="http://schemas.openxmlformats.org/officeDocument/2006/relationships/hyperlink" Target="http://www.google.com/webhp?hl=cs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cirus.com/srsapp/" TargetMode="External"/><Relationship Id="rId3" Type="http://schemas.openxmlformats.org/officeDocument/2006/relationships/hyperlink" Target="http://scholar.google.com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Vyhledávací stroje II</a:t>
            </a:r>
            <a:br>
              <a:rPr sz="3600"/>
            </a:br>
            <a:r>
              <a:rPr b="0" i="1" lang="en-US" sz="3200" spc="-1" strike="noStrike">
                <a:solidFill>
                  <a:srgbClr val="003366"/>
                </a:solidFill>
                <a:latin typeface="Verdana"/>
              </a:rPr>
              <a:t>jednoduché dotazy versus pokročil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Verdana"/>
              </a:rPr>
              <a:t>Rešeršní a studijně rozborová činnos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Verdana"/>
              </a:rPr>
              <a:t>15. 4. 200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5300640"/>
            <a:ext cx="3384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vyučující: Silvie Pres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presova</a:t>
            </a: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@</a:t>
            </a: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phil.muni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Kabinet knihovnictví – Ústav české literatury a knihovnictví, FF 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336699"/>
                </a:solidFill>
                <a:latin typeface="Verdana"/>
              </a:rPr>
              <a:t>Jednoduchý dotaz – simple que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adání klíčových slov bez použití log. operátor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ýhoda: není nutné znát dotazovací jazyk vyhledávací služb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výhoda: nadměrný počet hitů, nerelevantní záznam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říklad 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sokol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130000"/>
              <a:buFont typeface="Wingdings" charset="2"/>
              <a:buChar char="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zadejte uvedený výraz do vyhledávače a posuďte relevantnost hitů s tím, že se  zajímáte o historii Tělocvičné jednoty Sokol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Volba klíčových slov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otaz je sestavován z klíčových slov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tázka formulace dotaz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olba klíčových slov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počet klíčových slov: častá chyba – nedostatečný počet (v průměru dvě KS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jaké (ne)používat slovní druh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stopslova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(předložky, spojky, obecná slova) – ignorována roboty, nemají informační přín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Jaké (ne)používat slovní dru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00"/>
                </a:solidFill>
                <a:latin typeface="Verdana"/>
              </a:rPr>
              <a:t>podstatná jména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– těžištěm pro úspěšné vyhledávání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00"/>
                </a:solidFill>
                <a:latin typeface="Verdana"/>
              </a:rPr>
              <a:t>modifikátory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(přísudky, přídavná jména), </a:t>
            </a:r>
            <a:r>
              <a:rPr b="0" lang="en-US" sz="3000" spc="-1" strike="noStrike">
                <a:solidFill>
                  <a:srgbClr val="009900"/>
                </a:solidFill>
                <a:latin typeface="Verdana"/>
              </a:rPr>
              <a:t>slovesa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– různorodá, snadno zaměniteln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obecné pravid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120000"/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zahrnovat do dotazu slovesa a modifikátory (X jednoznačná identifikace objektu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Nalezení správné úrovně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olba klíčového slova pro vyjádření informační potřeby ve vztahu k míře specifičn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říliš obecné výrazy – nadměrný počet hit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ecifické výrazy – nebezpečí nulového výsledk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Synonyma, alternativní tva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9900"/>
                </a:solidFill>
                <a:latin typeface="Verdana"/>
              </a:rPr>
              <a:t>alternativní tvar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různé grafické podoby téhož slova: </a:t>
            </a: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Sarajevo/</a:t>
            </a: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Sarayev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9900"/>
                </a:solidFill>
                <a:latin typeface="Verdana"/>
              </a:rPr>
              <a:t>synonym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car/automobil/motor vehic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Vyhledávací strategi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9900"/>
                </a:solidFill>
                <a:latin typeface="Verdana"/>
              </a:rPr>
              <a:t>obecné vyhledávání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– uživatel ví o tématu velmi mál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9900"/>
                </a:solidFill>
                <a:latin typeface="Verdana"/>
              </a:rPr>
              <a:t>specifické vyhledávání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– uživatel zná velmi dobře tém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9900"/>
                </a:solidFill>
                <a:latin typeface="Verdana"/>
              </a:rPr>
              <a:t>inkrementální vyhledávání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– vyhledávání po krocí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9900"/>
                </a:solidFill>
                <a:latin typeface="Verdana"/>
              </a:rPr>
              <a:t>řetězcové vyhledávání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– nalezení více klíčových slov najedno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9900"/>
                </a:solidFill>
                <a:latin typeface="Verdana"/>
              </a:rPr>
              <a:t>vyhledej a skoč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– rychlá, dvoukroková vyhledávací technik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9900"/>
                </a:solidFill>
                <a:latin typeface="Verdana"/>
              </a:rPr>
              <a:t>kategoriální vyhledávání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– browsing, kategorizační schéma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130000"/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íce viz SKLENÁK, V. </a:t>
            </a:r>
            <a:r>
              <a:rPr b="0" lang="cs-CZ" sz="2000" spc="-1" strike="noStrike">
                <a:solidFill>
                  <a:srgbClr val="cc0000"/>
                </a:solidFill>
                <a:latin typeface="Verdana"/>
              </a:rPr>
              <a:t>Data, informace, znalosti a Internet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. Vyd. 1. Praha : C.H. Beck, 2001. xvii, 507 s. ISBN 80-7179-409-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PŘÍKLADY VYUŽITÍ STRATEGI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6608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užití specializovaných vyhledávacích strojů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SCIRIU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GOOGLE SCHOLA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rovnání služeb: 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ÍTŮ, M. </a:t>
            </a:r>
            <a:r>
              <a:rPr b="0" lang="cs-CZ" sz="2600" spc="-1" strike="noStrike">
                <a:solidFill>
                  <a:srgbClr val="009900"/>
                </a:solidFill>
                <a:latin typeface="Verdana"/>
              </a:rPr>
              <a:t>Google Scholar se rozvíjí - má Scirus konkurenci?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Ikaros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[online]. 2005, č. 03 [cit. 2005-04-10].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ostupné z: http://www.ikaros.cz/Clanek.asp?ID=200503003 ISSN 1212-5075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16:58:22Z</dcterms:created>
  <dc:creator>SilvieP.</dc:creator>
  <dc:description/>
  <dc:language>en-US</dc:language>
  <cp:lastModifiedBy>Silvie Presová</cp:lastModifiedBy>
  <dcterms:modified xsi:type="dcterms:W3CDTF">2005-06-07T17:46:29Z</dcterms:modified>
  <cp:revision>27</cp:revision>
  <dc:subject/>
  <dc:title>Tvorba rešerší </dc:title>
</cp:coreProperties>
</file>