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FCA-72AC-4B0D-AD2C-ED9CF6FB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D37B-C4C2-49BA-9E97-5594EEF4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C83A-5A2E-46F6-9361-09AA8170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8B93-5887-4BE1-9BD8-36496C31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EF20-5B72-4984-A15C-B9658D44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CCC6-2E1E-4E40-BD01-E13E4493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2950-DEE3-4FC6-A67F-00B8EAA3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303C-AB28-408B-9638-16C8ABE9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929A-4D1D-4E83-9DE0-DCC04A3B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74B4-0126-4C20-84A5-3533EDD5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9083-2EA7-4A21-ACEE-6C24D2F5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4E6C-E887-4191-A471-1E9F848C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F273-C47A-4B8F-A4AE-33893A5C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CCEC-2C4E-45A3-BC8A-1B884105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E151-4BE1-485D-826F-DE993ACF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EDD1-10C2-440B-8CEE-BF467E43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038E-24AD-4AF9-BE83-E0064188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A2A-09B5-42FF-8366-AB3A3C4F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8E4-F44C-4ECB-9104-7ADA8A8A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23D3-F694-4881-92E8-FA0A42C8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EA7F-AFE1-492C-BE77-DD6702EF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3D5-3A44-4E44-A123-CAB45FDA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4F3-3A57-4D37-A879-92EBDDB1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1DFD-D14D-4EBC-942C-99B716DE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03FF-6277-4E81-AAB3-7C0DFC9E0B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0A10-215C-4CA7-9AA2-F34F71D7B0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eznam.cz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webhp?hl=cs" TargetMode="External"/><Relationship Id="rId3" Type="http://schemas.openxmlformats.org/officeDocument/2006/relationships/hyperlink" Target="http://www.google.com/webhp?hl=cs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irus.com/srsapp/" TargetMode="External"/><Relationship Id="rId3" Type="http://schemas.openxmlformats.org/officeDocument/2006/relationships/hyperlink" Target="http://scholar.google.com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Vyhledávací stroje II</a:t>
            </a:r>
            <a:br>
              <a:rPr sz="3600"/>
            </a:br>
            <a:r>
              <a:rPr b="0" i="1" lang="en-US" sz="3200" spc="-1" strike="noStrike">
                <a:solidFill>
                  <a:srgbClr val="003366"/>
                </a:solidFill>
                <a:latin typeface="Verdana"/>
              </a:rPr>
              <a:t>jednoduché dotazy versus pokroči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Rešeršní a studijně rozborová činno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15. 4.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00640"/>
            <a:ext cx="338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336699"/>
                </a:solidFill>
                <a:latin typeface="Verdana"/>
              </a:rPr>
              <a:t>Jednoduchý dotaz – simple que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adání klíčových slov bez použití log. operáto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hoda: není nutné znát dotazovací jazyk vyhledávací služb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výhoda: nadměrný počet hitů, nerelevantní záznam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íklad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oko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30000"/>
              <a:buFont typeface="Wingding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zadejte uvedený výraz do vyhledávače a posuďte relevantnost hitů s tím, že se  zajímáte o historii Tělocvičné jednoty Sokol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olba klíčových slov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taz je sestavován z klíčových slo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tázka formulace dotaz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olba klíčových slov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počet klíčových slov: častá chyba – nedostatečný počet (v průměru dvě K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jaké (ne)používat slovní druh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topslov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(předložky, spojky, obecná slova) – ignorována roboty, nemají informační přín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Jaké (ne)používat slovní dru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Verdana"/>
              </a:rPr>
              <a:t>podstatná jmén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těžištěm pro úspěšné vyhledává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Verdana"/>
              </a:rPr>
              <a:t>modifikátor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(přísudky, přídavná jména), </a:t>
            </a:r>
            <a:r>
              <a:rPr b="0" lang="en-US" sz="3000" spc="-1" strike="noStrike">
                <a:solidFill>
                  <a:srgbClr val="009900"/>
                </a:solidFill>
                <a:latin typeface="Verdana"/>
              </a:rPr>
              <a:t>sloves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různorodá, snadno zaměniteln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obecné pravid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12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zahrnovat do dotazu slovesa a modifikátory (X jednoznačná identifikace objektu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alezení správné úrovně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lba klíčového slova pro vyjádření informační potřeby ve vztahu k míře specifič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říliš obecné výrazy – nadměrný počet hit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ecifické výrazy – nebezpečí nulového výsled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Synonyma, alternativní tva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9900"/>
                </a:solidFill>
                <a:latin typeface="Verdana"/>
              </a:rPr>
              <a:t>alternativní tvar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různé grafické podoby téhož slova: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arajevo/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Saraye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9900"/>
                </a:solidFill>
                <a:latin typeface="Verdana"/>
              </a:rPr>
              <a:t>synonym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car/automobil/motor vehic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yhledávací strategi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obecné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uživatel ví o tématu velmi mál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specifické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uživatel zná velmi dobře té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inkrementální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vyhledávání po krocí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řetězcové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nalezení více klíčových slov najedno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vyhledej a skoč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rychlá, dvoukroková vyhledávací technik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kategoriální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browsing, kategorizační schém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3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íce viz SKLENÁK, V. </a:t>
            </a:r>
            <a:r>
              <a:rPr b="0" lang="cs-CZ" sz="2000" spc="-1" strike="noStrike">
                <a:solidFill>
                  <a:srgbClr val="cc0000"/>
                </a:solidFill>
                <a:latin typeface="Verdana"/>
              </a:rPr>
              <a:t>Data, informace, znalosti a Interne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. Vyd. 1. Praha : C.H. Beck, 2001. xvii, 507 s. ISBN 80-7179-409-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ŘÍKLADY VYUŽITÍ STRATEGI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užití specializovaných vyhledávacích strojů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IRIU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GOOGLE SCHOL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rovnání služeb: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ÍTŮ, M. </a:t>
            </a:r>
            <a:r>
              <a:rPr b="0" lang="cs-CZ" sz="2600" spc="-1" strike="noStrike">
                <a:solidFill>
                  <a:srgbClr val="009900"/>
                </a:solidFill>
                <a:latin typeface="Verdana"/>
              </a:rPr>
              <a:t>Google Scholar se rozvíjí - má Scirus konkurenci?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Ikaro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[online]. 2005, č. 03 [cit. 2005-04-10].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stupné z: http://www.ikaros.cz/Clanek.asp?ID=200503003 ISSN 1212-5075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58:22Z</dcterms:created>
  <dc:creator>SilvieP.</dc:creator>
  <dc:description/>
  <dc:language>en-US</dc:language>
  <cp:lastModifiedBy>Silvie Presová</cp:lastModifiedBy>
  <dcterms:modified xsi:type="dcterms:W3CDTF">2005-06-07T17:46:29Z</dcterms:modified>
  <cp:revision>27</cp:revision>
  <dc:subject/>
  <dc:title>Tvorba rešerší </dc:title>
</cp:coreProperties>
</file>