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ED9-600F-4963-8A7B-6058E58F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802F-9F14-4CBA-92BD-32629E19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038-805B-49FE-8199-148DD78B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672-EAA2-4FBF-B51F-857CED5C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05C0-0B2A-4B33-8FD7-3F80D443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1E31-7558-4BE4-9CE4-8830F21D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237D-6531-43FC-8D3C-B403627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2550B-411B-4679-941E-3EB4441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2CC-DA3C-49D5-A0E9-08B23640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81A3-C1C9-492C-910A-B93CAB06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F0C8-6CCD-4377-B3F3-E329F9E6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516-139C-43F4-8F1E-D8924E8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362E-BA71-4240-AD43-92B6806F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E817-0177-4C41-8485-338C51F1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6F95-9A75-4C64-AB6B-3FFFF123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E77A-93F0-496B-8E78-547BA714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804-00A7-4BEA-99F4-58A77602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8F0-0117-4932-8CFC-35D8117F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2CA-D8E1-4077-A1EA-CA9D7C85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9D5-ECD4-449A-88C9-D79623D7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489-DB9A-421D-8464-30CB958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B2D-015D-4201-885B-F0B060B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546A-687F-4F65-95E3-E972E56B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044-EC4E-4B79-9622-8C4A6BA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56AC-F4A9-4100-87D6-8162CDD283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692-370F-486E-9083-791DF68E1B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znam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webhp?hl=cs" TargetMode="External"/><Relationship Id="rId3" Type="http://schemas.openxmlformats.org/officeDocument/2006/relationships/hyperlink" Target="http://www.google.com/webhp?hl=c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irus.com/srsapp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yhledávací stroje II</a:t>
            </a:r>
            <a:br>
              <a:rPr sz="3600"/>
            </a:b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jednoduché dotazy versus pokroči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5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Jednoduchý dotaz – simple qu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dání klíčových slov bez použití log. operá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hoda: není nutné znát dotazovací jazyk vyhledávací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ýhoda: nadměrný počet hitů, nerelevantní zázna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ok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zadejte uvedený výraz do vyhledávače a posuďte relevantnost hitů s tím, že se  zajímáte o historii Tělocvičné jednoty Soko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olba klíčových sl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taz je sestavován z klíčových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formulace dotaz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lba klíčových slo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očet klíčových slov: častá chyba – nedostatečný počet (v průměru dvě K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aké (ne)používat slovní druh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opslo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ředložky, spojky, obecná slova) – ignorována roboty, nemají informační pří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Jaké (ne)používat slovní dru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podstatná jmén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těžištěm pro úspěšné vyhledáv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modifiká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řísudky, přídavná jména), </a:t>
            </a: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sloves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různorodá, snadno zaměnitel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becné pravid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hrnovat do dotazu slovesa a modifikátory (X jednoznačná identifikace objekt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alezení správné úrovn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klíčového slova pro vyjádření informační potřeby ve vztahu k míře specifi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liš obecné výrazy – nadměrný počet hi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ké výrazy – nebezpečí nulového výsled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ynonyma, alternativní tv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alternativní tv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ůzné grafické podoby téhož slova: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arajevo/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araye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synonym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car/automobil/motor vehic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at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obecn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ví o tématu velmi má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specifick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zná velmi dobře t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inkrement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yhledávání po krocí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řetězcov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nalezení více klíčových slov najed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vyhledej a sko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ychlá, dvoukroková vyhledávací techn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kategori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rowsing, kategorizační schém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ce viz SKLENÁK, V. </a:t>
            </a:r>
            <a:r>
              <a:rPr b="0" lang="cs-CZ" sz="2000" spc="-1" strike="noStrike">
                <a:solidFill>
                  <a:srgbClr val="cc0000"/>
                </a:solidFill>
                <a:latin typeface="Verdana"/>
              </a:rPr>
              <a:t>Data, informace, znalosti a Interne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yd. 1. Praha : C.H. Beck, 2001. xvii, 507 s. ISBN 80-7179-409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KLADY VYUŽITÍ STRATEGI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specializovaných vyhledávacích stroj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IRIU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OOGLE SCHO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rovnání služeb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TŮ, M. </a:t>
            </a: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Google Scholar se rozvíjí - má Scirus konkurenci?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[online]. 2005, č. 03 [cit. 2005-04-10]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z: http://www.ikaros.cz/Clanek.asp?ID=200503003 ISSN 1212-5075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6-07T17:46:29Z</dcterms:modified>
  <cp:revision>27</cp:revision>
  <dc:subject/>
  <dc:title>Tvorba rešerší </dc:title>
</cp:coreProperties>
</file>