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0BC-C38B-4235-8635-F0E53AD7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8B51-CBCE-4DA8-9DE1-2FB9CBD8A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3AA7-4ED5-4EFD-93D9-A0A385E5F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265D-AEF7-4910-AAD3-C810EF45B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D53B-B2EB-4113-B95C-9A19DEC9A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BAFE-9099-4C0A-B1B5-C8471D37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25B0B-CBB0-4718-8FF4-E3A8835A6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BA2F-A425-41CC-9F28-556801DB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CC08-562A-4D0E-BC34-B3B43481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FAEAE-A126-4856-9D47-53B8B7890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9A6-F80F-4E21-A1AC-0D6F7D4D8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96C9-B7D3-470B-8D15-81FFD49E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9D1A-FB8C-4290-B63D-ABC614A66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4DAD-CBB1-467F-9DE8-8A555809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0C76C-E727-47F1-BFC6-358102BB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9970-EE7E-4921-A42E-E45CE6F8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951A-044F-4E59-8C9C-7468B6791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B4DC-62C1-4B82-B7BD-76C971C7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2DD9-EB43-4606-8113-AA0CA8B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BC1-950D-416B-AF1A-6D55BE729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D91-A1CB-453B-9236-FB2955BF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6F2-F82F-4B6A-9E9E-46640998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D2AF-1A66-412A-BF20-B895AEBA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35B3-29C4-44FE-8FC0-25BC6215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A04C-4E61-4132-86D1-35595E40243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79C5-F30C-45E5-8398-B13F8D7CE3C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eznam.cz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/webhp?hl=cs" TargetMode="External"/><Relationship Id="rId3" Type="http://schemas.openxmlformats.org/officeDocument/2006/relationships/hyperlink" Target="http://www.google.com/webhp?hl=cs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cirus.com/srsapp/" TargetMode="External"/><Relationship Id="rId3" Type="http://schemas.openxmlformats.org/officeDocument/2006/relationships/hyperlink" Target="http://scholar.google.com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yhledávací stroje II</a:t>
            </a:r>
            <a:br>
              <a:rPr sz="3600"/>
            </a:br>
            <a:r>
              <a:rPr b="0" i="1" lang="en-US" sz="3200" spc="-1" strike="noStrike">
                <a:solidFill>
                  <a:srgbClr val="003366"/>
                </a:solidFill>
                <a:latin typeface="Verdana"/>
              </a:rPr>
              <a:t>jednoduché dotazy versus pokroči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15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400" spc="-1" strike="noStrike">
                <a:solidFill>
                  <a:srgbClr val="336699"/>
                </a:solidFill>
                <a:latin typeface="Verdana"/>
              </a:rPr>
              <a:t>Jednoduchý dotaz – simple query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dání klíčových slov bez použití log. operátor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ýhoda: není nutné znát dotazovací jazyk vyhledávací služb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výhoda: nadměrný počet hitů, nerelevantní záznam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íklad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okol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zadejte uvedený výraz do vyhledávače a posuďte relevantnost hitů s tím, že se  zajímáte o historii Tělocvičné jednoty Sokol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olba klíčových slov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otaz je sestavován z klíčových slo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otázka formulace dotaz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olba klíčových slov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počet klíčových slov: častá chyba – nedostatečný počet (v průměru dvě K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Verdana"/>
              </a:rPr>
              <a:t>jaké (ne)používat slovní druh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opslov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(předložky, spojky, obecná slova) – ignorována roboty, nemají informační přín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Jaké (ne)používat slovní druh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podstatná jmén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těžištěm pro úspěšné vyhledává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modifikátory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přísudky, přídavná jména), </a:t>
            </a:r>
            <a:r>
              <a:rPr b="0" lang="en-US" sz="3000" spc="-1" strike="noStrike">
                <a:solidFill>
                  <a:srgbClr val="009900"/>
                </a:solidFill>
                <a:latin typeface="Verdana"/>
              </a:rPr>
              <a:t>sloves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– různorodá, snadno zaměniteln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obecné pravid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zahrnovat do dotazu slovesa a modifikátory (X jednoznačná identifikace objektu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alezení správné úrovně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olba klíčového slova pro vyjádření informační potřeby ve vztahu k míře specifičnost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íliš obecné výrazy – nadměrný počet hit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pecifické výrazy – nebezpečí nulového výsled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ynonyma, alternativní tvar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alternativní tvary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různé grafické podoby téhož slova: 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arajevo/</a:t>
            </a: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Saraye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9900"/>
                </a:solidFill>
                <a:latin typeface="Verdana"/>
              </a:rPr>
              <a:t>synonyma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– car/automobil/motor vehic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ací strategi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obecn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ví o tématu velmi mál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specifick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uživatel zná velmi dobře té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inkrement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vyhledávání po krocí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řetězcové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nalezení více klíčových slov najedno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vyhledej a skoč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rychlá, dvoukroková vyhledávací technik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9900"/>
                </a:solidFill>
                <a:latin typeface="Verdana"/>
              </a:rPr>
              <a:t>kategoriální vyhledávání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– browsing, kategorizační schéma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13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íce viz SKLENÁK, V. </a:t>
            </a:r>
            <a:r>
              <a:rPr b="0" lang="cs-CZ" sz="2000" spc="-1" strike="noStrike">
                <a:solidFill>
                  <a:srgbClr val="cc0000"/>
                </a:solidFill>
                <a:latin typeface="Verdana"/>
              </a:rPr>
              <a:t>Data, informace, znalosti a Interne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. Vyd. 1. Praha : C.H. Beck, 2001. xvii, 507 s. ISBN 80-7179-409-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ŘÍKLADY VYUŽITÍ STRATEGI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96608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oužití specializovaných vyhledávacích strojů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SCIRIU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GOOGLE SCHOL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rovnání služeb: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ÍTŮ, M. </a:t>
            </a:r>
            <a:r>
              <a:rPr b="0" lang="cs-CZ" sz="2600" spc="-1" strike="noStrike">
                <a:solidFill>
                  <a:srgbClr val="009900"/>
                </a:solidFill>
                <a:latin typeface="Verdana"/>
              </a:rPr>
              <a:t>Google Scholar se rozvíjí - má Scirus konkurenci?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[online]. 2005, č. 03 [cit. 2005-04-10].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ostupné z: http://www.ikaros.cz/Clanek.asp?ID=200503003 ISSN 1212-5075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8:22Z</dcterms:created>
  <dc:creator>SilvieP.</dc:creator>
  <dc:description/>
  <dc:language>en-US</dc:language>
  <cp:lastModifiedBy>Silvie Presová</cp:lastModifiedBy>
  <dcterms:modified xsi:type="dcterms:W3CDTF">2005-06-07T17:46:29Z</dcterms:modified>
  <cp:revision>27</cp:revision>
  <dc:subject/>
  <dc:title>Tvorba rešerší </dc:title>
</cp:coreProperties>
</file>