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B4B-56FE-485D-8694-1210725E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82C-D5B9-4534-A1C3-FC445A0B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909-325E-4772-A2E6-9C214662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FC0-619F-4E7B-9C16-56C61EF1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0C39-7C1E-47CF-ACD6-02EA0092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100E-383B-408E-A0A6-CE1C7DAE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F3C-B9FD-4F6A-94A8-55E7D8ED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B1F4-AEB3-4E89-9D95-EB92B9A9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FE23-844C-4788-8B85-E0B3F0B0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5E06-CA97-47FD-968B-091EDED6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CB63-3BFB-4603-8B5A-6B36CEB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38F-F0C0-462B-BDEB-3D91BA63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3EC2-7330-4059-ACE8-29BF7AF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6F02-F1D6-42BC-ADCE-DBF4E0D7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E558-EAE9-4F15-A927-109EBFE4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665F-4B03-41D1-AA71-1629D0DB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5EA1-01B9-41F9-8F98-D7ECF0A9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879-E445-4B35-8ED6-33CFB906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E97-0D50-4D87-99A6-223B2FEA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D1F-AD17-43C3-952F-4A064620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789-372B-481D-B4CF-FCCFB07B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15E-FFAD-40EC-8823-F0B3D4F1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D0A-AD91-4614-8841-A46AD3A1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829-E57A-4845-9505-EB543E6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E1F6-494E-43B0-ABEB-313DE7768D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800E-918F-4561-999A-E596AF96A5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Identifikace%20pojm&#367;%20re&#353;er&#353;n&#237;ho%20po&#382;adavku.doc" TargetMode="External"/><Relationship Id="rId3" Type="http://schemas.openxmlformats.org/officeDocument/2006/relationships/hyperlink" Target="http://sigma.nkp.cz/" TargetMode="External"/><Relationship Id="rId4" Type="http://schemas.openxmlformats.org/officeDocument/2006/relationships/hyperlink" Target="http://www.cbvk.cz/tinweb/k6.cgi?ST=00&amp;SID=000670C51C&amp;L=00&amp;KOD=04&amp;PZ=10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" TargetMode="External"/><Relationship Id="rId3" Type="http://schemas.openxmlformats.org/officeDocument/2006/relationships/hyperlink" Target="http://aip.nkp.cz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karos.cz/Clanek.asp?ID=200501001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Elektronick&#233;%20online%20katalogy_v_&#268;R.doc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Věcné zpřístupnění IZ prostřednictvím katalogů typu OP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29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ěcné SJ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ystematické SJ - MD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mětové S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mětová hes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eskriptorové SJ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ybridní systémy – skupiny Konspektu, PH NK Č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řízené termí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Znáš českou knihovnu, která používá uvedený SJ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Comic Sans MS"/>
              </a:rPr>
              <a:t>Tezaurus MeSH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Comic Sans MS"/>
              </a:rPr>
              <a:t>Tezaurus Eurovoc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Comic Sans MS"/>
              </a:rPr>
              <a:t>PH NKČR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Comic Sans MS"/>
              </a:rPr>
              <a:t>Polytematický strukturovaný hesláře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Comic Sans MS"/>
              </a:rPr>
              <a:t>skupiny Konspektu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Comic Sans MS"/>
              </a:rPr>
              <a:t>MDT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VYHLEDÁVÁNÍ V OPAC – obecný princi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33cc33"/>
                </a:solidFill>
                <a:latin typeface="Verdana"/>
              </a:rPr>
              <a:t>funkce a možnosti jednotlivých typů katalogů se liš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yhledávání (searching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hledávání v zadaných polích na základě formulovaného dotazu, zadání konkrétního jednoslovného či víceslovného výrazu do zvolených položek (název, autor, klíčové slovo, rok vydání, aj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ystém vyhledá záznamy, které ve zvolených položkách obsahují dané výrazy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listování, prohlížení (browsing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hlížení v rejstřících, listování v abecedně řazených položkách (autoři, názvy, předmětová hesla, atd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působy zapisování dotaz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men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příkazů (dotazovací jazyk, např. 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mmo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mman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L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nguag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)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WKW=ženy OR WKW=feminismus) AND WKW=česko AND WKW=společensk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pisování do vyhledávacích pol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kročilé dota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olovské operátory: AND, OR, 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ximitní operá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o/levostranné krácení - ? 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stupné znaky - ? !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rešeršní dota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omic Sans MS"/>
              </a:rPr>
              <a:t>postavení žen v České republice  - jak se změnila situace od revoluce v roce 198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dentifikace klíčových pojm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áz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leph –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NK Č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 – Series -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Jihočeská vědecká knihovna v Českých Budějovicích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Vyzkoušejte a porovnej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ledávání v ČN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systému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lep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– v rámci báze NKC NK Č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systému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orná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Souborn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f. TDKIV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nihovní katalog obsahující částečně nebo v úplnosti záznamy dokumentů více než jedné knihovny nebo informační instituce. Záznamy obsahují sigly knihoven, které identifikují vlastníka dokumen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Souborn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ypologie elektronických S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centralizovan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álný – odstředivý x dostřediv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irtuál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ef. viz TDKI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ilustrační obrázk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viz. </a:t>
            </a:r>
            <a:r>
              <a:rPr b="0" lang="cs-CZ" sz="2200" spc="-1" strike="noStrike">
                <a:solidFill>
                  <a:srgbClr val="336699"/>
                </a:solidFill>
                <a:latin typeface="Verdana"/>
              </a:rPr>
              <a:t>Stöklová, A.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336699"/>
                </a:solidFill>
                <a:latin typeface="Verdana"/>
              </a:rPr>
              <a:t>Organizace knihovního fondu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Informační studia a knihovnictví v elektronických textech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[CD-ROM]. Praha : Univerzita Karlova, Ústav informačních studií a knihovnictví, 2002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K v Č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árodní, regionální, institucionální, oborové, virtuál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ehled viz Bulínová, Eva. </a:t>
            </a:r>
            <a:r>
              <a:rPr b="0" lang="en-US" sz="2600" spc="-1" strike="noStrike">
                <a:solidFill>
                  <a:srgbClr val="33cc33"/>
                </a:solidFill>
                <a:latin typeface="Verdana"/>
              </a:rPr>
              <a:t>Souborné katalogy v Česku a na Slovensk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kar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[online]. 2005, č. 1. Dostupné z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ikaros.cz/Clanek.asp?ID=20050100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nihovní kata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druh sekundárního dokument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ý odráží konkrétní dokumentový fond a jeho vytváření se řídí pravid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kládá se z jednotlivých záznamů o dokument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součástí sekundárního/dokumentograf. fondu určité knihovny spolu s bibliografiemi, citačními rejstříky ap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elekčním nástroje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tj. nástrojem, který umožňuje výběr relevantních dokument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ouborné katalogy - omez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olehlivé vyhledávání na základě věcných sel. prv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kud není jedna autoritní báze (národní báze autorit, SVK Olomouc, NK ČR, MZK v Brně, stejná indexační pravidl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pojovací jazyk, kompatibilita mezi SJ,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nejednotnost SJ – nutné použít více vari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edávání na základě identifikačních sel. údajů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ROD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Č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árodní reálný heterogenní souborný katalog, který je budován dávkově, což v praxi znamená, že do jedné databáze se shromažďují záznamy o dokumentech českých a moravských knihoven, které používají různé knihovní systém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tevřen všem knihovná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držování přijatých standard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minimální záznam MARC 21/UNIMAR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ěcné zpracování – MDT, skupiny Konspek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k 13.12.2004  naimportováno: 3 691 975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knihy, seriá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ROD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A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knihoven používajících AKS LANius/CLAVI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23 738 záznamů odborné a reg. literatury (-beletrie, -poezie, -divadelní hry), 115 knihoven Č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IRTUÁLNÍ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3924000" cy="1969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cc33"/>
                </a:solidFill>
                <a:latin typeface="Verdana"/>
              </a:rPr>
              <a:t>Virtuální souborný katalog knihoven s TinWeb/T Series</a:t>
            </a: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ttp://tinweb.multidata.cz/tinweb/vkt/t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537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arslruher Virtueller Katalog KV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45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orovnej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nihovní katalog - funk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okační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katalogizační záznam informuje o tom, zda určité hledané dílo, dílo určité tematiky, či určitého autora je v daném fondu a kde je ulož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ibliografická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informuje o tom, jaké dokumenty od téhož autora, nebo určité tematiky existují, tuto funkci plní zejména katalogy národních instituc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šeršní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katalogizační záznam umožňuje efektivní vyhledání dokumen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pagační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katalogizační záznam informuje o nově vydaných dokumente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nihovní katalogy - členě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podle úplnost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úplné, dílčí, soubor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podle typů zpřístupňovaných dokumentů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katalog knih, periodik, firemní literatury, speciálních dokumentů, apod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nihovní katalog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– podle formy zpřístupnění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ístkové, listové, svazkové a elektronick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. katalog, tj. obsahující záznamy ve strojem čitelné podob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e druhem bibliografické databáz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n-line el. katalog, tj. přístupný prostřednictvím počítačové sítě, např. internet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Lístkové k. versus elektronick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el. katalog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áznam o dokumentu pouze jedenkrát, vícehlediskové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lístkové katalog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vytvoření systému katalogů, aby bylo možné vyhledávat podle různých kritéri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dle druhu dotaz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jmenný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abecední řazení podle autora, názvu, korpor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systematick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předmětový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řazení abecední podle předmětových hese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0000"/>
                </a:solidFill>
                <a:latin typeface="Comic Sans MS"/>
              </a:rPr>
              <a:t>pokud nenaleznete v el. katalogu knihovny starší publik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mic Sans MS"/>
              </a:rPr>
              <a:t>obraťte svou pozornost na katalogy klasick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skenované katalogizační lístky dostupné přes webové stránky knihoven (UK FF MU, KATIF NK Č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stupné v knihovně fyzicky v zásuvká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s dovolením pracovníků zajděte do sklepení, naleznete možná bohatstv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OPA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line </a:t>
            </a: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blic </a:t>
            </a: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cess </a:t>
            </a: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talog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eřejně dostupný online katalog určený uživatelům knihovn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jeden z modulů automatizovaného knihovního systému konkrétní knihovny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edle vlastního vyhledávání záznamů dokumentů zpřístupňuje řadu dalších služeb, např. správa uživatelského konta, přístup k dalším informačním zdrojům ap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řehled katalogů v ČR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ÁNÍ V OPA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dobně jak v db: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zázn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p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braná pole indexována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elekční údaje určené pro vyhledávání </a:t>
            </a:r>
            <a:r>
              <a:rPr b="0" lang="cs-CZ" sz="2000" spc="-1" strike="noStrike">
                <a:solidFill>
                  <a:srgbClr val="33cc33"/>
                </a:solidFill>
                <a:latin typeface="Verdana"/>
              </a:rPr>
              <a:t>(X věcné selekční úda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lekční údaje získané 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dentifikačního popisu - formální charakteristiky dokumen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ěcného popisu/indexování/kla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6-08T19:08:02Z</dcterms:modified>
  <cp:revision>30</cp:revision>
  <dc:subject/>
  <dc:title>Tvorba rešerší 2 </dc:title>
</cp:coreProperties>
</file>