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8945-58C9-453C-9E83-27CBA14A26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7AE71-AFF6-497D-A0D6-2A7EC2F6A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E972-ACBA-408B-B55A-79CDB54D7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08A3F-5BAF-47D2-9D7D-39AF0E0101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AB212-53FE-4FF5-8640-877C68E69E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17481-103B-4E97-AB3B-84A6944DC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4CFAEE-2912-4B3D-9BA6-B0D35C487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EB85B-9B83-4E30-A2DE-578648DD8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FD2E6-8DDF-40BF-9E00-8018BC31F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A24D4-1DC9-497B-A28A-8496114219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5BC64-2748-46A1-A15F-C579C0437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90A87-667E-46FE-A707-97B0079D0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AEB71-1930-43D5-9A94-99F9C6AAD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850A0-D61D-4FF5-95BF-8B800170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981862-3827-4B4A-8ABD-AC6D74A631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E42652-4918-4F43-A638-45F262A5C6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B2961-E5B6-4272-8687-591D7926F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9C8F6-F5D1-4169-948C-B5E158BE1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BB98E-D7F3-4F80-B36D-F36B83761C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82D43-2A92-4465-9721-FEEA35674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FB7C-D461-4617-B039-F794D4203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CA1A-8688-4151-A52E-05636C6BA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CC1F-3979-408A-BF32-53E96F6AF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842D-082C-427A-BC13-196B01DFD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6AD7E-3822-4EF9-93B5-EE8CD71D1600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DE7BD3-D444-474D-8CE5-948CB6055FB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Identifikace%20pojm&#367;%20re&#353;er&#353;n&#237;ho%20po&#382;adavku.doc" TargetMode="External"/><Relationship Id="rId3" Type="http://schemas.openxmlformats.org/officeDocument/2006/relationships/hyperlink" Target="http://sigma.nkp.cz/" TargetMode="External"/><Relationship Id="rId4" Type="http://schemas.openxmlformats.org/officeDocument/2006/relationships/hyperlink" Target="http://www.cbvk.cz/tinweb/k6.cgi?ST=00&amp;SID=000670C51C&amp;L=00&amp;KOD=04&amp;PZ=10" TargetMode="External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sigma.nkp.cz/" TargetMode="External"/><Relationship Id="rId3" Type="http://schemas.openxmlformats.org/officeDocument/2006/relationships/hyperlink" Target="http://aip.nkp.cz/" TargetMode="External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ikaros.cz/Clanek.asp?ID=200501001" TargetMode="External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file:///Elektronick&#233;%20online%20katalogy_v_&#268;R.doc" TargetMode="External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66"/>
                </a:solidFill>
                <a:latin typeface="Verdana"/>
              </a:rPr>
              <a:t>Věcné zpřístupnění IZ prostřednictvím katalogů typu OPAC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560" y="342864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Rešeršní a studijně rozborová činnost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3366"/>
                </a:solidFill>
                <a:latin typeface="Verdana"/>
              </a:rPr>
              <a:t>29. 4. 2005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"/>
          <p:cNvSpPr/>
          <p:nvPr/>
        </p:nvSpPr>
        <p:spPr>
          <a:xfrm>
            <a:off x="971640" y="5300640"/>
            <a:ext cx="338436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vyučující: Silvie Presov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resova</a:t>
            </a:r>
            <a:r>
              <a:rPr b="1" lang="en-US" sz="1800" spc="-1" strike="noStrike">
                <a:solidFill>
                  <a:srgbClr val="336699"/>
                </a:solidFill>
                <a:latin typeface="Verdana"/>
              </a:rPr>
              <a:t>@</a:t>
            </a: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phil.muni.c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336699"/>
                </a:solidFill>
                <a:latin typeface="Verdana"/>
              </a:rPr>
              <a:t>Kabinet knihovnictví – Ústav české literatury a knihovnictví, FF M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ěcné SJ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ystematické SJ - MD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ředmětové SJ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předmětová hesla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deskriptorové SJ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hybridní systémy – skupiny Konspektu, PH NK ČR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neřízené termín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cc0000"/>
                </a:solidFill>
                <a:latin typeface="Verdana"/>
              </a:rPr>
              <a:t>Znáš českou knihovnu, která používá uvedený SJ?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Comic Sans MS"/>
              </a:rPr>
              <a:t>Tezaurus MeSH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Comic Sans MS"/>
              </a:rPr>
              <a:t>Tezaurus Eurovoc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Comic Sans MS"/>
              </a:rPr>
              <a:t>PH NKČR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6699"/>
                </a:solidFill>
                <a:latin typeface="Comic Sans MS"/>
              </a:rPr>
              <a:t>Polytematický strukturovaný hesláře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33cc33"/>
                </a:solidFill>
                <a:latin typeface="Comic Sans MS"/>
              </a:rPr>
              <a:t>skupiny Konspektu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cc0000"/>
                </a:solidFill>
                <a:latin typeface="Comic Sans MS"/>
              </a:rPr>
              <a:t>MDT</a:t>
            </a: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 ??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VYHLEDÁVÁNÍ V OPAC – obecný princip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100" spc="-1" strike="noStrike">
                <a:solidFill>
                  <a:srgbClr val="33cc33"/>
                </a:solidFill>
                <a:latin typeface="Verdana"/>
              </a:rPr>
              <a:t>funkce a možnosti jednotlivých typů katalogů se liší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vyhledávání (searching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vyhledávání v zadaných polích na základě formulovaného dotazu, zadání konkrétního jednoslovného či víceslovného výrazu do zvolených položek (název, autor, klíčové slovo, rok vydání, aj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systém vyhledá záznamy, které ve zvolených položkách obsahují dané výrazy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100" spc="-1" strike="noStrike">
                <a:solidFill>
                  <a:srgbClr val="000000"/>
                </a:solidFill>
                <a:latin typeface="Verdana"/>
              </a:rPr>
              <a:t>listování, prohlížení (browsing)</a:t>
            </a:r>
            <a:r>
              <a:rPr b="0" lang="cs-CZ" sz="21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Verdana"/>
              </a:rPr>
              <a:t>prohlížení v rejstřících, listování v abecedně řazených položkách (autoři, názvy, předmětová hesla, atd.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Způsoby zapisování dotazů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menu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omocí příkazů (dotazovací jazyk, např.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mmon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C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ommand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cc0000"/>
                </a:solidFill>
                <a:latin typeface="Verdana"/>
              </a:rPr>
              <a:t>L</a:t>
            </a:r>
            <a:r>
              <a:rPr b="0" lang="cs-CZ" sz="2400" spc="-1" strike="noStrike">
                <a:solidFill>
                  <a:srgbClr val="000000"/>
                </a:solidFill>
                <a:latin typeface="Verdana"/>
              </a:rPr>
              <a:t>anguage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) </a:t>
            </a:r>
            <a:r>
              <a:rPr b="0" lang="cs-CZ" sz="1600" spc="-1" strike="noStrike">
                <a:solidFill>
                  <a:srgbClr val="000000"/>
                </a:solidFill>
                <a:latin typeface="Verdana"/>
              </a:rPr>
              <a:t>(WKW=ženy OR WKW=feminismus) AND WKW=česko AND WKW=společensk?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apisování do vyhledávacích pol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Pokročilé dotaz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boolovské operátory: AND, OR, NO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oximitní operátor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pravo/levostranné krácení - ? *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zástupné znaky - ? !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#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Příkl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Comic Sans MS"/>
              </a:rPr>
              <a:t>rešeršní dota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600" spc="-1" strike="noStrike">
                <a:solidFill>
                  <a:srgbClr val="000000"/>
                </a:solidFill>
                <a:latin typeface="Comic Sans MS"/>
              </a:rPr>
              <a:t>postavení žen v České republice  - jak se změnila situace od revoluce v roce 1989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identifikace klíčových pojmů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-43668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ukázk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leph –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NK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844200" indent="-4057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 – Series - </a:t>
            </a:r>
            <a:r>
              <a:rPr b="0" lang="cs-CZ" sz="26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Jihočeská vědecká knihovna v Českých Budějovicích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366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Vyzkoušejte a porovnejt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vyhledávání v ČNB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systém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Aleph </a:t>
            </a: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– v rámci báze NKC NK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v systému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Torná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Souborn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def. TDKIV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Knihovní katalog obsahující částečně nebo v úplnosti záznamy dokumentů více než jedné knihovny nebo informační instituce. Záznamy obsahují sigly knihoven, které identifikují vlastníka dokumentu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Souborné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typologie elektronických SK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centralizovan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reálný – odstředivý x dostředivý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irtuální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def. viz TDKIV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ilustrační obrázky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viz. </a:t>
            </a:r>
            <a:r>
              <a:rPr b="0" lang="cs-CZ" sz="2200" spc="-1" strike="noStrike">
                <a:solidFill>
                  <a:srgbClr val="336699"/>
                </a:solidFill>
                <a:latin typeface="Verdana"/>
              </a:rPr>
              <a:t>Stöklová, A.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2200" spc="-1" strike="noStrike">
                <a:solidFill>
                  <a:srgbClr val="336699"/>
                </a:solidFill>
                <a:latin typeface="Verdana"/>
              </a:rPr>
              <a:t>Organizace knihovního fondu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cs-CZ" sz="2200" spc="-1" strike="noStrike">
                <a:solidFill>
                  <a:srgbClr val="000000"/>
                </a:solidFill>
                <a:latin typeface="Verdana"/>
              </a:rPr>
              <a:t>Informační studia a knihovnictví v elektronických textech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[CD-ROM]. Praha : Univerzita Karlova, Ústav informačních studií a knihovnictví, 2002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K v Č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árodní, regionální, institucionální, oborové, virtuální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přehled viz Bulínová, Eva. </a:t>
            </a:r>
            <a:r>
              <a:rPr b="0" lang="en-US" sz="2600" spc="-1" strike="noStrike">
                <a:solidFill>
                  <a:srgbClr val="33cc33"/>
                </a:solidFill>
                <a:latin typeface="Verdana"/>
              </a:rPr>
              <a:t>Souborné katalogy v Česku a na Slovensku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i="1" lang="en-US" sz="2600" spc="-1" strike="noStrike">
                <a:solidFill>
                  <a:srgbClr val="000000"/>
                </a:solidFill>
                <a:latin typeface="Verdana"/>
              </a:rPr>
              <a:t>Ikaros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[online]. 2005, č. 1. Dostupné z 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ikaros.cz/Clanek.asp?ID=200501001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druh sekundárního dokumentu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který odráží konkrétní dokumentový fond a jeho vytváření se řídí pravidl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kládá se z jednotlivých záznamů o dokumentech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součástí sekundárního/dokumentograf. fondu určité knihovny spolu s bibliografiemi, citačními rejstříky apod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je </a:t>
            </a:r>
            <a:r>
              <a:rPr b="1" lang="cs-CZ" sz="2600" spc="-1" strike="noStrike">
                <a:solidFill>
                  <a:srgbClr val="000000"/>
                </a:solidFill>
                <a:latin typeface="Verdana"/>
              </a:rPr>
              <a:t>selekčním nástrojem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, tj. nástrojem, který umožňuje výběr relevantních dokumentů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Souborné katalogy - omeze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espolehlivé vyhledávání na základě věcných sel. prvků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okud není jedna autoritní báze (národní báze autorit, SVK Olomouc, NK ČR, MZK v Brně, stejná indexační pravidla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propojovací jazyk, kompatibilita mezi SJ, </a:t>
            </a:r>
            <a:r>
              <a:rPr b="1" lang="cs-CZ" sz="2200" spc="-1" strike="noStrike">
                <a:solidFill>
                  <a:srgbClr val="000000"/>
                </a:solidFill>
                <a:latin typeface="Verdana"/>
              </a:rPr>
              <a:t>nejednotnost SJ – nutné použít více varia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yhledávání na základě identifikačních sel. údajů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ROD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Č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národní reálný heterogenní souborný katalog, který je budován dávkově, což v praxi znamená, že do jedné databáze se shromažďují záznamy o dokumentech českých a moravských knihoven, které používají různé knihovní systém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otevřen všem knihovnám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dodržování přijatých standardů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00"/>
                </a:solidFill>
                <a:uFillTx/>
                <a:latin typeface="Verdana"/>
              </a:rPr>
              <a:t>minimální záznam MARC 21/UNIMARC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lnSpc>
                <a:spcPct val="90000"/>
              </a:lnSpc>
              <a:spcBef>
                <a:spcPts val="56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Verdana"/>
              </a:rPr>
              <a:t>věcné zpracování – MDT, skupiny Konspektu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 13.12.2004  naimportováno: 3 691 975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knihy, seriál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NÁROD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KAT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souborný katalog knihoven používajících AKS LANius/CLAVIU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223 738 záznamů odborné a reg. literatury (-beletrie, -poezie, -divadelní hry), 115 knihoven ČR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IRTUÁLNÍ KATALOG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2"/>
          <a:stretch/>
        </p:blipFill>
        <p:spPr>
          <a:xfrm>
            <a:off x="684360" y="1916280"/>
            <a:ext cx="3924000" cy="19699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642920" y="1752480"/>
            <a:ext cx="392436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600" spc="-1" strike="noStrike">
                <a:solidFill>
                  <a:srgbClr val="33cc33"/>
                </a:solidFill>
                <a:latin typeface="Verdana"/>
              </a:rPr>
              <a:t>Virtuální souborný katalog knihoven s TinWeb/T Series</a:t>
            </a:r>
            <a:r>
              <a:rPr b="0" lang="cs-CZ" sz="2600" spc="-1" strike="noStrike">
                <a:solidFill>
                  <a:srgbClr val="33cc33"/>
                </a:solidFill>
                <a:latin typeface="Verdana"/>
              </a:rPr>
              <a:t> </a:t>
            </a:r>
            <a:br>
              <a:rPr sz="2600"/>
            </a:b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http://tinweb.multidata.cz/tinweb/vkt/tw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826920" y="5373720"/>
            <a:ext cx="39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Karslruher Virtueller Katalog KVK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26920" y="4581360"/>
            <a:ext cx="39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cc0000"/>
                </a:solidFill>
                <a:latin typeface="Verdana"/>
              </a:rPr>
              <a:t>porovnej 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 - funkc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lokač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informuje o tom, zda určité hledané dílo, dílo určité tematiky, či určitého autora je v daném fondu a kde je uložen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bibliografická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informuje o tom, jaké dokumenty od téhož autora, nebo určité tematiky existují, tuto funkci plní zejména katalogy národních institucí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rešerš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umožňuje efektivní vyhledání dokumen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propagační funkce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- katalogizační záznam informuje o nově vydaných dokumentech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Knihovní katalogy - členění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podle úplnosti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(úplné, dílčí, souborné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cc33"/>
                </a:solidFill>
                <a:latin typeface="Verdana"/>
              </a:rPr>
              <a:t>podle typů zpřístupňovaných dokumentů</a:t>
            </a:r>
            <a:r>
              <a:rPr b="1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katalog knih, periodik, firemní literatury, speciálních dokumentů, apod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Knihovní katalogy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400" spc="-1" strike="noStrike">
                <a:solidFill>
                  <a:srgbClr val="336699"/>
                </a:solidFill>
                <a:latin typeface="Verdana"/>
              </a:rPr>
              <a:t>– podle formy zpřístupnění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lístkové, listové, svazkové a elektronické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l. katalog, tj. obsahující záznamy ve strojem čitelné podobě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je druhem bibliografické databáz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on-line el. katalog, tj. přístupný prostřednictvím počítačové sítě, např. internetu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cc33"/>
                </a:solidFill>
                <a:latin typeface="Verdana"/>
              </a:rPr>
              <a:t>Lístkové k. versus elektronické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el. katalog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záznam o dokumentu pouze jedenkrát, vícehlediskové vyhledáván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336699"/>
                </a:solidFill>
                <a:latin typeface="Verdana"/>
              </a:rPr>
              <a:t>lístkové katalogy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– vytvoření systému katalogů, aby bylo možné vyhledávat podle různých kritérií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odle druhu dotazů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jmenný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abecední řazení podle autora, názvu, korporac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systematický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cc0000"/>
                </a:solidFill>
                <a:latin typeface="Verdana"/>
              </a:rPr>
              <a:t>předmětový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– řazení abecední podle předmětových hesel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120000"/>
              <a:buFont typeface="Wingdings" charset="2"/>
              <a:buChar char="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3000" spc="-1" strike="noStrike">
                <a:solidFill>
                  <a:srgbClr val="cc0000"/>
                </a:solidFill>
                <a:latin typeface="Comic Sans MS"/>
              </a:rPr>
              <a:t>pokud nenaleznete v el. katalogu knihovny starší publikaci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Comic Sans MS"/>
              </a:rPr>
              <a:t>obraťte svou pozornost na katalogy klasické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naskenované katalogizační lístky dostupné přes webové stránky knihoven (UK FF MU, KATIF NK ČR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mic Sans MS"/>
              </a:rPr>
              <a:t>dostupné v knihovně fyzicky v zásuvkách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100" spc="-1" strike="noStrike">
                <a:solidFill>
                  <a:srgbClr val="000000"/>
                </a:solidFill>
                <a:latin typeface="Comic Sans MS"/>
              </a:rPr>
              <a:t>s dovolením pracovníků zajděte do sklepení, naleznete možná bohatství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OPA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O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nline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P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ublic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A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ccess </a:t>
            </a:r>
            <a:r>
              <a:rPr b="0" lang="cs-CZ" sz="2600" spc="-1" strike="noStrike">
                <a:solidFill>
                  <a:srgbClr val="336699"/>
                </a:solidFill>
                <a:latin typeface="Verdana"/>
              </a:rPr>
              <a:t>C</a:t>
            </a: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atalog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eřejně dostupný online katalog určený uživatelům knihovny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jeden z modulů automatizovaného knihovního systému konkrétní knihovny </a:t>
            </a:r>
            <a:br>
              <a:rPr sz="2200"/>
            </a:b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vedle vlastního vyhledávání záznamů dokumentů zpřístupňuje řadu dalších služeb, např. správa uživatelského konta, přístup k dalším informačním zdrojům apod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přehled katalogů v ČR</a:t>
            </a:r>
            <a:r>
              <a:rPr b="0" lang="cs-CZ" sz="2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336699"/>
                </a:solidFill>
                <a:latin typeface="Verdana"/>
              </a:rPr>
              <a:t>VYHLEDÁVÁNÍ V OPA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obdobně jak v db: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záznam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cs-CZ" sz="3000" spc="-1" strike="noStrike">
                <a:solidFill>
                  <a:srgbClr val="336699"/>
                </a:solidFill>
                <a:latin typeface="Verdana"/>
              </a:rPr>
              <a:t>po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vybraná pole indexována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&gt;</a:t>
            </a: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 selekční údaje určené pro vyhledávání </a:t>
            </a:r>
            <a:r>
              <a:rPr b="0" lang="cs-CZ" sz="2000" spc="-1" strike="noStrike">
                <a:solidFill>
                  <a:srgbClr val="33cc33"/>
                </a:solidFill>
                <a:latin typeface="Verdana"/>
              </a:rPr>
              <a:t>(X věcné selekční údaj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000" spc="-1" strike="noStrike">
                <a:solidFill>
                  <a:srgbClr val="000000"/>
                </a:solidFill>
                <a:latin typeface="Verdana"/>
              </a:rPr>
              <a:t>selekční údaje získané 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identifikačního popisu - formální charakteristiky dokumentu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Verdana"/>
              </a:rPr>
              <a:t>věcného popisu/indexování/klasifikac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3-25T06:02:53Z</dcterms:created>
  <dc:creator>Silvie Presová</dc:creator>
  <dc:description/>
  <dc:language>en-US</dc:language>
  <cp:lastModifiedBy>Silvie Presová</cp:lastModifiedBy>
  <dcterms:modified xsi:type="dcterms:W3CDTF">2005-06-08T19:08:02Z</dcterms:modified>
  <cp:revision>30</cp:revision>
  <dc:subject/>
  <dc:title>Tvorba rešerší 2 </dc:title>
</cp:coreProperties>
</file>