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257-C868-422B-B34B-29FDC0D1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425-CC92-40D3-9C0B-9F4FB8E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161-FAB2-451F-9FD1-7923B6E3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571-3334-4397-82A5-29CEB5A8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D0C-09A2-494C-A653-CC0AD6DB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EB05-5605-4411-B1A9-987297BA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43D-E8DB-4FB7-8CFA-6FC1CF1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673-AEF9-43A9-8A57-1C9B4729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2BCC-F686-465F-9918-FD5A3F0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394C-3280-4445-9426-C29AC93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0155-30BD-418B-A3CB-ED56F48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CC9-F5A5-42DD-9789-91BA985E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D9CB-2847-4ACE-88BA-B2F64AB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E535-A1DF-4C59-8024-6FB0FA8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74F1-6942-4FFB-873E-47BC51C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BB2-AC46-4E3C-84A7-4D7864C8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63C1-05B2-4C8E-8418-F899005B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DEA-DA11-4065-8153-DED01A67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3B8-BF73-496C-ABF0-7521D27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FCE-DF28-4BF5-9C45-21A1CCD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5AE-1A65-4D37-BB53-AC04DA4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994-CFA0-4197-8953-251BDC5C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12B-55F2-4E11-B69F-8F86186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6D4-507E-429D-8CEA-D3B34B5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EF01-2B56-4746-BBF6-6706A6DA9A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574-1B0A-4C52-A339-2BDE9BEE9E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dentifikace%20pojm&#367;%20re&#353;er&#353;n&#237;ho%20po&#382;adavku.doc" TargetMode="External"/><Relationship Id="rId3" Type="http://schemas.openxmlformats.org/officeDocument/2006/relationships/hyperlink" Target="http://sigma.nkp.cz/" TargetMode="External"/><Relationship Id="rId4" Type="http://schemas.openxmlformats.org/officeDocument/2006/relationships/hyperlink" Target="http://www.cbvk.cz/tinweb/k6.cgi?ST=00&amp;SID=000670C51C&amp;L=00&amp;KOD=04&amp;PZ=10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" TargetMode="External"/><Relationship Id="rId3" Type="http://schemas.openxmlformats.org/officeDocument/2006/relationships/hyperlink" Target="http://aip.nkp.cz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karos.cz/Clanek.asp?ID=20050100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lektronick&#233;%20online%20katalogy_v_&#268;R.doc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ěcné zpřístupnění IZ prostřednictvím katalogů typu OP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9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ěcné SJ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stematické SJ - MD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ové S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skriptorové SJ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ybridní systémy – skupiny Konspektu, PH NK Č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řízené termí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Znáš českou knihovnu, která používá uvedený SJ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Tezaurus MeSH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Tezaurus Eurovoc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PH NKČR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Polytematický strukturovaný hesláře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skupiny Konspektu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MDT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VYHLEDÁVÁNÍ V OPAC – obecný princi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33cc33"/>
                </a:solidFill>
                <a:latin typeface="Verdana"/>
              </a:rPr>
              <a:t>funkce a možnosti jednotlivých typů katalogů se li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yhledávání (search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ávání v zadaných polích na základě formulovaného dotazu, zadání konkrétního jednoslovného či víceslovného výrazu do zvolených položek (název, autor, klíčové slovo, rok vydání, aj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ystém vyhledá záznamy, které ve zvolených položkách obsahují dané výraz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listování, prohlížení (brows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hlížení v rejstřících, listování v abecedně řazených položkách (autoři, názvy, předmětová hesla, atd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působy zapisování dotaz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men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příkazů (dotazovací jazyk, např.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o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an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nguag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)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WKW=ženy OR WKW=feminismus) AND WKW=česko AND WKW=společensk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pisování do vyhledávacích pol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kročilé dota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olovské operátory: AND, OR, 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o/levostranné krácení - 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stupné znaky - ? !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rešeršní dota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omic Sans MS"/>
              </a:rPr>
              <a:t>postavení žen v České republice  - jak se změnila situace od revoluce v roce 198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dentifikace klíčových pojm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áz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leph –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– Series -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Jihočeská vědecká knihovna v Českých Budějovicí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Vyzkoušejte a porovne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v ČN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ep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– v rámci báze NKC 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orná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f. TDKIV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nihovní katalog obsahující částečně nebo v úplnosti záznamy dokumentů více než jedné knihovny nebo informační instituce. Záznamy obsahují sigly knihoven, které identifikují vlastníka dokumen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pologie elektronických S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centralizovan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álný – odstředivý x dostřediv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irtuál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ef. viz TDK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ilustrační obráz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viz.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Stöklová, A.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Organizace knihovního fond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Informační studia a knihovnictví v elektronických texte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[CD-ROM]. Praha : Univerzita Karlova, Ústav informačních studií a knihovnictví, 2002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K v Č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árodní, regionální, institucionální, oborové, virtu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hled viz Bulínová, Eva. </a:t>
            </a:r>
            <a:r>
              <a:rPr b="0" lang="en-US" sz="2600" spc="-1" strike="noStrike">
                <a:solidFill>
                  <a:srgbClr val="33cc33"/>
                </a:solidFill>
                <a:latin typeface="Verdana"/>
              </a:rPr>
              <a:t>Souborné katalogy v Česku a na Slovensk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[online]. 2005, č. 1. Dostupné z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karos.cz/Clanek.asp?ID=200501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ruh sekundárního dokument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ý odráží konkrétní dokumentový fond a jeho vytváření se řídí pravid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ládá se z jednotlivých záznamů o dokument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součástí sekundárního/dokumentograf. fondu určité knihovny spolu s bibliografiemi, citačními rejstříky ap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elekčním nástroj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tj. nástrojem, který umožňuje výběr relevantních dokument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ouborné katalogy - ome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olehlivé vyhledávání na základě věcných sel. prv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ud není jedna autoritní báze (národní báze autorit, SVK Olomouc, NK ČR, MZK v Brně, stejná indexační pravidl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pojovací jazyk, kompatibilita mezi SJ,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nejednotnost SJ – nutné použít více vari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ání na základě identifikačních sel. údajů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árodní reálný heterogenní souborný katalog, který je budován dávkově, což v praxi znamená, že do jedné databáze se shromažďují záznamy o dokumentech českých a moravských knihoven, které používají různé knihovní systé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evřen všem knihovná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držování přijatých standard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minimální záznam MARC 21/UNIMAR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ěcné zpracování – MDT, skupiny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 13.12.2004  naimportováno: 3 691 97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nihy, seriá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knihoven používajících AKS LANius/CLAVI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23 738 záznamů odborné a reg. literatury (-beletrie, -poezie, -divadelní hry), 115 knihoven Č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IRTUÁLNÍ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924000" cy="1969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cc33"/>
                </a:solidFill>
                <a:latin typeface="Verdana"/>
              </a:rPr>
              <a:t>Virtuální souborný katalog knihoven s TinWeb/T Series</a:t>
            </a: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ttp://tinweb.multidata.cz/tinweb/vkt/t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37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arslruher Virtueller Katalog KV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orovnej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 - funk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ok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tom, zda určité hledané dílo, dílo určité tematiky, či určitého autora je v daném fondu a kde je ulož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bliografická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informuje o tom, jaké dokumenty od téhož autora, nebo určité tematiky existují, tuto funkci plní zejména katalogy národních instituc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šerš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umožňuje efektivní vyhledání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pag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nově vydaných dokumente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y - členě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úplnost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úplné, dílčí, soubor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typů zpřístupňovaných dokumentů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katalog knih, periodik, firemní literatury, speciálních dokumentů, apod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nihovní katalog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– podle formy zpřístupně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ístkové, listové, svazkové a elektronick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. katalog, tj. obsahující záznamy ve strojem čitelné podob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e druhem bibliografické databáz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-line el. katalog, tj. přístupný prostřednictvím počítačové sítě, např. interne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Lístkové k. versus elektronick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el.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áznam o dokumentu pouze jedenkrát, vícehlediskové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lístkové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vytvoření systému katalogů, aby bylo možné vyhledávat podle různých krité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dle druhu dotaz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jmenn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abecední řazení podle autora, názvu, korpo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ystematick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ředmětov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řazení abecední podle předmětových hese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0000"/>
                </a:solidFill>
                <a:latin typeface="Comic Sans MS"/>
              </a:rPr>
              <a:t>pokud nenaleznete v el. katalogu knihovny starší publik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mic Sans MS"/>
              </a:rPr>
              <a:t>obraťte svou pozornost na katalogy klasic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skenované katalogizační lístky dostupné přes webové stránky knihoven (UK FF MU, KATIF NK Č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stupné v knihovně fyzicky v zásuvká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s dovolením pracovníků zajděte do sklepení, naleznete možná bohatstv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line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blic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cess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talo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řejně dostupný online katalog určený uživatelům knihov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jeden z modulů automatizovaného knihovního systému konkrétní knihovny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dle vlastního vyhledávání záznamů dokumentů zpřístupňuje řadu dalších služeb, např. správa uživatelského konta, přístup k dalším informačním zdrojům ap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hled katalogů v Č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dobně jak v db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zázn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braná pole indexován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lekční údaje určené pro vyhledávání </a:t>
            </a:r>
            <a:r>
              <a:rPr b="0" lang="cs-CZ" sz="2000" spc="-1" strike="noStrike">
                <a:solidFill>
                  <a:srgbClr val="33cc33"/>
                </a:solidFill>
                <a:latin typeface="Verdana"/>
              </a:rPr>
              <a:t>(X věcné selekční úd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lekční údaje získané 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dentifikačního popisu - formální charakteristiky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ěcného popisu/indexování/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8T19:08:02Z</dcterms:modified>
  <cp:revision>30</cp:revision>
  <dc:subject/>
  <dc:title>Tvorba rešerší 2 </dc:title>
</cp:coreProperties>
</file>