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EFC-5F10-42F4-9928-5D2EB529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E4F-8A31-4321-B40D-F85513DF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0B1-3495-41FE-8CCD-9BE9CC43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07A-0ABC-44CC-A6EE-731224FA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05F-568A-4E0C-8EE7-7BFD9B4C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63C2-B675-405A-A427-1A9279E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A594-1296-4EA9-95E4-D79C946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42AD-3538-483C-BE31-6328D19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ABF3-7B7D-494E-8FBC-0337C66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E0DF-223B-4FD3-9B6C-1DF04D0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521-9F3C-41D5-BCFE-CA6DD35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C38-4D88-4613-9FB9-34F8B28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F7C-F485-48BF-9EF6-42BFCBD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303-2F00-4D8B-A1A8-EBBCFED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F5D1-86ED-4F32-910D-B979A1BF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55E4-F3BD-4957-9624-BDF945C5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CE3-5215-43AD-961C-591FE25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2C9-C6BB-4558-8066-2C9E7C25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534-E6F4-40AB-B3B4-9376116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51F-FF73-4B0E-9791-E5B2C2A7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7DF-934A-42C2-BBDB-A270BD8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299-C55F-4EC3-9920-657CBD5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C3F-27E9-4DAB-B3F7-55ED2C4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51D-E404-41E1-810C-CE21661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A6F-A148-4665-993D-97FA606E16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732-200E-4F9D-969A-F511446D15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&#193;LN&#205;%20&#218;PRAVA%20RE&#352;ER&#352;E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vorba rešerší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5. 3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33"/>
                </a:solidFill>
                <a:latin typeface="Verdana"/>
              </a:rPr>
              <a:t>5 - priorita nejnižšího počtu odk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á strategii 4, ale nepřihlíží se k rodo-druhovým vztahům mezi pojmy vyjadřovanými S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štění výskytu všech základních selekčních jazyk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hledávání začíná u údaje s nejmenší frekvenc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Rešeršní strategie - praktické rady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být flexibi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át připravené kroky strategie orientač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izpůsobování další taktiky výsledkům rešerš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lový výsledek – hledání příči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znát uživate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pravná fáze – rozhovor se zadavate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využívání řízených slovník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zaurus - výhody plynoucí z definovaných vztahů – hierarchický, ekvivalentní, asoci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vytváření pojm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y termínů k jednotlivým pojm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jich spojování pomocí logického souč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klasifikac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lasifikační schémata/SS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tematické skupi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rategie oseká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kráce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runcati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zástupných zna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POZOR na používání NOT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radikální snížení záznamů na výstu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loučení i těch záznamů, které obsahují žádané záznam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řizpůsobení rešeršní strategie db, v níž se uskutečňuje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oužívání akrony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vytěžování výhod z el. db –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formulace dotazu, ladění reš. požadavku,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jčastější chyb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Logické chy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mbinace výroků pomocí Bool. algeb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saní mezery, bez mez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dotaz. jazy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ři psaní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měna O x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Uvědomit si v jaké db vyhledáv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ílné dotazovací jazy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Minulá hod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f. rešerše a její rozbor, důležité rys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od rešeršního požadavku po dotazovací jazy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y rešerš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přesnění požadavků na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formální úpravu rešerš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zápočt. úko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kroky přípravné fáze na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stematický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á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uskutečnění rešerš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jak si rešeršér poradí s nalezením nejoptimálnější cesty k zodp. reš. pož.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ánová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celého rešeršního procesu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alýza reš. požadavku – identifikace klíčových pojmů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;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ýběr db, rešeršní dotaz, samotné vyhl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 základě analýzy předmětu formulujeme optimální metody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 následnost procesů, s jejichž pomocí dosáhneme zodpovězení konkr. rešeršního požadavku realizovaného v 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ístup k vyhledávání položek v IZ k jednomu požadavk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toušová, 198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žité logické kombin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rešeršní taktik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ouvisí s modifikací původní formulace dota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sou úkonem, kterým se mění stávající postup vyhledávání (nová orientace dalšího postupu ) nebo formulace dotaz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ůzné možnosti použitelnosti taktik – na počátku vyhledávání, v kterékoliv fázi, pouze v pokročilém stadiu práce na rešerši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y (Charles Bour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žnosti, jak postupovat při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zkum práce referenčních knihovníků a rešeršé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rategie stavebních kamenů, rostoucí perly, osekávání, priorita nejužší fasety, priorita nejnižšího počtu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Matoušová, 198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33"/>
                </a:solidFill>
                <a:latin typeface="Verdana"/>
              </a:rPr>
              <a:t>1 - strategie stavebních kamen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amostatné dílčí dotaz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yjadřující ústřední pojmy původního rešeršního požadavk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dentifikace klíčových/významných poj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nožina výrazů vztahující se k pojmu: synonyma, kvazisynonyma, pravopisné formy, nadřazené, podřízené v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OR, truncation (krácení podle slov. kořenů), stemming, wild cards (zástupné znak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jení dílčích formulací ve finální soub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2 - strategie rostoucí per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án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dle nejužšího pojmu z rešeršního požadav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dle nejspecifičtějšího termínu k jednotlivým pojmů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: alespoň jeden zázn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jištění použitých selekčních termín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prava formulace rešeršního dotaz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: rešerše v LISA na téma „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ředmětová kategorizace IZ v OIB pomocí SSJ“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zahájení vyhledávání na základě nejužšího pojmu „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quality-controlled subject gateways“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3 - strategie osek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vní formulace dotazu 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širší formula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ílem je vyhledání více záznamů (hitů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hlíž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ulace širší kategorie (obor, vědní disciplína), klasif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 první odezvě – taktiky pro zúžení zá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4 - priorita nejužší fasety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yhledávání na základě termínů v hierarchickém vzta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jprve volba termínu, který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yjadřuje specifičtější poj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d je dostatečný počet záznamů vyhledávání končí (20 – 25 hitů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d málo (10 hitů) – podle nadřazeného poj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k poznáte nadřazený a podřazený deskript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4-05T20:46:21Z</dcterms:modified>
  <cp:revision>10</cp:revision>
  <dc:subject/>
  <dc:title>Tvorba rešerší 2 </dc:title>
</cp:coreProperties>
</file>