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B8F-1350-4B49-AF72-7B2ABB42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572-DFE8-4744-ACDE-491B0AD4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803-7CE2-4CAC-9642-FFF07B43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D37-5247-4908-81CD-8135E471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7249-A401-4FA0-B63D-29A6EB92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6D22-E2D9-4638-9FF9-B066D0A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552C-C71C-4094-A84C-8CD126FE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31ED-66AD-42A5-8DCD-90FCC241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1B9B-2BB7-4698-9BB5-D504FE36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9964-90CD-4FDA-8612-4403550E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740C-BF13-4368-8F8D-BD3C513C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92B-D434-4389-B432-2A19F03E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BDEA-04B8-4522-A17B-B70CE672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FCCF-6DF3-4201-BFE7-42DF9B35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2687-610C-4503-9CB1-45D63E63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019D-8A9B-4DCA-A9C6-3496306F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A3C6-F62C-4684-A151-FCB5DE7E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149-34A7-410A-A731-95E0FFA9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6A3-A628-4A2D-BD6A-C7DDB040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B95-B646-4329-A612-FD288818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C25-D319-4821-8E37-D8C466C9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F09-016A-4E7D-8B6A-C07460C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83F-BB77-49F1-92F4-278E89EF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D6A-74AB-44D7-B328-F57C439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506-5101-490C-912A-991D4A6706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285C-8365-46B6-BC2B-EC94CEAA9F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FORM&#193;LN&#205;%20&#218;PRAVA%20RE&#352;ER&#352;E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Tvorba rešerší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25. 3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cc33"/>
                </a:solidFill>
                <a:latin typeface="Verdana"/>
              </a:rPr>
              <a:t>5 - priorita nejnižšího počtu odkaz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á strategii 4, ale nepřihlíží se k rodo-druhovým vztahům mezi pojmy vyjadřovanými S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štění výskytu všech základních selekčních jazyk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hledávání začíná u údaje s nejmenší frekvenc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Rešeršní strategie - praktické rady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být flexibi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át připravené kroky strategie orientač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izpůsobování další taktiky výsledkům rešerš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lový výsledek – hledání příči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znát uživate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pravná fáze – rozhovor se zadavate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využívání řízených slovník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zaurus - výhody plynoucí z definovaných vztahů – hierarchický, ekvivalentní, asoci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vytváření pojm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bory termínů k jednotlivým pojmů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jich spojování pomocí logického souč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využívání klasifikac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klasifikační schémata/SS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tematické skupin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rategie osekává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využívání kráce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truncatio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využívání zástupných znak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POZOR na používání NOT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radikální snížení záznamů na výstup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loučení i těch záznamů, které obsahují žádané záznam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řizpůsobení rešeršní strategie db, v níž se uskutečňuje vyhled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oužívání akrony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vytěžování výhod z el. db –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formulace dotazu, ladění reš. požadavku, dotaz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ejčastější chyb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Logické chy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mbinace výroků pomocí Bool. algeb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saní mezery, bez mez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dotaz. jazy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ři psaní slo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áměna O x 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Uvědomit si v jaké db vyhledává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dílné dotazovací jazy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Minulá hod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f. rešerše a její rozbor, důležité rysy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od rešeršního požadavku po dotazovací jazy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y rešerš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přesnění požadavků na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formální úpravu rešerš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 zápočt. úko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é kroky přípravné fáze na vyhled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Rešeršní strategie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ystematický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lá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ro uskutečnění rešerš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jak si rešeršér poradí s nalezením nejoptimálnější cesty k zodp. reš. pož.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lánová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celého rešeršního procesu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nalýza reš. požadavku – identifikace klíčových pojmů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;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výběr db, rešeršní dotaz, samotné vyhl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a základě analýzy předmětu formulujeme optimální metody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 následnost procesů, s jejichž pomocí dosáhneme zodpovězení konkr. rešeršního požadavku realizovaného v 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Rešeršní strategi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řístup k vyhledávání položek v IZ k jednomu požadavku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Matoušová, 1988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užité logické kombin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rešeršní taktik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ouvisí s modifikací původní formulace dotaz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sou úkonem, kterým se mění stávající postup vyhledávání (nová orientace dalšího postupu ) nebo formulace dotaz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ůzné možnosti použitelnosti taktik – na počátku vyhledávání, v kterékoliv fázi, pouze v pokročilém stadiu práce na rešerši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Rešeršní strategie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py (Charles Bourn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ožnosti, jak postupovat při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zkum práce referenčních knihovníků a rešeršér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trategie stavebních kamenů, rostoucí perly, osekávání, priorita nejužší fasety, priorita nejnižšího počtu odkaz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(Matoušová, 198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cc33"/>
                </a:solidFill>
                <a:latin typeface="Verdana"/>
              </a:rPr>
              <a:t>1 - strategie stavebních kamen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amostatné dílčí dotaz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vyjadřující ústřední pojmy původního rešeršního požadavk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dentifikace klíčových/významných pojm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nožina výrazů vztahující se k pojmu: synonyma, kvazisynonyma, pravopisné formy, nadřazené, podřízené v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OR, truncation (krácení podle slov. kořenů), stemming, wild cards (zástupné znak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jení dílčích formulací ve finální soub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2 - strategie rostoucí perl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3772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hledávání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dle nejužšího pojmu z rešeršního požadavk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dle nejspecifičtějšího termínu k jednotlivým pojmů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ílem: alespoň jeden zázn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jištění použitých selekčních termín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prava formulace rešeršního dotaz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56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: rešerše v LISA na téma „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ředmětová kategorizace IZ v OIB pomocí SSJ“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zahájení vyhledávání na základě nejužšího pojmu „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quality-controlled subject gateways“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3 - strategie osek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vní formulace dotazu -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širší formula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ílem je vyhledání více záznamů (hitů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hlíž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mulace širší kategorie (obor, vědní disciplína), klasifik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 první odezvě – taktiky pro zúžení záb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4 - priorita nejužší fasety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yhledávání na základě termínů v hierarchickém vztah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jprve volba termínu, který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vyjadřuje specifičtější poj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kud je dostatečný počet záznamů vyhledávání končí (20 – 25 hitů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kud málo (10 hitů) – podle nadřazeného poj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říklad –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k poznáte nadřazený a podřazený deskript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02:53Z</dcterms:created>
  <dc:creator>Silvie Presová</dc:creator>
  <dc:description/>
  <dc:language>en-US</dc:language>
  <cp:lastModifiedBy>Silvie Presová</cp:lastModifiedBy>
  <dcterms:modified xsi:type="dcterms:W3CDTF">2005-04-05T20:46:21Z</dcterms:modified>
  <cp:revision>10</cp:revision>
  <dc:subject/>
  <dc:title>Tvorba rešerší 2 </dc:title>
</cp:coreProperties>
</file>