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3FA-D55B-4192-8BB9-96636762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7A74-F63D-4FA6-8391-D869180F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383-B833-42D3-88B1-3E4737C0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14B-FF39-4C8D-8F7B-ADC93B60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CADD-924F-4A70-B4D3-22D9A3B8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D87E-E2C4-40AD-88BD-87218D43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3A5D-5CD9-4CC6-BDE0-34D905C5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7D98-11CD-4EC5-916F-F215E95D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699E-EFA0-4313-B551-AAC0456E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C874-7875-4935-BCAB-5E0ACE82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36A4-017D-41E0-9B16-AE998DE7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6DD-5FC5-4A56-A30F-C4F84899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7843-9673-4949-A026-7D6E803D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25D5-9429-4731-A816-9F72B456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E8D0-E53D-42CB-B9AD-AFB12A38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6D3D-E918-497A-AAB0-09BF0702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B5BC-CDAC-4240-8B05-62B99A6E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5C2-2974-450A-9E50-83CBD095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33FD-7294-4E6D-BD2A-E9B9C4EC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7D6-0769-4819-BAA1-E4A7D892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721-2ED3-44C9-951B-E848609F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6762-B380-4E12-B28B-7C29CA82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7892-CADD-459A-9407-152DA064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CD0-C5BF-4B6D-ABD6-B2BDFEC2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D6B4-5A79-4120-BADD-34E664C50F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D589-7162-44AD-95BA-169E8B6D5F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igma.nkp.cz/F/BTTVITYLQJ1RHN479D3Q3USKPTQS3EEBK5K9XYU2YR9TRCCIYN-15115?func=scan&amp;scan_start=elektronick&#233;+d&amp;scan_code=TR" TargetMode="External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ip.cz/" TargetMode="External"/><Relationship Id="rId3" Type="http://schemas.openxmlformats.org/officeDocument/2006/relationships/hyperlink" Target="http://www.aip.cz/" TargetMode="External"/><Relationship Id="rId4" Type="http://schemas.openxmlformats.org/officeDocument/2006/relationships/hyperlink" Target="http://www.aip.cz/" TargetMode="External"/><Relationship Id="rId5" Type="http://schemas.openxmlformats.org/officeDocument/2006/relationships/hyperlink" Target="http://www.suweco.cz/online/cz3/default.asp" TargetMode="External"/><Relationship Id="rId6" Type="http://schemas.openxmlformats.org/officeDocument/2006/relationships/hyperlink" Target="http://knihovnam.nkp.cz/sekce.php3?page=09_Okn/ElZdroje.htm&amp;PHPSESSID=d85c88ff9311e2d3d942cec356054bee" TargetMode="External"/><Relationship Id="rId7" Type="http://schemas.openxmlformats.org/officeDocument/2006/relationships/hyperlink" Target="http://www.aip.cz/konsorcia.php" TargetMode="External"/><Relationship Id="rId8" Type="http://schemas.openxmlformats.org/officeDocument/2006/relationships/hyperlink" Target="http://www.literatureonline.cz/" TargetMode="External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smt.cz/_DOMEK/default.asp?ARI=102330&amp;CAI=2853" TargetMode="External"/><Relationship Id="rId3" Type="http://schemas.openxmlformats.org/officeDocument/2006/relationships/hyperlink" Target="file:///INFORMA&#268;N&#205;%20INFRASTRUKTURA%20V&#221;ZKUMU.htm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igma.nkp.cz/F/BTTVITYLQJ1RHN479D3Q3USKPTQS3EEBK5K9XYU2YR9TRCCIYN-15115?func=scan&amp;scan_start=elektronick&#233;+d&amp;scan_code=TR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ialog.com/" TargetMode="External"/><Relationship Id="rId3" Type="http://schemas.openxmlformats.org/officeDocument/2006/relationships/hyperlink" Target="http://www.dialog.com/" TargetMode="External"/><Relationship Id="rId4" Type="http://schemas.openxmlformats.org/officeDocument/2006/relationships/hyperlink" Target="http://www.dialog.com/" TargetMode="Externa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iz-karlsruhe.de/" TargetMode="External"/><Relationship Id="rId3" Type="http://schemas.openxmlformats.org/officeDocument/2006/relationships/hyperlink" Target="http://www.fiz-karlsruhe.de/" TargetMode="External"/><Relationship Id="rId4" Type="http://schemas.openxmlformats.org/officeDocument/2006/relationships/hyperlink" Target="http://www.cas.org/" TargetMode="External"/><Relationship Id="rId5" Type="http://schemas.openxmlformats.org/officeDocument/2006/relationships/hyperlink" Target="http://www.cas.org/" TargetMode="External"/><Relationship Id="rId6" Type="http://schemas.openxmlformats.org/officeDocument/2006/relationships/hyperlink" Target="http://www.cas.org/" TargetMode="External"/><Relationship Id="rId7" Type="http://schemas.openxmlformats.org/officeDocument/2006/relationships/hyperlink" Target="http://www.cas.org/" TargetMode="External"/><Relationship Id="rId8" Type="http://schemas.openxmlformats.org/officeDocument/2006/relationships/hyperlink" Target="http://www.cas.org/" TargetMode="External"/><Relationship Id="rId9" Type="http://schemas.openxmlformats.org/officeDocument/2006/relationships/hyperlink" Target="http://www.cas.org/" TargetMode="External"/><Relationship Id="rId10" Type="http://schemas.openxmlformats.org/officeDocument/2006/relationships/hyperlink" Target="http://www.fiz-karlsruhe.de/" TargetMode="External"/><Relationship Id="rId11" Type="http://schemas.openxmlformats.org/officeDocument/2006/relationships/hyperlink" Target="http://www.fiz-karlsruhe.de/" TargetMode="External"/><Relationship Id="rId12" Type="http://schemas.openxmlformats.org/officeDocument/2006/relationships/hyperlink" Target="http://pr.jst.go.jp/EN/ServiceGuide/" TargetMode="External"/><Relationship Id="rId13" Type="http://schemas.openxmlformats.org/officeDocument/2006/relationships/hyperlink" Target="http://pr.jst.go.jp/EN/ServiceGuide/" TargetMode="External"/><Relationship Id="rId14" Type="http://schemas.openxmlformats.org/officeDocument/2006/relationships/hyperlink" Target="http://pr.jst.go.jp/EN/ServiceGuide/" TargetMode="External"/><Relationship Id="rId15" Type="http://schemas.openxmlformats.org/officeDocument/2006/relationships/hyperlink" Target="http://pr.jst.go.jp/EN/ServiceGuide/" TargetMode="External"/><Relationship Id="rId16" Type="http://schemas.openxmlformats.org/officeDocument/2006/relationships/hyperlink" Target="http://pr.jst.go.jp/EN/ServiceGuide/" TargetMode="External"/><Relationship Id="rId17" Type="http://schemas.openxmlformats.org/officeDocument/2006/relationships/hyperlink" Target="http://pr.jst.go.jp/EN/ServiceGuide/" TargetMode="External"/><Relationship Id="rId18" Type="http://schemas.openxmlformats.org/officeDocument/2006/relationships/hyperlink" Target="http://pr.jst.go.jp/EN/ServiceGuide/" TargetMode="External"/><Relationship Id="rId1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vid.com/" TargetMode="External"/><Relationship Id="rId3" Type="http://schemas.openxmlformats.org/officeDocument/2006/relationships/hyperlink" Target="http://www.ovid.com/" TargetMode="External"/><Relationship Id="rId4" Type="http://schemas.openxmlformats.org/officeDocument/2006/relationships/hyperlink" Target="http://www.ovid.com/" TargetMode="External"/><Relationship Id="rId5" Type="http://schemas.openxmlformats.org/officeDocument/2006/relationships/hyperlink" Target="http://www.ovid.com/" TargetMode="External"/><Relationship Id="rId6" Type="http://schemas.openxmlformats.org/officeDocument/2006/relationships/hyperlink" Target="http://www1.cuni.cz/~brt/W4LS/dbc.html" TargetMode="Externa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ull.nkp.cz/nkkr/Nkkr0201/0201020.html" TargetMode="External"/><Relationship Id="rId3" Type="http://schemas.openxmlformats.org/officeDocument/2006/relationships/hyperlink" Target="http://full.nkp.cz/nkkr/Nkkr0201/0201020.html" TargetMode="External"/><Relationship Id="rId4" Type="http://schemas.openxmlformats.org/officeDocument/2006/relationships/hyperlink" Target="http://full.nkp.cz/nkkr/Nkkr0201/0201020.html" TargetMode="External"/><Relationship Id="rId5" Type="http://schemas.openxmlformats.org/officeDocument/2006/relationships/hyperlink" Target="http://full.nkp.cz/nkkr/Nkkr0201/0201020.html" TargetMode="External"/><Relationship Id="rId6" Type="http://schemas.openxmlformats.org/officeDocument/2006/relationships/hyperlink" Target="http://full.nkp.cz/nkkr/Nkkr0201/0201020.html" TargetMode="External"/><Relationship Id="rId7" Type="http://schemas.openxmlformats.org/officeDocument/2006/relationships/hyperlink" Target="http://full.nkp.cz/nkkr/Nkkr0201/0201020.html" TargetMode="External"/><Relationship Id="rId8" Type="http://schemas.openxmlformats.org/officeDocument/2006/relationships/hyperlink" Target="http://full.nkp.cz/nkkr/Nkkr0201/0201020.html" TargetMode="External"/><Relationship Id="rId9" Type="http://schemas.openxmlformats.org/officeDocument/2006/relationships/hyperlink" Target="http://full.nkp.cz/nkkr/Nkkr0201/0201020.html" TargetMode="External"/><Relationship Id="rId10" Type="http://schemas.openxmlformats.org/officeDocument/2006/relationships/hyperlink" Target="http://full.nkp.cz/nkkr/Nkkr0201/0201020.html" TargetMode="External"/><Relationship Id="rId11" Type="http://schemas.openxmlformats.org/officeDocument/2006/relationships/hyperlink" Target="http://full.nkp.cz/nkkr/Nkkr0201/0201020.html" TargetMode="External"/><Relationship Id="rId12" Type="http://schemas.openxmlformats.org/officeDocument/2006/relationships/hyperlink" Target="http://platan.vc.cvut.cz/vychova/vychova2/index.html" TargetMode="External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igma.nkp.cz/F/YVRG3QNYVA3R8I4C7LSN3DTYCDP49D1YKNRBRYXXDUPUY43LXJ-12035?func=full-set-set&amp;set_number=004958&amp;set_entry=000004&amp;format=999" TargetMode="External"/><Relationship Id="rId3" Type="http://schemas.openxmlformats.org/officeDocument/2006/relationships/hyperlink" Target="http://sigma.nkp.cz/F/31MBUB5GHUTXRRVPLNC4R7NLPKIEY2FRHUMBKX77UVS716LNMK-12541?func=find-b&amp;find_code=WTR&amp;request=datov&#225;+z&#225;kladna" TargetMode="External"/><Relationship Id="rId4" Type="http://schemas.openxmlformats.org/officeDocument/2006/relationships/hyperlink" Target="http://sigma.nkp.cz/F/31MBUB5GHUTXRRVPLNC4R7NLPKIEY2FRHUMBKX77UVS716LNMK-12124?func=find-acc&amp;acc_sequence=000043641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z&#225;znamLISA.doc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zso.cz/" TargetMode="External"/><Relationship Id="rId3" Type="http://schemas.openxmlformats.org/officeDocument/2006/relationships/hyperlink" Target="http://micromedex.cuni.cz/" TargetMode="External"/><Relationship Id="rId4" Type="http://schemas.openxmlformats.org/officeDocument/2006/relationships/hyperlink" Target="http://www.anopress.cz/" TargetMode="External"/><Relationship Id="rId5" Type="http://schemas.openxmlformats.org/officeDocument/2006/relationships/hyperlink" Target="http://vnweb.hwwilsonweb.com/hww/jumpstart.jhtml" TargetMode="External"/><Relationship Id="rId6" Type="http://schemas.openxmlformats.org/officeDocument/2006/relationships/hyperlink" Target="http://www.proquest.com/pqdauto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ortalstm.cz/oborove.htm" TargetMode="External"/><Relationship Id="rId3" Type="http://schemas.openxmlformats.org/officeDocument/2006/relationships/hyperlink" Target="http://www1.cuni.cz/~brt/special/special.htm" TargetMode="External"/><Relationship Id="rId4" Type="http://schemas.openxmlformats.org/officeDocument/2006/relationships/hyperlink" Target="http://www.infozdroje.cz/" TargetMode="External"/><Relationship Id="rId5" Type="http://schemas.openxmlformats.org/officeDocument/2006/relationships/hyperlink" Target="http://database.aipberoun.cz/engine/aip.cgi?MainPage=../aip/aip_cz_basic.htm" TargetMode="External"/><Relationship Id="rId6" Type="http://schemas.openxmlformats.org/officeDocument/2006/relationships/hyperlink" Target="http://database.aipberoun.cz/engine/aip.cgi?MainPage=../aip/aip_cz_basic.htm" TargetMode="External"/><Relationship Id="rId7" Type="http://schemas.openxmlformats.org/officeDocument/2006/relationships/hyperlink" Target="http://database.aipberoun.cz/engine/aip.cgi?MainPage=../aip/aip_cz_basic.htm" TargetMode="External"/><Relationship Id="rId8" Type="http://schemas.openxmlformats.org/officeDocument/2006/relationships/hyperlink" Target="http://www.portalstm.cz/oborove.htm" TargetMode="External"/><Relationship Id="rId9" Type="http://schemas.openxmlformats.org/officeDocument/2006/relationships/hyperlink" Target="http://www1.cuni.cz/~brt/special/special.htm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ip.cz/" TargetMode="External"/><Relationship Id="rId3" Type="http://schemas.openxmlformats.org/officeDocument/2006/relationships/hyperlink" Target="http://www.aip.cz/" TargetMode="External"/><Relationship Id="rId4" Type="http://schemas.openxmlformats.org/officeDocument/2006/relationships/hyperlink" Target="http://www.aip.cz/" TargetMode="External"/><Relationship Id="rId5" Type="http://schemas.openxmlformats.org/officeDocument/2006/relationships/hyperlink" Target="http://www.suweco.cz/online/cz3/default.asp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Profesionální EIZ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Rešeršní a studijně rozborová činno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8. 4.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00640"/>
            <a:ext cx="338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řístup k db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formační zdroje na CD-RO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a ročního předplatného (zahrnující několik aktualizací da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dnorázový náku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stupnost – na jednotlivých počítačích nebo v lokální síti pomocí speciálního software, který je součástí dodávk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ÝHO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OFF-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dnorázové roční předplatné (odpadá placení za přístup do db a dobu vyhledávání v db, za zobrazené záznamy, neplatí se telekomunikační poplatky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ní problém s telekomunikačním připojením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ON-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ba jen za uskutečněné transakc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ůběžná aktualizace záznamů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ávazné služby (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EDD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.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ůzné slevy a výhodnější režimy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ětší retrospektiva fondu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žnost průřezového vyhledávání ve více databázích najednou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EVÝHO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cc0000"/>
                </a:solidFill>
                <a:latin typeface="Verdana"/>
              </a:rPr>
              <a:t>OFF-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ktualizace dat probíhá se zpožděním v různých časových intervalech (týden, měsíc, čtvrtletí adt.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lze pracovat pouze s jednou (nebo jen s omezeným počtem) databází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ON-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ysoká cen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časový tlak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ůzný vyhledávací softwa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ůže se přerušit spojení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ákup IZ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istribuční agentury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Albertina </a:t>
            </a:r>
            <a:r>
              <a:rPr b="0" lang="cs-CZ" sz="1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icome</a:t>
            </a:r>
            <a:r>
              <a:rPr b="0" lang="cs-CZ" sz="18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Prah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cc33"/>
                </a:solidFill>
                <a:latin typeface="Verdana"/>
              </a:rPr>
              <a:t>LICENC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nsorciální licence -  licence na přístup k elektronickým informačním zdrojům, která pokrývá větší počet organizací (</a:t>
            </a:r>
            <a:r>
              <a:rPr b="0" lang="cs-CZ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SUWECO CZ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1N04170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18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AIP konsorci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árodní licence - umožňuje přístup všem institucím v rámci České republiky, které splňují určitá kritéria, např.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národní akademické licenc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L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- Literature Online Fulltext Collec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licence instituce / knihovny / fakulty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odpora ze strany st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formační infrastruktura výzkumu (</a:t>
            </a: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program 1N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) MŠM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Vyhlášení veřejné soutěže na program výzkumu a vývoj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Služby databázových cen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žnost provádět retrospektivní a průběžné rešerše v on-line režim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prostředkování primárních dokumentů (služby typu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EDD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asílání krátkých zpráv o nových produktech, službách a dění v databázovém centr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Školení, podpůrná dokumentace, výukové programy, tréninkové databáz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lpy, popisy databází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ýznamná dat. cent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davatel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Thomson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Dialog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největší světový poskytovatel přístupu k profesionálním IZ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ialo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st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ARKETRESEARCH (dříve Profoun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ýznamná dat. cent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TN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Internationa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znamné databázové centrum pro oblast vědeckotechnických informací, hlavně pro přírodní a technické vědy i pro patentové informace. Skládá se ze 3 nezávislých, ale technicky a organizačně spolupracujících center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Chemical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Abstracts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 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Services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 (CAS)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, US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FIZ 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Karlsruhe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, Německ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Japan 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Information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 Center for 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Scientific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 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and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 Technology (JICST)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, Japonsk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Ovid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Technologies,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Inc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eznam významných DC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z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Doplňující literatura</a:t>
            </a: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09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KULOVÁ, S.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Úvod do informačných technológií. 2, Databázové technológie a bázy dát : databázový systém CDS/ISI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. Bratislava : STIMUL-Centrum informatických a vzdelávacích služieb, 199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APÍK, R. Vyhledávání informací III. Dialogové služby světových databázových center.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Národní knihovn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2002, roč. 13, č. 1, s. 20–30. Dostupné též z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full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nkp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.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cz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/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nkkr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/Nkkr0201/0201020.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html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Informační výchov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knihovny ČVU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851280" y="4508640"/>
            <a:ext cx="392436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Definice databáze (db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Základní členění d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Příklady významných obor. d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Producenti, vydavatelé, distributoř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Přístup k d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Nákup I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Služby databázových cen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Doplňující literatu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Databáze/báze d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ef.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TDKIV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systém uspořádaných digitálních dat, a to takovým způsobem, aby se s nimi dalo efektivně manipulov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datová základna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množina jednotně strukturovaných dat uložených v paměti počítače nebo na záznamovém médiu, tvoří určitý cel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systém řízení báze dat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 - programové vybavení pro práci s daty, rozhraní mezi daty v db a uživatelem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abáze jako sbírka informací je organizována do </a:t>
            </a: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záznamů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pol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z hlediska vyhledávání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je db obvykle rozdělena na vlastní data (předmět vyhledávání) a datové index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přístupový mechanismus k záznamům v d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Základní typy db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33cc33"/>
                </a:solidFill>
                <a:latin typeface="Verdana"/>
              </a:rPr>
              <a:t>bibliografické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sahují záznamy (často doplněné abstraktem) článků z časopisů, knih, příspěvků z konferencí a dalších dokumentů (LISA, MEDLINE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33cc33"/>
                </a:solidFill>
                <a:latin typeface="Verdana"/>
              </a:rPr>
              <a:t>faktografické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sahují konkrétní textové nebo číselné údaj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numerické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hlavně statistická data) </a:t>
            </a:r>
            <a:r>
              <a:rPr b="0" lang="cs-CZ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Český statistický úřad ČR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faktové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(slovně nebo pomocí tabulek shrnují podstatná fakta z původních pramenů) </a:t>
            </a:r>
            <a:r>
              <a:rPr b="0" lang="cs-CZ" sz="1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Micromedex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databáz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typu průvodce (adresáře firem, katalogy výrobců, rejstříky)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33cc33"/>
                </a:solidFill>
                <a:latin typeface="Verdana"/>
              </a:rPr>
              <a:t>plnotextové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lné texty (full text) dokumentů, tedy primárních pramenů, většinou se jedná o kompletní znění novin, zpravodajských textů, článků z časopisů a sborníků z konferencí, právních dokumentů, aj. (Wiley InterScience, </a:t>
            </a:r>
            <a:r>
              <a:rPr b="0" lang="cs-CZ" sz="18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Anopress I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LLIS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ProQuest 5000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Zaměření db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orově zaměřeny, multioborov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b určitých druhů dokumentů (periodika, noviny, šedá literatura, normy, patent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b určitých druhů dat (jízdní řády, statistická dat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Příklady významných obor. d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írodní vědy, technika, lékařství (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Portál ST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výukový portál ÚISK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Infozdroje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3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Albertina </a:t>
            </a:r>
            <a:r>
              <a:rPr b="0" lang="cs-CZ" sz="23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icome</a:t>
            </a:r>
            <a:r>
              <a:rPr b="0" lang="cs-CZ" sz="23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 Praha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-katalog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ruhové db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Portál ST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výukový portál ÚIS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Producenti, vydavatelé, distributoř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3772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33cc33"/>
                </a:solidFill>
                <a:latin typeface="Verdana"/>
              </a:rPr>
              <a:t>producent bd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vůrce bd, který ji  vystavuje na vlastním hostitelském počítači nebo distribuuje jiným způsobem (CD-ROM), zprostředkování přes rozhraní www, prodej zprostředkovatelským institucí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33cc33"/>
                </a:solidFill>
                <a:latin typeface="Verdana"/>
              </a:rPr>
              <a:t>distributoři - 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firmy, které se zabývají šířením bází dat uživatelům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Albertina </a:t>
            </a: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icome</a:t>
            </a: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Prah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SUWECO CZ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33cc33"/>
                </a:solidFill>
                <a:latin typeface="Verdana"/>
              </a:rPr>
              <a:t>databázová centra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- organizace, která disponuje výkonným hostitelským výpočetním systémem, programovými systémy pro dialogové vyhledávání dat a rozsáhlým sortimentem bází dat. DC vstupuje do vztahů s producenty bází dat, kteří mu poskytují své produkty prostřednictvím licencí na jejich zpřístupňování (více zde a zde:-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řístup k db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jčastěji formou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online přístupu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nebo jsou dodávány na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D-ROM/DVD-RO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Online informační zdroj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lze získat buď na základě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očního paušálního předplatnéh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bo se cena stanoví podle skutečného využití zdroje (tzv. transakční účtování) -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transakční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forma (typická pro velká databázová centr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6:02:53Z</dcterms:created>
  <dc:creator>Silvie Presová</dc:creator>
  <dc:description/>
  <dc:language>en-US</dc:language>
  <cp:lastModifiedBy>Silvie Presová</cp:lastModifiedBy>
  <dcterms:modified xsi:type="dcterms:W3CDTF">2005-04-13T17:52:29Z</dcterms:modified>
  <cp:revision>16</cp:revision>
  <dc:subject/>
  <dc:title>Tvorba rešerší 2 </dc:title>
</cp:coreProperties>
</file>