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98D-BFA1-4BC0-A978-5756AEB5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724-B23A-47B8-A3EA-DF8F138E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3FE-9680-4433-BE19-81D2A4AE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789-5542-42CA-89AE-62460FCD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AD00-1AFD-4180-8C24-D941B08F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3505-25C0-47EC-AEBD-C40C6E8B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5717-AC6F-4A69-B232-D62A9E69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7AFC-7FFC-43DC-9EE8-DE609B11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01E4-3992-430D-8293-E9117B54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BAA3-9B1F-4A1B-A0B3-2B0905BE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EA34-E5E0-4221-A05E-B23C1B5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B66-B8FA-4C0A-9D82-3B209B01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146A-B5C6-48AF-9A62-90F122A5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3858-E5EB-4209-9AFE-3BC33E8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4E66-0E11-4A0F-A87F-B8CA58D7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A116-B42A-427C-A95B-4EEAFBE3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E1EC-EDFB-493A-BA5F-9E958739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964-5711-4F4B-8F11-6CBA74C7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E14-6926-43AC-B8D0-38EB89BD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799-D91E-4D21-BE91-C713AA1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510-6D1A-4453-8468-805ADA4C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A0E-AE31-423B-A097-CF35FD92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F53-F91F-41FB-A9FC-9C6435A1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67E-D5E9-4679-9880-4C670406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89E0-76EB-49E6-9DD9-E5D9443F2A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ED25-F580-411B-A5A9-A28EC13AE4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BTTVITYLQJ1RHN479D3Q3USKPTQS3EEBK5K9XYU2YR9TRCCIYN-15115?func=scan&amp;scan_start=elektronick&#233;+d&amp;scan_code=TR" TargetMode="External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ip.cz/" TargetMode="External"/><Relationship Id="rId3" Type="http://schemas.openxmlformats.org/officeDocument/2006/relationships/hyperlink" Target="http://www.aip.cz/" TargetMode="External"/><Relationship Id="rId4" Type="http://schemas.openxmlformats.org/officeDocument/2006/relationships/hyperlink" Target="http://www.aip.cz/" TargetMode="External"/><Relationship Id="rId5" Type="http://schemas.openxmlformats.org/officeDocument/2006/relationships/hyperlink" Target="http://www.suweco.cz/online/cz3/default.asp" TargetMode="External"/><Relationship Id="rId6" Type="http://schemas.openxmlformats.org/officeDocument/2006/relationships/hyperlink" Target="http://knihovnam.nkp.cz/sekce.php3?page=09_Okn/ElZdroje.htm&amp;PHPSESSID=d85c88ff9311e2d3d942cec356054bee" TargetMode="External"/><Relationship Id="rId7" Type="http://schemas.openxmlformats.org/officeDocument/2006/relationships/hyperlink" Target="http://www.aip.cz/konsorcia.php" TargetMode="External"/><Relationship Id="rId8" Type="http://schemas.openxmlformats.org/officeDocument/2006/relationships/hyperlink" Target="http://www.literatureonline.cz/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smt.cz/_DOMEK/default.asp?ARI=102330&amp;CAI=2853" TargetMode="External"/><Relationship Id="rId3" Type="http://schemas.openxmlformats.org/officeDocument/2006/relationships/hyperlink" Target="file:///INFORMA&#268;N&#205;%20INFRASTRUKTURA%20V&#221;ZKUMU.htm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BTTVITYLQJ1RHN479D3Q3USKPTQS3EEBK5K9XYU2YR9TRCCIYN-15115?func=scan&amp;scan_start=elektronick&#233;+d&amp;scan_code=TR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ialog.com/" TargetMode="External"/><Relationship Id="rId3" Type="http://schemas.openxmlformats.org/officeDocument/2006/relationships/hyperlink" Target="http://www.dialog.com/" TargetMode="External"/><Relationship Id="rId4" Type="http://schemas.openxmlformats.org/officeDocument/2006/relationships/hyperlink" Target="http://www.dialog.com/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iz-karlsruhe.de/" TargetMode="External"/><Relationship Id="rId3" Type="http://schemas.openxmlformats.org/officeDocument/2006/relationships/hyperlink" Target="http://www.fiz-karlsruhe.de/" TargetMode="External"/><Relationship Id="rId4" Type="http://schemas.openxmlformats.org/officeDocument/2006/relationships/hyperlink" Target="http://www.cas.org/" TargetMode="External"/><Relationship Id="rId5" Type="http://schemas.openxmlformats.org/officeDocument/2006/relationships/hyperlink" Target="http://www.cas.org/" TargetMode="External"/><Relationship Id="rId6" Type="http://schemas.openxmlformats.org/officeDocument/2006/relationships/hyperlink" Target="http://www.cas.org/" TargetMode="External"/><Relationship Id="rId7" Type="http://schemas.openxmlformats.org/officeDocument/2006/relationships/hyperlink" Target="http://www.cas.org/" TargetMode="External"/><Relationship Id="rId8" Type="http://schemas.openxmlformats.org/officeDocument/2006/relationships/hyperlink" Target="http://www.cas.org/" TargetMode="External"/><Relationship Id="rId9" Type="http://schemas.openxmlformats.org/officeDocument/2006/relationships/hyperlink" Target="http://www.cas.org/" TargetMode="External"/><Relationship Id="rId10" Type="http://schemas.openxmlformats.org/officeDocument/2006/relationships/hyperlink" Target="http://www.fiz-karlsruhe.de/" TargetMode="External"/><Relationship Id="rId11" Type="http://schemas.openxmlformats.org/officeDocument/2006/relationships/hyperlink" Target="http://www.fiz-karlsruhe.de/" TargetMode="External"/><Relationship Id="rId12" Type="http://schemas.openxmlformats.org/officeDocument/2006/relationships/hyperlink" Target="http://pr.jst.go.jp/EN/ServiceGuide/" TargetMode="External"/><Relationship Id="rId13" Type="http://schemas.openxmlformats.org/officeDocument/2006/relationships/hyperlink" Target="http://pr.jst.go.jp/EN/ServiceGuide/" TargetMode="External"/><Relationship Id="rId14" Type="http://schemas.openxmlformats.org/officeDocument/2006/relationships/hyperlink" Target="http://pr.jst.go.jp/EN/ServiceGuide/" TargetMode="External"/><Relationship Id="rId15" Type="http://schemas.openxmlformats.org/officeDocument/2006/relationships/hyperlink" Target="http://pr.jst.go.jp/EN/ServiceGuide/" TargetMode="External"/><Relationship Id="rId16" Type="http://schemas.openxmlformats.org/officeDocument/2006/relationships/hyperlink" Target="http://pr.jst.go.jp/EN/ServiceGuide/" TargetMode="External"/><Relationship Id="rId17" Type="http://schemas.openxmlformats.org/officeDocument/2006/relationships/hyperlink" Target="http://pr.jst.go.jp/EN/ServiceGuide/" TargetMode="External"/><Relationship Id="rId18" Type="http://schemas.openxmlformats.org/officeDocument/2006/relationships/hyperlink" Target="http://pr.jst.go.jp/EN/ServiceGuide/" TargetMode="External"/><Relationship Id="rId1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vid.com/" TargetMode="External"/><Relationship Id="rId3" Type="http://schemas.openxmlformats.org/officeDocument/2006/relationships/hyperlink" Target="http://www.ovid.com/" TargetMode="External"/><Relationship Id="rId4" Type="http://schemas.openxmlformats.org/officeDocument/2006/relationships/hyperlink" Target="http://www.ovid.com/" TargetMode="External"/><Relationship Id="rId5" Type="http://schemas.openxmlformats.org/officeDocument/2006/relationships/hyperlink" Target="http://www.ovid.com/" TargetMode="External"/><Relationship Id="rId6" Type="http://schemas.openxmlformats.org/officeDocument/2006/relationships/hyperlink" Target="http://www1.cuni.cz/~brt/W4LS/dbc.html" TargetMode="Externa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201/0201020.html" TargetMode="External"/><Relationship Id="rId3" Type="http://schemas.openxmlformats.org/officeDocument/2006/relationships/hyperlink" Target="http://full.nkp.cz/nkkr/Nkkr0201/0201020.html" TargetMode="External"/><Relationship Id="rId4" Type="http://schemas.openxmlformats.org/officeDocument/2006/relationships/hyperlink" Target="http://full.nkp.cz/nkkr/Nkkr0201/0201020.html" TargetMode="External"/><Relationship Id="rId5" Type="http://schemas.openxmlformats.org/officeDocument/2006/relationships/hyperlink" Target="http://full.nkp.cz/nkkr/Nkkr0201/0201020.html" TargetMode="External"/><Relationship Id="rId6" Type="http://schemas.openxmlformats.org/officeDocument/2006/relationships/hyperlink" Target="http://full.nkp.cz/nkkr/Nkkr0201/0201020.html" TargetMode="External"/><Relationship Id="rId7" Type="http://schemas.openxmlformats.org/officeDocument/2006/relationships/hyperlink" Target="http://full.nkp.cz/nkkr/Nkkr0201/0201020.html" TargetMode="External"/><Relationship Id="rId8" Type="http://schemas.openxmlformats.org/officeDocument/2006/relationships/hyperlink" Target="http://full.nkp.cz/nkkr/Nkkr0201/0201020.html" TargetMode="External"/><Relationship Id="rId9" Type="http://schemas.openxmlformats.org/officeDocument/2006/relationships/hyperlink" Target="http://full.nkp.cz/nkkr/Nkkr0201/0201020.html" TargetMode="External"/><Relationship Id="rId10" Type="http://schemas.openxmlformats.org/officeDocument/2006/relationships/hyperlink" Target="http://full.nkp.cz/nkkr/Nkkr0201/0201020.html" TargetMode="External"/><Relationship Id="rId11" Type="http://schemas.openxmlformats.org/officeDocument/2006/relationships/hyperlink" Target="http://full.nkp.cz/nkkr/Nkkr0201/0201020.html" TargetMode="External"/><Relationship Id="rId12" Type="http://schemas.openxmlformats.org/officeDocument/2006/relationships/hyperlink" Target="http://platan.vc.cvut.cz/vychova/vychova2/index.html" TargetMode="Externa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YVRG3QNYVA3R8I4C7LSN3DTYCDP49D1YKNRBRYXXDUPUY43LXJ-12035?func=full-set-set&amp;set_number=004958&amp;set_entry=000004&amp;format=999" TargetMode="External"/><Relationship Id="rId3" Type="http://schemas.openxmlformats.org/officeDocument/2006/relationships/hyperlink" Target="http://sigma.nkp.cz/F/31MBUB5GHUTXRRVPLNC4R7NLPKIEY2FRHUMBKX77UVS716LNMK-12541?func=find-b&amp;find_code=WTR&amp;request=datov&#225;+z&#225;kladna" TargetMode="External"/><Relationship Id="rId4" Type="http://schemas.openxmlformats.org/officeDocument/2006/relationships/hyperlink" Target="http://sigma.nkp.cz/F/31MBUB5GHUTXRRVPLNC4R7NLPKIEY2FRHUMBKX77UVS716LNMK-12124?func=find-acc&amp;acc_sequence=000043641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z&#225;znamLISA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zso.cz/" TargetMode="External"/><Relationship Id="rId3" Type="http://schemas.openxmlformats.org/officeDocument/2006/relationships/hyperlink" Target="http://micromedex.cuni.cz/" TargetMode="External"/><Relationship Id="rId4" Type="http://schemas.openxmlformats.org/officeDocument/2006/relationships/hyperlink" Target="http://www.anopress.cz/" TargetMode="External"/><Relationship Id="rId5" Type="http://schemas.openxmlformats.org/officeDocument/2006/relationships/hyperlink" Target="http://vnweb.hwwilsonweb.com/hww/jumpstart.jhtml" TargetMode="External"/><Relationship Id="rId6" Type="http://schemas.openxmlformats.org/officeDocument/2006/relationships/hyperlink" Target="http://www.proquest.com/pqdauto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rtalstm.cz/oborove.htm" TargetMode="External"/><Relationship Id="rId3" Type="http://schemas.openxmlformats.org/officeDocument/2006/relationships/hyperlink" Target="http://www1.cuni.cz/~brt/special/special.htm" TargetMode="External"/><Relationship Id="rId4" Type="http://schemas.openxmlformats.org/officeDocument/2006/relationships/hyperlink" Target="http://www.infozdroje.cz/" TargetMode="External"/><Relationship Id="rId5" Type="http://schemas.openxmlformats.org/officeDocument/2006/relationships/hyperlink" Target="http://database.aipberoun.cz/engine/aip.cgi?MainPage=../aip/aip_cz_basic.htm" TargetMode="External"/><Relationship Id="rId6" Type="http://schemas.openxmlformats.org/officeDocument/2006/relationships/hyperlink" Target="http://database.aipberoun.cz/engine/aip.cgi?MainPage=../aip/aip_cz_basic.htm" TargetMode="External"/><Relationship Id="rId7" Type="http://schemas.openxmlformats.org/officeDocument/2006/relationships/hyperlink" Target="http://database.aipberoun.cz/engine/aip.cgi?MainPage=../aip/aip_cz_basic.htm" TargetMode="External"/><Relationship Id="rId8" Type="http://schemas.openxmlformats.org/officeDocument/2006/relationships/hyperlink" Target="http://www.portalstm.cz/oborove.htm" TargetMode="External"/><Relationship Id="rId9" Type="http://schemas.openxmlformats.org/officeDocument/2006/relationships/hyperlink" Target="http://www1.cuni.cz/~brt/special/special.htm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ip.cz/" TargetMode="External"/><Relationship Id="rId3" Type="http://schemas.openxmlformats.org/officeDocument/2006/relationships/hyperlink" Target="http://www.aip.cz/" TargetMode="External"/><Relationship Id="rId4" Type="http://schemas.openxmlformats.org/officeDocument/2006/relationships/hyperlink" Target="http://www.aip.cz/" TargetMode="External"/><Relationship Id="rId5" Type="http://schemas.openxmlformats.org/officeDocument/2006/relationships/hyperlink" Target="http://www.suweco.cz/online/cz3/default.asp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Profesionální EIZ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8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ístup k d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formační zdroje na CD-RO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 ročního předplatného (zahrnující několik aktualizací da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dnorázový náku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stupnost – na jednotlivých počítačích nebo v lokální síti pomocí speciálního software, který je součástí dodáv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OFF-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dnorázové roční předplatné (odpadá placení za přístup do db a dobu vyhledávání v db, za zobrazené záznamy, neplatí se telekomunikační poplatky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ní problém s telekomunikačním připojení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ON-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ba jen za uskutečněné transakc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ůběžná aktualizace záznamů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ávazné služby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ED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ůzné slevy a výhodnější režim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ětší retrospektiva fond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žnost průřezového vyhledávání ve více databázích najedno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E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cc0000"/>
                </a:solidFill>
                <a:latin typeface="Verdana"/>
              </a:rPr>
              <a:t>OFF-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ktualizace dat probíhá se zpožděním v různých časových intervalech (týden, měsíc, čtvrtletí adt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lze pracovat pouze s jednou (nebo jen s omezeným počtem) databází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ON-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ysoká cen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časový tlak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ůzný vyhledávací softwa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ůže se přerušit spojení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kup I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istribuční agentury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lbertina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icome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Prah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LICENC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orciální licence -  licence na přístup k elektronickým informačním zdrojům, která pokrývá větší počet organizací (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SUWECO C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1N04170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AIP konsorci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rodní licence - umožňuje přístup všem institucím v rámci České republiky, které splňují určitá kritéria, např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akademické licen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L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Literature Online Fulltext Collec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cence instituce / knihovny / fakulty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dpora ze strany st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ormační infrastruktura výzkumu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rogram 1N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) MŠM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Vyhlášení veřejné soutěže na program výzkumu a vývoj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lužby databázových cen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nost provádět retrospektivní a průběžné rešerše v on-line režim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prostředkování primárních dokumentů (služby typu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EDD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ílání krátkých zpráv o nových produktech, službách a dění v databázovém centr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Školení, podpůrná dokumentace, výukové programy, tréninkové databáz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lpy, popisy databáz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znamná dat. cent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davatel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homson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Dialog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největší světový poskytovatel přístupu k profesionálním IZ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ialo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s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RKETRESEARCH (dříve Profou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znamná dat. cent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TN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Internationa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znamné databázové centrum pro oblast vědeckotechnických informací, hlavně pro přírodní a technické vědy i pro patentové informace. Skládá se ze 3 nezávislých, ale technicky a organizačně spolupracujících center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hemical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Abstracts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Services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 (CAS)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 US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FIZ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Karlsruhe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 Německ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Japan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Information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 Center for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Scientific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and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 Technology (JICST)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, Japonsk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vid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Technologies,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Inc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eznam významných DC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z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Doplňující literatura</a:t>
            </a: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KULOVÁ, S.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Úvod do informačných technológií. 2, Databázové technológie a bázy dát : databázový systém CDS/ISI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Bratislava : STIMUL-Centrum informatických a vzdelávacích služieb, 199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APÍK, R. Vyhledávání informací III. Dialogové služby světových databázových center.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2002, roč. 13, č. 1, s. 20–30. Dostupné též z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ful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nkp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.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z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/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nkkr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/Nkkr0201/0201020.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m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Informační výchov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knihovny ČVU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51280" y="4508640"/>
            <a:ext cx="392436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Definice databáze (d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Základní členění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říklady významných obor.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roducenti, vydavatelé, distributoř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řístup k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Nákup I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lužby databázových cen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Doplňující litera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Databáze/báz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ef.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DKIV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systém uspořádaných digitálních dat, a to takovým způsobem, aby se s nimi dalo efektivně manipulov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atová základn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množina jednotně strukturovaných dat uložených v paměti počítače nebo na záznamovém médiu, tvoří určitý cel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systém řízení báze da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 - programové vybavení pro práci s daty, rozhraní mezi daty v db a uživatele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báze jako sbírka informací je organizována do 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záznamů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ol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z hlediska vyhledáván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je db obvykle rozdělena na vlastní data (předmět vyhledávání) a datové index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řístupový mechanismus k záznamům v d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ákladní typy db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bibliografické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sahují záznamy (často doplněné abstraktem) článků z časopisů, knih, příspěvků z konferencí a dalších dokumentů (LISA, MEDLINE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faktografické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sahují konkrétní textové nebo číselné údaj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umerick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hlavně statistická data)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Český statistický úřad ČR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faktov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slovně nebo pomocí tabulek shrnují podstatná fakta z původních pramenů)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Micromedex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atabáz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typu průvodce (adresáře firem, katalogy výrobců, rejstříky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plnotextové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lné texty (full text) dokumentů, tedy primárních pramenů, většinou se jedná o kompletní znění novin, zpravodajských textů, článků z časopisů a sborníků z konferencí, právních dokumentů, aj. (Wiley InterScience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Anopress I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LLI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ProQuest 5000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aměření d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orově zaměřeny, multioborov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b určitých druhů dokumentů (periodika, noviny, šedá literatura, normy, patent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b určitých druhů dat (jízdní řády, statistická da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Příklady významných obor.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rodní vědy, technika, lékařství (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ortál ST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výukový portál ÚIS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Infozdroje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lbertina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icome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Praha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katalog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ové db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Portál ST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výukový portál ÚI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Producenti, vydavatelé, distributoř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3772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producent bd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vůrce bd, který ji  vystavuje na vlastním hostitelském počítači nebo distribuuje jiným způsobem (CD-ROM), zprostředkování přes rozhraní www, prodej zprostředkovatelským institucí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distributoři -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firmy, které se zabývají šířením bází dat uživatelům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lbertina 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icome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Prah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SUWECO CZ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databázová centra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- organizace, která disponuje výkonným hostitelským výpočetním systémem, programovými systémy pro dialogové vyhledávání dat a rozsáhlým sortimentem bází dat. DC vstupuje do vztahů s producenty bází dat, kteří mu poskytují své produkty prostřednictvím licencí na jejich zpřístupňování (více zde a zde:-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ístup k d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jčastěji formou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nline přístup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nebo jsou dodávány n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D-ROM/DVD-RO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nline informační zdroj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lze získat buď na základě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očního paušálního předplatné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bo se cena stanoví podle skutečného využití zdroje (tzv. transakční účtování) -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ransakčn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ma (typická pro velká databázová centr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4-13T17:52:29Z</dcterms:modified>
  <cp:revision>16</cp:revision>
  <dc:subject/>
  <dc:title>Tvorba rešerší 2 </dc:title>
</cp:coreProperties>
</file>