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A3DA-0B80-4AF6-A489-2B593D986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D4D3-17C8-4025-9F2F-0557E679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3420-E74A-4B4D-83C4-E9CDA260A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A82D-8082-4296-A517-C95E3B2D0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FA7F-7C8F-4DBE-8979-B29305545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352B-8139-40D7-BCE1-1DBCC951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6BE5-433D-4FF2-82BA-E27EE442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D11A-9E57-4D41-890E-BA918B8B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1103-C5A4-457F-B633-D4A5205D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BCC9-F8FF-4A34-A76F-F10F6EB8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2635-CD7D-496D-80CF-5D9FBF47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194C-300D-4DDB-B873-7A1F255B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59AD-941C-4CFE-BD73-8F384A23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58759-68C0-4BDA-8E88-69A0218A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9FC3-5B9B-4AFF-9919-B38DB609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B67F-1762-4D52-9838-8C04CAA6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DCF8-B3D5-42FC-A2F2-747E9ED85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FC88-81DD-425B-9D99-5F45ADC6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98E9-7D9F-44AD-9FF5-3039C2CC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DDAF-99EC-4B96-8769-81C94B4D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99CC-3FB4-47D7-94D5-CFE484B4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D44C-F805-4E9C-AB1A-0A656F36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DCB1-AF12-4EE2-9DA8-BADDAD60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DA0D-0E5C-43B2-B689-EB73CC7A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34A8-57AA-43F6-8C12-42367831371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848B-8226-4E32-B622-5730BA9600D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srovn&#225;n&#237;_datab&#225;z&#237;.xls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Databáze pro knihovnictví a informační vědu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Verdana"/>
              </a:rPr>
              <a:t>Rešeršní a studijně rozborová činnos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Verdana"/>
              </a:rPr>
              <a:t>22. 4. 200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5300640"/>
            <a:ext cx="3384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vyučující: Silvie Pres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resova</a:t>
            </a: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@</a:t>
            </a: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hil.muni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Kabinet knihovnictví – Ústav české literatury a knihovnictví, F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Spojení mezi slovy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S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íce údajů bez operátorů vyhledává jako fráz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íce údajů bez operátorů vyhledává jako fráz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L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ault operátor AN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Variantní formy údaj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S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rácení: </a:t>
            </a:r>
            <a:r>
              <a:rPr b="0" lang="en-US" sz="2200" spc="-1" strike="noStrike">
                <a:solidFill>
                  <a:srgbClr val="33cc33"/>
                </a:solidFill>
                <a:latin typeface="Verdana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zástupný znak: </a:t>
            </a:r>
            <a:r>
              <a:rPr b="0" lang="en-US" sz="2200" spc="-1" strike="noStrike">
                <a:solidFill>
                  <a:srgbClr val="33cc33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rácení: </a:t>
            </a:r>
            <a:r>
              <a:rPr b="0" lang="en-US" sz="2200" spc="-1" strike="noStrike">
                <a:solidFill>
                  <a:srgbClr val="33cc33"/>
                </a:solidFill>
                <a:latin typeface="Verdana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zástupný znak: </a:t>
            </a:r>
            <a:r>
              <a:rPr b="0" lang="en-US" sz="2200" spc="-1" strike="noStrike">
                <a:solidFill>
                  <a:srgbClr val="33cc33"/>
                </a:solidFill>
                <a:latin typeface="Verdana"/>
              </a:rPr>
              <a:t>?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200" spc="-1" strike="noStrike">
                <a:solidFill>
                  <a:srgbClr val="33cc33"/>
                </a:solidFill>
                <a:latin typeface="Verdana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L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rácení: </a:t>
            </a:r>
            <a:r>
              <a:rPr b="0" lang="en-US" sz="2200" spc="-1" strike="noStrike">
                <a:solidFill>
                  <a:srgbClr val="33cc33"/>
                </a:solidFill>
                <a:latin typeface="Verdana"/>
              </a:rPr>
              <a:t>&lt;stem&gt;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200" spc="-1" strike="noStrike">
                <a:solidFill>
                  <a:srgbClr val="33cc33"/>
                </a:solidFill>
                <a:latin typeface="Verdana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zástupný znak:</a:t>
            </a:r>
            <a:r>
              <a:rPr b="0" lang="en-US" sz="2200" spc="-1" strike="noStrike">
                <a:solidFill>
                  <a:srgbClr val="33cc33"/>
                </a:solidFill>
                <a:latin typeface="Verdana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33"/>
                </a:solidFill>
                <a:latin typeface="Verdana"/>
              </a:rPr>
              <a:t>?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ůže být i na začátku řetěz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Vyhledávání v polích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S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IN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např.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information in 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I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znak = bez mez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např. de=UD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L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IN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např.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information in s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Nástroje pro věcné vyhledává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S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ezaurus ASIS - 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ubject class. heading - SH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I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ezaurus LISA - 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ez klasifik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L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ředmětová hesla – S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DC, LC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ouhrnné informace o jednotlivých charakteristických znacích databází viz </a:t>
            </a: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tabulk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Zdroje z 1N04170 – IZ pro knihovnictví a informační vědu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33cc33"/>
                </a:solidFill>
                <a:latin typeface="Verdana"/>
              </a:rPr>
              <a:t>bibliografické d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Information Science and Technology Abstracts Plus - IS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brary and information science abstracts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33cc33"/>
                </a:solidFill>
                <a:latin typeface="Verdana"/>
              </a:rPr>
              <a:t>plnotextová d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brary Literature &amp; Info Sciences Fulltext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LL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IS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producent: EBSCO Publish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vydavatel (v rámci licence): Ovid Technologies Lt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rešeršní systém: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WebSPIRS</a:t>
            </a:r>
            <a:r>
              <a:rPr b="0" lang="cs-CZ" sz="22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TM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12 přístupů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LIS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producent: Cambridge Scientific Abstracts (C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vydavatel (v rámci licence): Cambridge Scientific Abstracts (C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rešeršní systém: ID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přístup bez omezení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L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ducent: H. W. Wils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ydavatel (v rámci licence): H. W. Wilson Comp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ešeršní systém: WilsonWeb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4 přístup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IS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řes 450 seriálových publikací, retrospektiva od r. 1966, 255 tis. záznamů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émata: abstrahování a indexování, klasifikování, informační management, vyhledávání informací, vedení knihoven, telekomunika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zpracovávány jsou také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nih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ědeckovýzkumné zpráv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iserta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borníky z konferencí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atenty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LI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řes 550 seriálových publikací, retrospektiva od r. 1969, 250 tis. záznamů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émata: knihovnictví a odborné knihovny, informatika, management knihoven, vyhledávání informací, hypertext, nové informační technologie, expertní systémy, strojový překlad, vydavatelství, audiovizuální materiály, internetové technologie, CD a DVD, WW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zpracovány jsou také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ih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ědeckovýzkumné zpráv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ertace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LL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300 periodik a přes 600 monografií ročně (od roku 1936), ve verzi FULLTEXT jsou plné texty 100 časopisů počínaje rokem 199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émata: automatizace, katalogizace, cenzura, autorské právo, pracovní příležitosti, informační zprostředkování, národní a mezinárodní knihovny, ochranu fondů, vydavatelství, standardizaci apo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zpracovány jsou tak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ižní publika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Použitelné operáto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IS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AND, OR, NO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Verdana"/>
              </a:rPr>
              <a:t>WIHT (slova v poli kdekoliv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Verdana"/>
              </a:rPr>
              <a:t>NEAR (slova ve stejné větě jakéhokoli pol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LIS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AND, OR, NO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WITHIN a počet slov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NEAR max. 9 slov mezi termíny, tj. jako within 1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BEFORE, AFTER nemusí jít o těsné pořadí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LLIS - operáto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AND, OR, NOT 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různé kategorie operátorů (musí být v ostrých závorkách, basic search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roximitní: &lt;near&gt;, &lt;near/počet slov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koncepčn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relačn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evidenčn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kórovac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řirozeného jazy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odifiká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06:02:53Z</dcterms:created>
  <dc:creator>Silvie Presová</dc:creator>
  <dc:description/>
  <dc:language>en-US</dc:language>
  <cp:lastModifiedBy>Silvie Presová</cp:lastModifiedBy>
  <dcterms:modified xsi:type="dcterms:W3CDTF">2005-06-07T18:00:40Z</dcterms:modified>
  <cp:revision>20</cp:revision>
  <dc:subject/>
  <dc:title>Tvorba rešerší 2 </dc:title>
</cp:coreProperties>
</file>