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A86-CB90-49DA-9365-7D6136CF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4B2-8B5B-4E76-9D1D-02EC0B8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E00-7032-4DFC-BB0E-0606BF8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EA2-E2C1-4589-8F5C-5AEE755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AC3-9DA0-4125-9C19-CA8B4356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FF8B-A7F7-4A5F-8623-482CEDC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D867-36E6-449D-8E23-28A96F2A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BD8E-7575-4778-A32D-619FC03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075-055F-4AA5-AA1A-BB8C49C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F37F-EFFA-44DA-B519-A2FB18F5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704-1A3E-4C44-BFC7-1407936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703-D1C6-4CC2-AFF0-29D92D5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C74-1FFC-4CAE-872E-2C89836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75AB-E8E3-4D05-B0FA-F717741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41D-8444-4182-8118-942A0C8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E7AE-2B17-47AB-A832-29BE9191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C4FB-0BED-43D3-A0F4-D9FB5596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BBF-C3DF-4564-A9A3-3270E44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0A2-5E64-4A0E-A108-73A69AF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54C-58B8-4B05-A3E1-99B3936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729-7408-492F-A665-527BBB90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3C3-7CEA-4FAB-89F4-6FA4EC0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E2B-2FC8-41F6-970D-D16DFD4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D4E-622C-4DC8-80A9-36DCC55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A9C-3DA7-420A-8F42-8079D9CCDD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50A-DCD5-40A7-93E7-8D09076148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rovn&#225;n&#237;_datab&#225;z&#237;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Databáze pro knihovnictví a informační věd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2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pojení mezi slov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ault operátor 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ariantní formy údaj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&lt;stem&g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ůže být i na začátku řetěz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polí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nak = bez mez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de=UD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stroje pro věcné vyhled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ASIS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ubject class. heading - S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LISA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 –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DC, L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uhrnné informace o jednotlivých charakteristických znacích databází viz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abul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Zdroje z 1N04170 – IZ pro knihovnictví a informační věd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bibliografické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Science and Technology Abstracts Plus - 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lnotextová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Literature &amp; Info Sciences Fulltext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EBSCO Publis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Ovid Technologies Lt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WebSPIRS</a:t>
            </a:r>
            <a:r>
              <a:rPr b="0" lang="cs-CZ" sz="2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TM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12 přístup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 I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řístup bez omez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ducent: H. W. Wil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vatel (v rámci licence): H. W. Wilson Comp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šeršní systém: WilsonWeb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přístu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s 450 seriálových publikací, retrospektiva od r. 1966, 255 tis. záznam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émata: abstrahování a indexování, klasifikování, informační management, vyhledávání informací, vedení knihoven, telekomun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pracovávány jsou tak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ert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borníky z konferen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tent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I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es 550 seriálových publikací, retrospektiva od r. 1969, 250 tis. záznam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émata: knihovnictví a odborné knihovny, informatika, management knihoven, vyhledávání informací, hypertext, nové informační technologie, expertní systémy, strojový překlad, vydavatelství, audiovizuální materiály, internetové technologie, CD a DVD, WW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ertac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0 periodik a přes 600 monografií ročně (od roku 1936), ve verzi FULLTEXT jsou plné texty 100 časopisů počínaje rokem 199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émata: automatizace, katalogizace, cenzura, autorské právo, pracovní příležitosti, informační zprostředkování, národní a mezinárodní knihovny, ochranu fondů, vydavatelství, standardizaci ap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ižní publ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elné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WIHT (slova v poli kdekoliv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NEAR (slova ve stejné větě jakéhokoli po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ITHIN a počet slo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AR max. 9 slov mezi termíny, tj. jako within 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BEFORE, AFTER nemusí jít o těsné pořad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 -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ND, OR, NO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ůzné kategorie operátorů (musí být v ostrých závorkách, basic sear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ximitní: &lt;near&gt;, &lt;near/počet slo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p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la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viden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órovac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rozeného jazy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odifiká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7T18:00:40Z</dcterms:modified>
  <cp:revision>20</cp:revision>
  <dc:subject/>
  <dc:title>Tvorba rešerší 2 </dc:title>
</cp:coreProperties>
</file>