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05F8-C8B1-4CA6-B9C5-872C2BB5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E73-A09D-4E4C-A1EE-0B6E4D9D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1E7-CD49-48FE-BA10-E98CAEDD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EA7-6441-4FC9-BD04-C6F3067D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279D-45E5-41C0-985E-00BFB346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AA87-3392-415D-B91D-CB89F70D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A4DB-5E0D-463D-80C3-9603BCAB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DC9F-2EEE-4776-BE2A-E6377D7D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0ADE-2CF3-4CBC-B9BA-26766A55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C6F4-820F-4FD3-8988-4142FD60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A9BA-FC89-4EC5-B944-65929784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2BFD-E910-4A04-89F5-C8EB00D0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7D1E-84A4-403E-8268-3B3EC9F1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881E-6AE9-41DF-B45A-EF131A00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96DB-E1C4-41BB-B57D-D6EEA18F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76C9-EB98-4F20-B6DF-C98D2FDE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FB21-9E1A-4AA1-B955-66138050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B1C-E79E-4344-A244-BF39231A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035F-63C3-456A-B165-1DF91C8E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D9C-D8F2-41ED-9255-599DF2EF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240-BF9F-42DA-B4EF-F8B348FF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4471-6887-4975-AE2B-96657D63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184B-251A-4266-B05F-488363EC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29D-A375-4477-BFC3-BFA236DD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8CBE-1C92-4A84-AFDF-AC674BC563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140D-3DAC-45B4-A0E3-A52A7AF0C9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srovn&#225;n&#237;_datab&#225;z&#237;.xls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Databáze pro knihovnictví a informační vědu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Rešeršní a studijně rozborová činno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22. 4.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00640"/>
            <a:ext cx="338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Spojení mezi slovy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íce údajů bez operátorů vyhledává jako fráz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íce údajů bez operátorů vyhledává jako fráz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L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ault operátor AN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ariantní formy údaj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S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rácení: 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ástupný znak: 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rácení: 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ástupný znak: 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?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L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rácení: 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&lt;stem&gt;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ástupný znak:</a:t>
            </a: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Verdana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ůže být i na začátku řetěz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yhledávání v políc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např.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formation in 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znak = bez mez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např. de=UD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L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Verdana"/>
              </a:rPr>
              <a:t>např.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formation in s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ástroje pro věcné vyhledává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zaurus ASIS - 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ubject class. heading - S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ezaurus LISA - 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bez klasifik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L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edmětová hesla – S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DC, LC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uhrnné informace o jednotlivých charakteristických znacích databází viz </a:t>
            </a: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tabul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Zdroje z 1N04170 – IZ pro knihovnictví a informační věd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bibliografické d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nformation Science and Technology Abstracts Plus - IS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brary and information science abstract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Verdana"/>
              </a:rPr>
              <a:t>plnotextová d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brary Literature &amp; Info Sciences Fulltext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- LL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S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oducent: EBSCO Publis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ydavatel (v rámci licence): Ovid Technologies Lt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rešeršní systém: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WebSPIRS</a:t>
            </a:r>
            <a:r>
              <a:rPr b="0" lang="cs-CZ" sz="22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TM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12 přístup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oducent: Cambridge Scientific Abstracts (C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ydavatel (v rámci licence): Cambridge Scientific Abstracts (C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rešeršní systém: I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řístup bez omeze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L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oducent: H. W. Wils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davatel (v rámci licence): H. W. Wilson Comp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ešeršní systém: WilsonWeb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4 přístup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IS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řes 450 seriálových publikací, retrospektiva od r. 1966, 255 tis. záznam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émata: abstrahování a indexování, klasifikování, informační management, vyhledávání informací, vedení knihoven, telekomunika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pracovávány jsou také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nih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ědeckovýzkumné zpráv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serta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borníky z konferenc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tenty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LI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řes 550 seriálových publikací, retrospektiva od r. 1969, 250 tis. záznam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émata: knihovnictví a odborné knihovny, informatika, management knihoven, vyhledávání informací, hypertext, nové informační technologie, expertní systémy, strojový překlad, vydavatelství, audiovizuální materiály, internetové technologie, CD a DVD, WW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zpracovány jsou také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ih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ědeckovýzkumné zpráv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ertace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LL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00 periodik a přes 600 monografií ročně (od roku 1936), ve verzi FULLTEXT jsou plné texty 100 časopisů počínaje rokem 199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émata: automatizace, katalogizace, cenzura, autorské právo, pracovní příležitosti, informační zprostředkování, národní a mezinárodní knihovny, ochranu fondů, vydavatelství, standardizaci apo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pracovány jsou tak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ižní publika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oužitelné operáto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S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ND, OR, NO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Verdana"/>
              </a:rPr>
              <a:t>WIHT (slova v poli kdekoliv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Verdana"/>
              </a:rPr>
              <a:t>NEAR (slova ve stejné větě jakéhokoli pol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LI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AND, OR, NO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WITHIN a počet slov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EAR max. 9 slov mezi termíny, tj. jako within 1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BEFORE, AFTER nemusí jít o těsné pořad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LLIS - operáto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ND, OR, NOT 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ůzné kategorie operátorů (musí být v ostrých závorkách, basic search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ximitní: &lt;near&gt;, &lt;near/počet slov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koncepč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relač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evidenč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kórovac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irozeného jazy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odifiká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6:02:53Z</dcterms:created>
  <dc:creator>Silvie Presová</dc:creator>
  <dc:description/>
  <dc:language>en-US</dc:language>
  <cp:lastModifiedBy>Silvie Presová</cp:lastModifiedBy>
  <dcterms:modified xsi:type="dcterms:W3CDTF">2005-06-07T18:00:40Z</dcterms:modified>
  <cp:revision>20</cp:revision>
  <dc:subject/>
  <dc:title>Tvorba rešerší 2 </dc:title>
</cp:coreProperties>
</file>