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52A6-74BA-4CD9-ABFC-74125FA8F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2EDB-3CDB-4B12-A8B7-C6F0F466D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668C-274C-43FD-9752-CDCD11B03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C4C5-4D74-45A8-BEEE-C7E355865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A404-F524-44C2-9F1F-67C201AA5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E093-399B-4AAE-B506-AD063E569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4813-6B5E-457E-9A75-35EF23BE2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1FE4-1926-43C9-B1E0-DF654A0C1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AEC9-BE86-40FB-A1C2-E9C3A018D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1AF2-586D-47B5-BFE9-916DC59D4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4DAB-E312-45B6-A965-B7D6C325B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4AFA-39A0-478D-B332-538CCE4AD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7B87A-8984-45D6-8B42-3485F24085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87240" y="868320"/>
          <a:ext cx="7769520" cy="5122800"/>
        </p:xfrm>
        <a:graphic>
          <a:graphicData uri="http://schemas.openxmlformats.org/drawingml/2006/table">
            <a:tbl>
              <a:tblPr/>
              <a:tblGrid>
                <a:gridCol w="1295640"/>
                <a:gridCol w="1293840"/>
                <a:gridCol w="1295280"/>
                <a:gridCol w="1295280"/>
                <a:gridCol w="1293840"/>
                <a:gridCol w="1295640"/>
              </a:tblGrid>
              <a:tr h="169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ten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ální zákazní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nanční institu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edsta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telé komuni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aměst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n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tneř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ktivní účastní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váci na ak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vá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V, rozhlas, čtenáři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12:12:25Z</dcterms:created>
  <dc:creator>kozakova</dc:creator>
  <dc:description/>
  <dc:language>en-US</dc:language>
  <cp:lastModifiedBy>kozakova</cp:lastModifiedBy>
  <dcterms:modified xsi:type="dcterms:W3CDTF">2005-12-05T12:12:49Z</dcterms:modified>
  <cp:revision>1</cp:revision>
  <dc:subject/>
  <dc:title>Prezentace aplikace PowerPoint</dc:title>
</cp:coreProperties>
</file>