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3331-951D-4BEF-A428-6392F1E66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22C3-5A4F-427E-AE0E-5196E6AD2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3D5C-AC25-4FE7-BE5F-871673445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1339-77E9-4E1E-AD36-4317C3B8E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F65E-9784-402D-B7D7-4EC910A6F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DFBF-7FA0-4410-A66F-D19B51407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9785-F36D-4646-BD9E-12EF9F19B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F4FB-D8DD-45B8-B0E2-A2F39ABCA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71D8-42A6-4147-971B-E815FD1FA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8979-4BC0-4641-8066-5845442FC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8E58-1CBD-474B-88BB-FAC08040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F191-916A-4560-9E45-AEAAB11FF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AEB70-6583-46B5-B7C4-76765FF434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7240" y="868320"/>
          <a:ext cx="7769520" cy="5122800"/>
        </p:xfrm>
        <a:graphic>
          <a:graphicData uri="http://schemas.openxmlformats.org/drawingml/2006/table">
            <a:tbl>
              <a:tblPr/>
              <a:tblGrid>
                <a:gridCol w="1295640"/>
                <a:gridCol w="1293840"/>
                <a:gridCol w="1295280"/>
                <a:gridCol w="1295280"/>
                <a:gridCol w="1293840"/>
                <a:gridCol w="1295640"/>
              </a:tblGrid>
              <a:tr h="16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en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ální zákazní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anční institu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edsta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telé komuni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měst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n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neř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ktivní účastní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áci na ak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á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V, rozhlas, čtenář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12:25Z</dcterms:created>
  <dc:creator>kozakova</dc:creator>
  <dc:description/>
  <dc:language>en-US</dc:language>
  <cp:lastModifiedBy>kozakova</cp:lastModifiedBy>
  <dcterms:modified xsi:type="dcterms:W3CDTF">2005-12-05T12:12:49Z</dcterms:modified>
  <cp:revision>1</cp:revision>
  <dc:subject/>
  <dc:title>Prezentace aplikace PowerPoint</dc:title>
</cp:coreProperties>
</file>