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B5603-C4B9-4A4D-A48F-AD8F30289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70841-933C-4922-BB77-1261931E0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9DFB2-933E-4C45-8E70-B2C991540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D3E2F-F831-4141-B755-BE982AE45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A8004-B18D-4A32-963A-491D4A0C2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6826D-D312-427D-BA48-4F280F0D5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A209C-597F-45D7-A6F1-4E28ED966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E8B0D-C5E9-4019-837A-E7769D3B8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AE63F-960A-475E-B172-14483B67F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EC09F-788D-40CC-B049-EE9EDEFFA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22BEF-1821-4FC3-A926-5D65BAF22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7A879-D725-4A59-9FF4-28EE9AE3E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BCEF5-7D1F-4A20-8342-CBED2BE89E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066680" y="1295280"/>
          <a:ext cx="6934320" cy="4043520"/>
        </p:xfrm>
        <a:graphic>
          <a:graphicData uri="http://schemas.openxmlformats.org/drawingml/2006/table">
            <a:tbl>
              <a:tblPr/>
              <a:tblGrid>
                <a:gridCol w="3467160"/>
                <a:gridCol w="3467160"/>
              </a:tblGrid>
              <a:tr h="206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ývoj produkt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ařazení baletních představení do nabídky divadl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1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zšiřování, rozvoj trh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ytvoření nových představení pro nový tr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verzifika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bídka nových typů zájezdových představení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367200" y="2556000"/>
            <a:ext cx="400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295280"/>
            <a:ext cx="143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istujíc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472428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v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657600" y="57150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ÝROB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76520" y="5715000"/>
            <a:ext cx="144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istujíc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248520" y="571500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v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388160" y="727200"/>
            <a:ext cx="3216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nikání na tr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sažení většího tržníh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dílu mezi divá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 řad studentů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32000" y="620640"/>
            <a:ext cx="67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plikace Ansoffovy matice pro regionální divad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8T11:42:18Z</dcterms:created>
  <dc:creator>simona</dc:creator>
  <dc:description/>
  <dc:language>en-US</dc:language>
  <cp:lastModifiedBy>simona</cp:lastModifiedBy>
  <dcterms:modified xsi:type="dcterms:W3CDTF">2005-11-28T11:42:59Z</dcterms:modified>
  <cp:revision>1</cp:revision>
  <dc:subject/>
  <dc:title>.</dc:title>
</cp:coreProperties>
</file>