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D170-2CC7-42FE-8B1E-2F84E4369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1CCD-74A3-4443-B373-930C01987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23F0-9F3F-48F5-8778-80DD58F45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AB46-D683-4EEC-9841-D0E71AF81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9032-C60A-40D1-BDA4-4B3786A0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9DD9-0A1D-4616-A664-4F805BFAE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A6F6-FB41-4140-8C61-7C3337A89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5A8E-35D3-49B3-81D6-125E18BC3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8678-2901-4105-9445-15919ECE3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1B71-0C15-4D65-896C-F8325929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8D68-49B2-49AF-AD02-6AC8546B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D4D6-DC52-4F62-8C75-4B58DDDC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7C09E-E152-4438-B658-441ED38BC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4120" y="25909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411480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20040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mpo růstu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6248520"/>
            <a:ext cx="88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vní podíl organizace na trhu potř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860560"/>
            <a:ext cx="12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4537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2514600"/>
            <a:ext cx="2438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věz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 Rostouc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2438280"/>
            <a:ext cx="3276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azníky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émové dě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negativní tok peněz. Nízký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4191120"/>
            <a:ext cx="23623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ojné) k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pozitivní tok peněz. Nejvyš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4191120"/>
            <a:ext cx="3352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Nejniž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57564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5756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41760" y="551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057040" y="57913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59007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828800" y="24382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8160" y="376704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2:56:43Z</dcterms:created>
  <dc:creator>simona</dc:creator>
  <dc:description/>
  <dc:language>en-US</dc:language>
  <cp:lastModifiedBy>simona</cp:lastModifiedBy>
  <dcterms:modified xsi:type="dcterms:W3CDTF">2005-11-28T12:57:08Z</dcterms:modified>
  <cp:revision>1</cp:revision>
  <dc:subject/>
  <dc:title>.</dc:title>
</cp:coreProperties>
</file>