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0848-A03A-4F45-A655-E351DECA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C7A5-A366-4A3E-9B45-35F5FF7E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E6D2-03A2-4057-95D1-6F8289EE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AE9A-2078-439A-B25C-97DF2BF6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BC5F-A696-4D63-B977-0F627870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D671-95B6-4833-9B7D-41BB6357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8B20-0355-433C-88DB-2E8A1EA8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6E1F-FE52-4415-8344-CAEDBDA9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8503-CC43-499B-910A-DEBCFDA1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2E59-ACF3-4DA7-A235-EE74B4EC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C8B2-8C66-4E6F-AEDC-C1588DDB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0CC0-7330-47FE-BDFF-81E6F19D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33AE-12D3-4DD6-A67B-3EC737B0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AA2E-FC3F-45FF-A32D-B6019DC7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1EB0-FE1C-4C03-AA82-B7FC496E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24FB-844A-4893-A22F-F4DB9F99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8909-0A15-45A3-8055-DB4FDCEC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5C9-957F-4209-A8B5-B9F260FD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48E5-67E1-40DD-B5B5-9B0F3D79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1432-9D03-4A41-869D-537F1A65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D0AA-5C08-44BD-AED5-DBCAA202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586A-F984-45BA-9670-C0736B4C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A749-CE9A-4CFD-8BE1-16992FC0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4AC5-C5E7-4612-A548-10C7421E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DD66-F9E4-4C27-B885-F80C92CC859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BEB5-C762-4EDF-9951-190B36D287C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docs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igma.nkp.cz/cze/nk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psp.cz/sqw/ev/evquery.sqw" TargetMode="External"/><Relationship Id="rId5" Type="http://schemas.openxmlformats.org/officeDocument/2006/relationships/image" Target="../media/image2.png"/><Relationship Id="rId6" Type="http://schemas.openxmlformats.org/officeDocument/2006/relationships/hyperlink" Target="POJIST.doc" TargetMode="External"/><Relationship Id="rId7" Type="http://schemas.openxmlformats.org/officeDocument/2006/relationships/hyperlink" Target="http://full.nkp.cz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POJIST.doc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racek.vlada.cz/" TargetMode="External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sqw/text/dotaz2.sqw?search=1&amp;od=2002&amp;do=dnes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lsi.research.telcordia.com/lsi-bin/lsiQuery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eknih/1981fs/index.htm" TargetMode="External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98&amp;do=dnes" TargetMode="External"/><Relationship Id="rId4" Type="http://schemas.openxmlformats.org/officeDocument/2006/relationships/hyperlink" Target="http://www.psp.cz/sqw/text/dotaz2.sqw?search=1&amp;od=1998&amp;do=dnes" TargetMode="External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cgi-bin/win/sqw/ev/evquery.sqw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elekční jazyky</a:t>
            </a:r>
            <a:br>
              <a:rPr sz="40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oučasné trend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200400"/>
            <a:ext cx="678168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40458c"/>
                </a:solidFill>
                <a:latin typeface="Tahoma"/>
              </a:rPr>
              <a:t>Přednáška č. 3 (24.3.2006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jaro 2005/2006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Josef Schwarz, informační konzulta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http://schwarz.webpark.c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é termíny, pojmy, tém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 časovým zpožděním, nutnost vyjádřit stávajícími deskriptory nebo jejich kombin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Eurovo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z problé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AF1-720F-414F-966E-DA67D6781057}" type="slidenum">
              <a:t>10</a:t>
            </a:fld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pecifič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mezená množina lexikálních jednote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šechny specifické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4E9C-4380-4FF6-B092-7114B590CCF3}" type="slidenum">
              <a:t>11</a:t>
            </a:fld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Vzdále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vykle (v rámci SOD) není potřeb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žnost blízkosti zadaných výrazů (fráz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NK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počtem slov (příp. se zohlednění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segmentem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8AAB-90A3-4A57-BC75-F4BF609D2A7C}" type="slidenum">
              <a:t>12</a:t>
            </a:fld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élka SOD / tex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běrová (selec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plná (exhaus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omprimovaný tex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bstrakt, anotace, výtah 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ozsah komprim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lný text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64832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trémy: klasifikace do jedné třídy x plný tex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yšší délka -&gt; vyšší úplnos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Úplná indexace přináší úplnější výsledky vyhledávání než název a  krátký abstrak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rátký abstrakt přináší úplnější výsledky vyhledávání než výběrová index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louhý abstrakt (referát) a plný text přinášejí úplnější výsledky vyhledávání než úplná index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B61-4E90-4890-A82F-55000077D240}" type="slidenum">
              <a:t>13</a:t>
            </a:fld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 uživate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užívá spíše odborník seznámený s pravidly tvorby, strukturou a způsobem práce s Ř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lasifikace, které nejsou založené na přirozeném jazyce, běžní uživatelé využívají minimáln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e přístupný všem typům uživatel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C87A-FE5F-4F61-A5D0-1DB108584B44}" type="slidenum">
              <a:t>14</a:t>
            </a:fld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ožadavky na přesnost/úplnos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ůže být lepší z hlediska přes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podle konkrétních podmínek zvyšuje úpl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ůže být lepší z hlediska úpl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v případě vyhledávání specifického výrazu zvyšuje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921C-BC4C-4AB6-B20B-2E4986CC2D28}" type="slidenum">
              <a:t>15</a:t>
            </a:fld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ýsledné hodnocení ŘS vs F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hledávání pomocí řízeného slovníku i v plném textu má své výhody i nevýhod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ejich použití je třeba zvažovat podle konkrétních potř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ybridní systém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ý text i 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iřování uživatelského dotazu pomocí ŘS (query expansion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ý dotaz – systém TOP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ukáz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příklad využit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derní modely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ktorov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atentní sémantické index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 dalš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87DC-90F8-4AA2-B0EA-EC385B9809BF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del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oleovsk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šířený booleovsk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ektorov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ndexování latentní sémantiky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latent semantic indexing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Literatu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Rauch, J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Metody zpracování informací II. Ukládání a vyhledávání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Praha : VŠE, 1996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Pokorný, J., Snášel. V., Húsek, D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Dokumentografické informační systémy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Praha : Karolinum, 1998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BAEZA-YATES, R., RIBEIRO-NETO, B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Modern information retrieval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. New York : Addison-Wesley, 1999.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4CD1-66D3-4709-A8BA-75EE1F33B608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oretické základy (booleovská logika/algebra): 50. léta 20. stolet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logické operá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ND, OR, NOT, X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AND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OR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NOT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XOR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šiřování (zkracování) výr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avostranné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katalog*)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levostranné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*komunistický)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vnitřní rozšíření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filo?ofi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íření o více znaků (*), jeden znak (?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ěta, odstavec, určitý počet slov (zaleží/nezáleží na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D91B-FC8B-4390-9F09-445987B2606E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ýho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asná formaliz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ednoduch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ychlost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mitující fak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úplnost,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užití klíčových slov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incipiální možnosti logických spoj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strost“ – relevantní n. nerelevantní (nikoliv částečně relevantní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perátor ACCRUE – systém TOPIC (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příklad</a:t>
            </a:r>
            <a:r>
              <a:rPr b="0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periment STAIRS (198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ávní texty, 40 000 dokument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51 požadavků, požadovaná úplnost: 75%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sažená úplnost: 20% (přesnost 80%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7F12-3E2E-43F7-A960-E025E9143EC3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nešní té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odely vyhledává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OD (řízený slovní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lektuální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utomatická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 dokumentu (přirozený jazy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tody vyhledávání nezávislé na SOD (věcné vyhledávání v plném textu dokumentu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eKLE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635C-3AE7-460E-97FB-D5565485F2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 -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ážení výraz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 dotazu (</a:t>
            </a: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šíření pomocí fuzzy logiky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Wingdings"/>
                <a:ea typeface="Wingdings"/>
              </a:rPr>
              <a:t>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ali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zace principu vágnosti (schopnost přirozeného jazyka funkčně používa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ágní pojm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5C60-B4E5-443E-AFA8-4E7FE05D8AB6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logik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oleovská logika: 0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1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(nepravda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avd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fuzzy logika: pravdivost dána množinou hodnot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 intervalu &lt;0,1&gt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upeň příslušnosti prvku do množin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68DC-E3CF-4D1F-886E-87BD90763C30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množin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Pokorný, Snášel, Húsek. Dokumentografické informační systémy, s. 95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80880" y="1444680"/>
            <a:ext cx="6934320" cy="50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CDD2-817E-4E72-A9E0-159EC8F315CC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vky fuzzy množiny jsou výrazy použité pro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upeň příslušnosti se určuje jako váha výrazu v dokument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ůzné modely pro výpočet podobnosti dokumentu a dotaz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B30F-D064-41F1-A0E0-6748647285D1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vyhledávání - příkl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1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AND CASLIN/0,7 AND sdílení/0,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2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AND CASLIN/0,5 AND sdílení/0,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3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8 AND CASLIN/0 AND sdílení/0,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1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OR CASLIN/0,7 OR sdílení/0,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2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OR CASLIN/0,5 OR sdílení/0,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3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8 OR CASLIN/0 OR sdílení/0,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ABEE-9ABB-4E37-BB3F-D67DCBF5284F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 -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ometrické rozšíře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kument jako bod v prostor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čet rozměrů prostoru = počet klíčových slov 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ážení výrazů 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91A-E79E-49AE-8CF2-9F0591C03E43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ometrické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Baeza-Yates, Ribeiro-Neto. Modern information retrieval, s. 39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629400" cy="32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DD20-4EA8-41DC-BE35-F015B5F8998B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rovnání booleovského modelu a jeho rozšíření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Rauch. Metody zpracování informací II. Ukládání a vyhledávání, s. 5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04920" y="2652840"/>
            <a:ext cx="8839080" cy="32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7BD-7ADF-48FB-A0C2-89388F31491A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dokument i dotaz se chápou jako vektory v </a:t>
            </a:r>
            <a:r>
              <a:rPr b="0" i="1" lang="cs-CZ" sz="3200" spc="-1" strike="noStrike">
                <a:solidFill>
                  <a:srgbClr val="40458c"/>
                </a:solidFill>
                <a:latin typeface="Tahoma"/>
              </a:rPr>
              <a:t>n-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měrném prostor (n je počet jedinečných výrazů ve všech dokumentech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ložky vektoru: směr, orientace, velik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ložky vektorů jsou určovány výrazy a jejich vaham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omocí vektorového počtu se měří stupeň podobnosti mezi dotazem a dokumente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sinová míra, Diceova míra podobnosti 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557F-AE2A-402D-81A9-4466078A89DC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0458c"/>
                </a:solidFill>
                <a:latin typeface="Tahoma"/>
              </a:rPr>
              <a:t>Pokorný, Snášel, Húsek. Dokumentografické informační systémy, s. 90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324480" cy="42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2A7-9B3F-48BB-B3B8-CAA908686CF3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Přirozený jazyk vs řízený slovník z hlediska věcného vyhledávání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ýho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yhledává i částečně relevantní dokumen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azení dokumentů podle relevance (stupně podobnost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difikace dotazu na základě vyhledaných relevantních dokument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3EBD-A476-4BCF-8570-CF2372F6CE14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výho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ní jasná interpretace vah výrazů v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zorce pro měření podobnosti nejsou teoreticky zdůvodněné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oeficient podobnosti nemá jasný význa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lze užít logické operátory (AND, OR, NO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5EDF-2EE3-4F36-88C4-FE62AAB19B1C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ování latentní sémantik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lavní charakteristi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atisticko-matematické metod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elký objem databáz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základem matice dokument-výraz (klíčové slovo) </a:t>
            </a: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singulární dekompozice matice (redukce původní matice) </a:t>
            </a: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matice pojem-pseudodokument (odhalení vztahu mezi souvisejícími výrazy a zjištění podobných dokumentů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relativně nová metoda (1988), účinnost se testuj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hody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jmové vyhledávání (vyhledají se i dokument obsahující výrazy, která nebyly zadány do dotazu, ale přitom jsou sémanticky blízké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řazení dle releva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toda nezávislá na jazy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výhody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ýpočetní náro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příkl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B668-BF67-4E9D-B336-55797A445728}" type="slidenum">
              <a:t>32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roblémy při věcném vyhledávání</a:t>
            </a:r>
            <a:br>
              <a:rPr sz="36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s ohledem na přirozený jazyk a řízený slovník 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 ovlivňující vyhledávání (výběrově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ecné fakto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ubjektivní aspekty zpraco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e slovník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flexe a tvorba slov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asymetrie jazy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mplicitní (paradigmatické) vztahy mezi pojmy (obecné vs specifické pojm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ožnost vyhledávání nových termínů (pojmů, témat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pecifič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zdále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délkou SOD neb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uživatel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žadavky na přesnost a/nebo úpl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AE7-DBF5-4B4F-AF7C-D532B1804E91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bjektivní aspekty zpraco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vlivnění SOD subjektivním přístupem  indexátora (neplatí, pokud se používá systém automatické indexa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utnost předjímat potřeby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i vyhledávání bez vliv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 na úrovni textu: různá terminologie, různá reprezentace pojmů, různá ideologická východiska at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116B-6F1C-4412-980D-36B28571EBF7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ícejazyčno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pokojivě řeší z hlediska textu i z hlediska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deální řešení: texty více jazyků jsou indexovány vícejazyčným řízeným slovníkem nebo klasifikací (nezávislou na přirozeném jazy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e standardních systémech nutnost formulace několika dotaz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sněmovní tis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řeší pokročilé metody vyhledávání založené na statistických modelech textu (např. latentní sémantické indexování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71B0-006C-4E3F-BABD-C125BCDD15F5}" type="slidenum">
              <a:t>6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exe a tvorba slo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řeše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rácení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vykle účinné: antropolog*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ěkdy však problematické: sen/sny/snová/snivec; kůň/koně/konír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derivátor</a:t>
            </a: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 slovních tvar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C94-B9B3-4683-A6A9-C2E751E64093}" type="slidenum">
              <a:t>7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ymetrie jazyka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ynonymie, homonymie, polysémie atd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nonymie a další jazykové jevy vyřešeny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n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e třeba zohlednit při formulaci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m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exikální homonyma (objetí, travička, župan, občanka, obrok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ramatická homonyma (ženu, jez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a obecné úrovni obtížně řešitelné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F9EB-D3BC-4D2D-8382-75326ED97E96}" type="slidenum">
              <a:t>8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aradigmatické vztahy</a:t>
            </a:r>
            <a:br>
              <a:rPr sz="4400"/>
            </a:br>
            <a:r>
              <a:rPr b="0" lang="cs-CZ" sz="2400" spc="-1" strike="noStrike">
                <a:solidFill>
                  <a:srgbClr val="660066"/>
                </a:solidFill>
                <a:latin typeface="Tahoma"/>
              </a:rPr>
              <a:t>Obecné vs specifické pojm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tahy mezi pojmy stanovuje struktura řízeného slovníku, která umožňuje vyhledat i další relevantní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LE: i v ŘS problémy s vyjádřením pojmů (příklad: </a:t>
            </a: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Eurovoc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mplicitní paradigmatické vztahy nemusí uživatel znát nebo si je uvědomi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ronz -&gt; slitina kov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uesta -&gt; typ vrcholu kop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35E5-EB9B-4DD1-B20C-DABB84C895B6}" type="slidenum">
              <a:t>9</a:t>
            </a:fld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uzivatel</cp:lastModifiedBy>
  <dcterms:modified xsi:type="dcterms:W3CDTF">2006-03-24T14:01:27Z</dcterms:modified>
  <cp:revision>363</cp:revision>
  <dc:subject/>
  <dc:title>Selekční jazyky</dc:title>
</cp:coreProperties>
</file>