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8A1-FAB1-4DC2-9763-92204AED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5E9-33BF-47E9-8B73-F17BA68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6CC-5E99-4FCA-9642-D8212E3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FD9-0962-4769-9600-C5EC842D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9BED-B9EE-420F-9524-2DD8310C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8CA-5932-4239-A241-06B32C5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8CF4-DC61-48D4-A196-74ECA62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691F-4BE0-42FD-B607-FF39ADE7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B3E-2F69-4593-9450-9DC84E72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D145-9020-49BF-8CD5-24DF2E0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41AB-C1E3-4CA2-B046-94F28B7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10C-B382-482E-8670-5F34458A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725-00FF-4A9D-9FC2-D39F507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8CE9-CF20-42B8-95FB-60F0CB3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74C2-D27D-40AC-AC7C-BDED07D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0690-1BA5-45FD-B058-1A44B0C6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EF24-272A-4D1C-B1F0-BF604FFC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9AC-B802-4415-99AC-D53FFC3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4FE-F606-4EDA-99CF-32ED9DD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F20-3D16-4D80-BD0E-875E9EFE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19A-8B3C-452C-9875-D165CBE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EE2-0E81-4B99-8B62-06B2FD2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F30-3A78-4FD2-B4E0-99EF2F9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CD1-3A4F-45F3-A5D9-B40CE10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385-08E0-4678-B789-47D560DCEA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469-A305-472E-AEF4-92ABA567F4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doc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POJIST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racek.vlada.cz/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eknih/1981fs/index.htm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www.psp.cz/sqw/text/dotaz2.sqw?search=1&amp;od=1998&amp;do=dnes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oučasné tren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3 (24.3.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A82-C1D5-4B90-ACF5-3F33DF173573}" type="slidenum">
              <a:t>10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B55-D5C1-43AB-87B0-75E83DE61D62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K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A1B-06A0-4933-B0D2-4F6AD632FA4E}" type="slidenum">
              <a:t>12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D09-2D00-4D66-8B71-A107515E308D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812-4CA0-4931-B19A-EB61A030CE19}" type="slidenum">
              <a:t>14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9F8-5591-4372-B77F-04E9BC8D1C5C}" type="slidenum">
              <a:t>15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 dal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F97-3339-4DBB-AF65-82804855DB3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398-9A31-48FE-918C-7A6C751D187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AC2-0D43-440B-BFF0-6D6AE71D5B2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94A-A62C-47D8-921C-FFCFC439FB9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OD (řízený slovní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uální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matická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 dokumentu (přirozený jazy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ody vyhledávání nezávislé na SOD (věcné vyhledávání v plném textu dokument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KL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9E7-C910-4D97-919C-67DF48B0FB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571-F085-419C-A4A1-B908DED709B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EED-365D-43C2-949D-E1FD2A25B91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AD0-26FF-4105-B680-B7789ED4109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179-74E7-416F-9B8F-E690855A7CA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2D0-F328-4FD5-A011-9B90952D5BD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DA2-B99E-4228-843E-C1CC7F8779A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F2-9838-402A-9B08-0B2C92FA4DE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A2A-ADF1-4B86-A92D-E0E5532789C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CBC-C1CB-4C3D-B0A9-F741A4E59E5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017-CA8D-4676-8C37-83EC415C98D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D01-E5DC-4C11-9D11-8AC3BA154BC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5CE-9995-4F1A-AE73-DEB84361A96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950-C984-414C-A6C8-B1A95FB411A6}" type="slidenum">
              <a:t>32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47F-D511-42CF-BD38-B7CFD4CC53C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FB2-0E32-48A6-9514-80E8DCCEAD49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latentní sémantické indexová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3D2-3A99-4EF5-8A9A-0470458BA0E9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erivátor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1EA-C225-4326-AFAA-72C2D531A79D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, obro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EB7-7354-4D9A-8FE0-38D0DC1B26C1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příklad: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A34-B41C-4D34-BB2B-95FE97FCF90F}" type="slidenum">
              <a:t>9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zivatel</cp:lastModifiedBy>
  <dcterms:modified xsi:type="dcterms:W3CDTF">2006-03-24T14:01:27Z</dcterms:modified>
  <cp:revision>363</cp:revision>
  <dc:subject/>
  <dc:title>Selekční jazyky</dc:title>
</cp:coreProperties>
</file>