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F36E-94FA-4F54-B822-3FA53068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0761-30A2-4E9E-940C-8F23E33E0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1D5C-6305-4AB9-B729-16CC137A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850D-3FE6-4CA5-B1D8-F229C40C3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DA0E-004C-4CFC-96F2-3D42C57CB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A665-0195-4D57-8D85-1100271F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8DA6-ECC5-482E-92D6-67C5800F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DD786-40D3-4DFC-948A-0F2672D7D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5531-1DD4-4F4B-BBF3-89F34B025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E7C13-D68B-48CC-9907-A538752A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09BE4-3BF5-4DF1-8413-D9C5A77B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E685-130E-474B-8EF4-FBAF2439C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47CD1-AF55-4BBA-B706-1353CB68C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D04D-A731-4DB1-8F08-5E602B72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22D2-4244-40F0-9A24-CC89D888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F08B6-28CB-4425-B474-780BCFC55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2487-7F83-47F9-8A63-E6F2070DA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7143-4D48-43B5-AFD1-A52E9FBDA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9901-71AA-43BB-B5B9-00D9C3194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49D9-E418-4BC6-BD81-FBC76E44C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0FC-1348-4C84-861D-E05715BEF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0EE-8524-4219-9A1C-64580E160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60EB1-255B-4107-93DE-339CE7561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1807-0841-487F-807D-B8A8AECD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D98F-DF3E-4A3E-AB7D-6C154CAF94CA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911BF-9F85-4DE9-88A7-8B4CA22BD87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docs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sigma.nkp.cz/cze/nkp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hyperlink" Target="http://www.psp.cz/sqw/ev/evquery.sqw" TargetMode="External"/><Relationship Id="rId5" Type="http://schemas.openxmlformats.org/officeDocument/2006/relationships/image" Target="../media/image2.png"/><Relationship Id="rId6" Type="http://schemas.openxmlformats.org/officeDocument/2006/relationships/hyperlink" Target="POJIST.doc" TargetMode="External"/><Relationship Id="rId7" Type="http://schemas.openxmlformats.org/officeDocument/2006/relationships/hyperlink" Target="http://full.nkp.cz/" TargetMode="External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POJIST.doc" TargetMode="External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racek.vlada.cz/" TargetMode="External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sqw/text/dotaz2.sqw?search=1&amp;od=2002&amp;do=dnes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lsi.research.telcordia.com/lsi-bin/lsiQuery" TargetMode="External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eknih/1981fs/index.htm" TargetMode="External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psp.cz/sqw/text/dotaz2.sqw?search=1&amp;od=1998&amp;do=dnes" TargetMode="External"/><Relationship Id="rId4" Type="http://schemas.openxmlformats.org/officeDocument/2006/relationships/hyperlink" Target="http://www.psp.cz/sqw/text/dotaz2.sqw?search=1&amp;od=1998&amp;do=dnes" TargetMode="External"/><Relationship Id="rId5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sp.cz/cgi-bin/win/sqw/ev/evquery.sqw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elekční jazyky</a:t>
            </a:r>
            <a:br>
              <a:rPr sz="40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oučasné trend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200400"/>
            <a:ext cx="6781680" cy="29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800" spc="-1" strike="noStrike">
                <a:solidFill>
                  <a:srgbClr val="40458c"/>
                </a:solidFill>
                <a:latin typeface="Tahoma"/>
              </a:rPr>
              <a:t>Přednáška č. 3 (24.3.2006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jaro 2005/2006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Josef Schwarz, informační konzultan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http://schwarz.webpark.cz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é termíny, pojmy, 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 časovým zpožděním, nutnost vyjádřit stávajícími deskriptory nebo jejich kombin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Eurovo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bez problé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815-24F2-49A0-8978-D124B3662C98}" type="slidenum">
              <a:t>10</a:t>
            </a:fld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1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4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7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2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pecifič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mezená množina lexikálních jednot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šechny specifické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8733-05D5-4D44-B978-344428F697A7}" type="slidenum">
              <a:t>11</a:t>
            </a:fld>
          </a:p>
        </p:txBody>
      </p: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0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8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Vzdálenost vyhledávaných výrazů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vykle (v rámci SOD) není potřeb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blízkosti zadaných výrazů (fráz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K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počtem slov (příp. se zohlednění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zdálenost výrazů určená segmentem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92A1-3D51-4196-957F-D8BE2DEF110C}" type="slidenum">
              <a:t>12</a:t>
            </a:fld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3" dur="500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9" dur="500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4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0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élka SOD / textu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ová (selec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plná (exhaustive)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omprimovaný tex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bstrakt, anotace, výtah a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rozsah komprim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lný text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648320"/>
            <a:ext cx="8839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xtrémy: klasifikace do jedné třídy x plný tex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yšší délka -&gt; vyšší úplnos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Úplná indexace přináší úplnější výsledky vyhledávání než název a  krátký abstrak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rátký abstrakt přináší úplnější výsledky vyhledávání než výběrov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louhý abstrakt (referát) a plný text přinášejí úplnější výsledky vyhledávání než úplná indexac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131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131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9227-42E5-4AD1-B56F-CA59D774B35A}" type="slidenum">
              <a:t>13</a:t>
            </a:fld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0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5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1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9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2" dur="5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5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8" dur="5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yp uživatel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užívá spíše odborník seznámený s pravidly tvorby, strukturou a způsobem práce s Ř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lasifikace, které nejsou založené na přirozeném jazyce, běžní uživatelé využívají minimáln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 přístupný všem typům uživatel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551F6-98E2-4762-94D6-F8832CEEA1CC}" type="slidenum">
              <a:t>14</a:t>
            </a:fld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0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3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6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4" dur="500"/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Požadavky na přesnost/úplnos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přes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podle konkrétních podmínek zvyšuje úpl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ůže být lepší z hlediska úplnosti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: v případě vyhledávání specifického výrazu zvyšuje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74E5-CFA4-4AEE-9F1D-EDD62D20C4E3}" type="slidenum">
              <a:t>15</a:t>
            </a:fld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6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9" dur="500"/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2" dur="500"/>
                                        <p:tgtEl>
                                          <p:spTgt spid="2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7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0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3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ýsledné hodnocení ŘS vs F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8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yhledávání pomocí řízeného slovníku i v plném textu má své výhody i nevýhod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ejich použití je třeba zvažovat podle konkrétních potřeb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ybridní systém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ý text i řízený slovn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iřování uživatelského dotazu pomocí ŘS (query expansion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íkla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rukturovaný dotaz – systém TOPI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káz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lnSpc>
                <a:spcPct val="8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příklad využit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SzPct val="1507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derní modely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ktorové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atentní sémantické index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lnSpc>
                <a:spcPct val="8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 dalš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6176-905B-4B95-893B-B1A26614BF6C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del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ý booleovsk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ektorový mod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dexování latentní sémantiky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latent semantic indexing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iteratura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Rauch, J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Metody zpracování informací II. Ukládání a vyhledávání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VŠE, 1996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Pokorný, J., Snášel. V., Húsek, D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</a:rPr>
              <a:t>Dokumentografické informační systémy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. Praha : Karolinum, 1998.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BAEZA-YATES, R., RIBEIRO-NETO, B. </a:t>
            </a:r>
            <a:r>
              <a:rPr b="0" i="1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Modern information retrieval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  <a:ea typeface="Times New Roman"/>
              </a:rPr>
              <a:t>. New York : Addison-Wesley, 1999.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9828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2C6F-C9A9-4615-BCC5-C0C81C535441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oretické základy (booleovská logika/algebra): 50. léta 20. stolet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logické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ND, OR, NOT, XOR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AND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NOT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ouborný katalog XOR CASLIN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šiřování (zkracování) výr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a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katalog*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levostranné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*komunistický)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vnitřní rozšíření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(filo?ofi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šíření o více znaků (*), jeden znak (?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ximitní operá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ěta, odstavec, určitý počet slov (zaleží/nezáleží na pořad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9172-B31E-4B30-AD0F-6A18924BFA7C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asná formaliz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jednoduch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ychlost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imitující 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úplnost, přes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užití klíčových slov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rincipiální možnosti logických spoj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strost“ – relevantní n. nerelevantní (nikoliv částečně relevantní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perátor ACCRUE – systém TOPIC (</a:t>
            </a:r>
            <a:r>
              <a:rPr b="0" lang="en-US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příklad</a:t>
            </a:r>
            <a:r>
              <a:rPr b="0" lang="en-US" sz="1800" spc="-1" strike="noStrike" u="sng">
                <a:solidFill>
                  <a:srgbClr val="40458c"/>
                </a:solidFill>
                <a:uFillTx/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xperiment STAIRS (1985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právní texty, 40 000 dokument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51 požadavků, požadovaná úplnost: 75%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sažená úplnost: 20% (přesnost 80%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A90B-1737-472C-B23D-FC3399B40EE1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nešní tém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odely vyhledává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OD (řízený slovní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lektuální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utomatická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 dokumentu (přirozený jazyk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ody vyhledávání nezávislé na SOD (věcné vyhledávání v plném textu dokumentu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eKLEP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5DE0-31FA-463F-8590-8FFAD79A020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vážení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tazu (</a:t>
            </a: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příklad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šíření pomocí fuzzy logiky </a:t>
            </a:r>
            <a:r>
              <a:rPr b="0" lang="cs-CZ" sz="3200" spc="-1" strike="noStrike" u="sng">
                <a:solidFill>
                  <a:srgbClr val="6f89f7"/>
                </a:solidFill>
                <a:uFillTx/>
                <a:latin typeface="Wingdings"/>
                <a:ea typeface="Wingdings"/>
              </a:rPr>
              <a:t>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ali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ace principu vágnosti (schopnost přirozeného jazyka funkčně používa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ágní pojm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D139-0EEE-48BB-941E-ABF6C81A7996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logik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oleovská logika: 0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1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 (nepravda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/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avda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fuzzy logika: pravdivost dána množinou hodnot 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 intervalu &lt;0,1&gt;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upeň příslušnosti prvku do množin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72CB-409D-4297-9CC1-CFB8AFBA9B5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množin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5.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380880" y="1444680"/>
            <a:ext cx="6934320" cy="50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8593-1BA7-430F-B8A3-B2167FD64899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vky fuzzy množiny jsou výrazy použité pro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příslušnosti se určuje jako váha výrazu v dokument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ůzné modely pro výpočet podobnosti dokumentu a dotaz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E3C-8117-4D50-BDC5-B82AFA80D51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Fuzzy vyhledávání - příkla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AN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7 AND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AND CASLIN/0,5 AND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AND CASLIN/0 AND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OR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1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7 OR sdílení/0,3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2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9 OR CASLIN/0,5 OR sdílení/0,2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dokument 3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katalog/0,8 OR CASLIN/0 OR sdílení/0,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24BF-BF3F-42DF-9EDC-CF8EA3FCED33}" type="slidenum">
              <a:t>24</a:t>
            </a:fld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ooleovský model -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geometrické rozšíře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dokument jako bod v prosto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očet rozměrů prostoru = počet klíčových slov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ážení výrazů v doku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70DA-EFC3-4D16-9DAA-948EEC572080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ometrické rozšíře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Baeza-Yates, Ribeiro-Neto. Modern information retrieval, s. 39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6629400" cy="3238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B388-0EC6-44DF-A4C2-BF8C7E2451F2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Srovnání booleovského modelu a jeho rozšíření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Rauch. Metody zpracování informací II. Ukládání a vyhledávání, s. 50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304920" y="2652840"/>
            <a:ext cx="8839080" cy="328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9D1-6CF2-4F31-B91F-A338A0B104FC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dokument i dotaz se chápou jako vektory v </a:t>
            </a:r>
            <a:r>
              <a:rPr b="0" i="1" lang="cs-CZ" sz="3200" spc="-1" strike="noStrike">
                <a:solidFill>
                  <a:srgbClr val="40458c"/>
                </a:solidFill>
                <a:latin typeface="Tahoma"/>
              </a:rPr>
              <a:t>n-</a:t>
            </a: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rozměrném prostor (n je počet jedinečných výrazů ve všech dokumentech)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ložky vektoru: směr, orientace, velik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ložky vektorů jsou určovány výrazy a jejich vahami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omocí vektorového počtu se měří stupeň podobnosti mezi dotazem a dokumentem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sinová míra, Diceova míra podobnosti a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3A63-78A5-4A7F-AE88-21AEB1F316F2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40458c"/>
                </a:solidFill>
                <a:latin typeface="Tahoma"/>
              </a:rPr>
              <a:t>Pokorný, Snášel, Húsek. Dokumentografické informační systémy, s. 90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324480" cy="425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15F5-5B3C-4F7D-A481-6AFB7FA57074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660066"/>
                </a:solidFill>
                <a:latin typeface="Tahoma"/>
              </a:rPr>
              <a:t>Přirozený jazyk vs řízený slovník z hlediska věcného vyhledávání</a:t>
            </a:r>
            <a:br>
              <a:rPr sz="3600"/>
            </a:b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yhledává i částečně relevantní dokumen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azení dokumentů podle relevance (stupně podobnosti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modifikace dotazu na základě vyhledaných relevantních dokument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9082E-AF13-4E48-953E-5AE211FA1072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ektorový mode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výhod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ní jasná interpretace vah výrazů v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zorce pro měření podobnosti nejsou teoreticky zdůvodněné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koeficient podobnosti nemá jasný význa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nelze užít logické operátory (AND, OR, NOT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11E9-8329-4878-A30D-0760245A46BD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ování latentní sémantik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hlavní charakteristik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atisticko-matematické metod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elký objem databáz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základem matice dokument-výraz (klíčové slovo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singulární dekompozice matice (redukce původní matice) </a:t>
            </a: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matice pojem-pseudodokument (odhalení vztahu mezi souvisejícími výrazy a zjištění podobných dokument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relativně nová metoda (1988), účinnost se testuj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jmové vyhledávání (vyhledají se i dokument obsahující výrazy, která nebyly zadány do dotazu, ale přitom jsou sémanticky blízké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řazení dle relevan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toda nezávislá na jazy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evýhody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ýpočetní náro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příklad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C440-DDCE-4D0C-A49B-31C729D99677}" type="slidenum">
              <a:t>32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Problémy při věcném vyhledávání</a:t>
            </a:r>
            <a:br>
              <a:rPr sz="3600"/>
            </a:br>
            <a:r>
              <a:rPr b="0" lang="en-US" sz="2000" spc="-1" strike="noStrike">
                <a:solidFill>
                  <a:srgbClr val="660066"/>
                </a:solidFill>
                <a:latin typeface="Tahoma"/>
              </a:rPr>
              <a:t>s ohledem na přirozený jazyk a řízený slovník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61760" y="1599840"/>
            <a:ext cx="7848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 ovlivňující vyhledávání (výběrově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ecné fakto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ubjektivní aspekty zpraco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e slovník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flexe a tvorba slov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asymetrie jazyk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mplicitní (paradigmatické) vztahy mezi pojmy (obecné vs specifické pojm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ožnost vyhledávání nových termínů (pojmů, témat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pecifič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vzdálenost vyhledávaných výrazů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délkou SOD neb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Faktory související s uživatelem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ožadavky na přesnost a/nebo úplnost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7405-48EE-43C6-87B9-7A2450D581EE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ubjektivní aspekty zpraco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vlivnění SOD subjektivním přístupem  indexátora (neplatí, pokud se používá systém automatické indexa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utnost předjímat potřeby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i vyhledávání bez vliv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le na úrovni textu: různá terminologie, různá reprezentace pojmů, různá ideologická východiska atd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0D96-2BC9-4859-83D6-9DB1232B02D0}" type="slidenum">
              <a:t>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" dur="500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" dur="500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" dur="500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Vícejazyčnos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uspokojivě řeší z hlediska textu i z hlediska uživatel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deální řešení: texty více jazyků jsou indexovány vícejazyčným řízeným slovníkem nebo klasifikací (nezávislou na přirozeném jazyce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e standardních systémech nutnost formulace několika dotaz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en-US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sněmovní tis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řeší pokročilé metody vyhledávání založené na statistických modelech textu (např. latentní sémantické indexování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5B02-8BE9-4C71-8B5A-5E98302C12B2}" type="slidenum">
              <a:t>6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5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lexe a tvorba slov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řešeno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495680" y="1905120"/>
            <a:ext cx="4267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krácení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vykle účinné: antropolog*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ěkdy však problematické: sen/sny/snová/snivec; kůň/koně/konírn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derivátor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 slovních tvar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6351B-1A6E-4F55-A870-17C92EEB6755}" type="slidenum">
              <a:t>7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" dur="5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7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0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6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9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304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symetrie jazyka</a:t>
            </a:r>
            <a:br>
              <a:rPr sz="4400"/>
            </a:br>
            <a:r>
              <a:rPr b="0" lang="en-US" sz="2400" spc="-1" strike="noStrike">
                <a:solidFill>
                  <a:srgbClr val="660066"/>
                </a:solidFill>
                <a:latin typeface="Tahoma"/>
              </a:rPr>
              <a:t>synonymie, homonymie, polysémie atd.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 a další jazykové jevy vyřešeny </a:t>
            </a: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yn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e třeba zohlednit při formulaci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homonymi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exikální homonyma (objetí, travička, župan, občanka, obro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gramatická homonyma (ženu, jez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na obecné úrovni obtížně řešitelné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2907-C134-403C-9C5A-805BBFAFDD97}" type="slidenum">
              <a:t>8</a:t>
            </a:fld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4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5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8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1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7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Paradigmatické vztahy</a:t>
            </a:r>
            <a:br>
              <a:rPr sz="4400"/>
            </a:br>
            <a:r>
              <a:rPr b="0" lang="cs-CZ" sz="2400" spc="-1" strike="noStrike">
                <a:solidFill>
                  <a:srgbClr val="660066"/>
                </a:solidFill>
                <a:latin typeface="Tahoma"/>
              </a:rPr>
              <a:t>Obecné vs specifické pojm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řízený slovní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tahy mezi pojmy stanovuje struktura řízeného slovníku, která umožňuje vyhledat i další relevantní výraz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ALE: i v ŘS problémy s vyjádřením pojmů (příklad: </a:t>
            </a:r>
            <a:r>
              <a:rPr b="0" lang="cs-CZ" sz="24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Eurovoc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lný tex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mplicitní paradigmatické vztahy nemusí uživatel znát nebo si je uvědomi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ronz -&gt; slitina kov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uesta -&gt; typ vrcholu kop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6472-BF36-4C3D-9B9B-039B0BBF156D}" type="slidenum">
              <a:t>9</a:t>
            </a:fld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4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2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5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0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6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9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uzivatel</cp:lastModifiedBy>
  <dcterms:modified xsi:type="dcterms:W3CDTF">2006-03-24T14:01:27Z</dcterms:modified>
  <cp:revision>363</cp:revision>
  <dc:subject/>
  <dc:title>Selekční jazyky</dc:title>
</cp:coreProperties>
</file>