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AEF-5CB3-4700-83E8-A79B0F2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0AB-38F7-4F74-A8A5-B701FBA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A6D-685C-4FE4-8579-6B745B51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B84-07C2-43B1-B227-8CB354C7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200D-E59F-4ABC-B5CA-E37E632E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AE0-4BE9-45B7-90E8-F94DA20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A658-4F5F-47F1-8383-3E90EF8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2E8-5BFD-44B2-87DB-3EAB994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249-20F6-4A51-9729-3D78C428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0CD-3978-430D-BE92-C705423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6F2-68B2-4FDA-877C-28946F1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BD5-956A-4409-8A24-6C90821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7B2F-2ECF-49EF-A5D2-D3ABA47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4F9-C928-4444-B99A-E5546B2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03FB-4B49-40B2-A861-D36D2914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33D-7A69-43CA-8FC0-C4CB3824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E9C0-6FFA-46EC-92D5-47F60414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654-61E3-4848-A0D7-BB44165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38D-FEF1-4202-B2AA-69833D6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2D6-824A-440B-905B-5888567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329-50E5-488C-9D1F-B258502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60B-2071-426F-8518-4CA7BD4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52D-30AC-4103-891E-18DECDF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952-2291-490D-9701-D09A880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BD91-E1BE-49CC-A697-A01A31E7BA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C04-9F60-4CB1-A6F6-0D27566790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doc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POJIST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racek.vlada.cz/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eknih/1981fs/index.htm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www.psp.cz/sqw/text/dotaz2.sqw?search=1&amp;od=1998&amp;do=dnes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oučasné tren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3 (24.3.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4C6-B68F-4E49-AC6E-C441100D6669}" type="slidenum">
              <a:t>10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3D6-5DE5-4F87-ADBF-4CD50EB50C36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K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B4D-21E9-43CB-B139-82767D362614}" type="slidenum">
              <a:t>12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193-FB92-44E2-8B3E-1233B3B3FE99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905-FA4A-4EB7-9FAE-B039E20FA965}" type="slidenum">
              <a:t>14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60A-9BA6-4A00-88D3-DA95A332B9F7}" type="slidenum">
              <a:t>15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 dal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5CD-A82B-4703-AF6F-9CCAE7E5D9D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DA3-4E53-4BC8-B97E-DBF7C87AC37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A35-59CF-4D17-BD4D-17B3942E9F0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D89-2CDE-4C0C-9820-D1ADF9F58B2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OD (řízený slovní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uální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matická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 dokumentu (přirozený jazy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ody vyhledávání nezávislé na SOD (věcné vyhledávání v plném textu dokument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KL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2E1-62D5-4024-9DFB-8F1569B70F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E24-A24D-40BA-8AA8-538750C2146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649-F706-45C0-A888-CACA014A014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7D0-F862-4557-BAB2-D954E0AA083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975-EBAA-4370-8D2B-978D6587902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056-05CC-42E2-8F72-3EA1094A3AA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818-F33A-486A-A83C-AE54689E99D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1E0-8A15-4C08-BE47-CF568372336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871-065D-4A07-B242-5A24C3BE1F2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D23-2C70-4B00-816C-2CECAEB42AB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F94-0772-4AF0-BFF0-1CA646584F9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8D2-E5FC-4996-B0C7-61F527EA4D1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6E1-08FD-47F9-AC45-15DC7A30929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AB4-6D6E-4F88-B358-1D0F5A9B3B60}" type="slidenum">
              <a:t>32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5DA-AE65-4A25-A023-89A605C31B1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FD4-F867-44E8-A053-C9EE122E9B68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latentní sémantické indexová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D29-4C24-4FF2-8545-BE2A582C5641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erivátor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9EF-F7B4-4F95-8AAA-F962F81655A2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, obro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542-8EAF-4995-A192-7D8ACD532F6D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příklad: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C79-7A3B-4C78-A452-64E290C9AD4D}" type="slidenum">
              <a:t>9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zivatel</cp:lastModifiedBy>
  <dcterms:modified xsi:type="dcterms:W3CDTF">2006-03-24T14:01:27Z</dcterms:modified>
  <cp:revision>363</cp:revision>
  <dc:subject/>
  <dc:title>Selekční jazyky</dc:title>
</cp:coreProperties>
</file>