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EB7-B1B2-441E-9C88-F736B8F0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272-E439-4911-989F-4E11F041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75F-686F-43DF-9156-D3CBF9FE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C91-923A-4B8F-8AAB-D6D94C85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C947-F333-403A-9D4D-B2330432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E300-C85C-469D-ABA7-86338155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14BE-A23C-44E9-BD30-1DD2BF48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B348-FAFA-4C9F-83D1-18505DC7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1E8D-FFD1-400E-B8EA-3851BF96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41DB-B1BF-40AF-A891-FF435958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9C0A-60B7-4790-AB33-4B8B17B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034D-38A9-4CF1-A4AB-97CCAEE1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E838-D466-4D19-B1BE-377B7763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5C32-DECA-4F58-BB24-583B4572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88DA-9A90-4711-B5DF-25083D6B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1FD0-4482-4143-BAD5-F0F8CFCB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0319-1D00-41ED-BAFB-24FC46CD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406-3AAC-41CA-B8B1-A642630E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15E-58DC-4AD3-AFF1-EC9D92E8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5E2-6735-4E8B-A35B-981D27A7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6B6-E1A9-4643-895E-479AB94D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4AC5-208C-4FF4-845D-F8006D13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AF0-2FED-4ADC-8E2B-B34C202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170-48A1-407A-B67C-28734928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5CB7-76A8-444E-BDD2-D55CBEACE3F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73D4-A2BC-4DB3-8E0D-46CF514464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doc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POJIST.doc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racek.vlada.cz/" TargetMode="Externa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eknih/1981fs/index.htm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www.psp.cz/sqw/text/dotaz2.sqw?search=1&amp;od=1998&amp;do=dnes" TargetMode="External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elekční jazyky</a:t>
            </a:r>
            <a:br>
              <a:rPr sz="40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oučasné tren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3 (24.3.2006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5/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, informační konzult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http://schwarz.webpark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276-87A3-464B-A6AD-EE8991627D74}" type="slidenum">
              <a:t>10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5E0-EF6C-4BE6-B5EE-23AAF3AC61DC}" type="slidenum">
              <a:t>11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K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6E2-477F-4E19-9DEB-AA4C43141E66}" type="slidenum">
              <a:t>12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405-0AF8-4C8D-9EC9-7DF6BDBB1801}" type="slidenum">
              <a:t>13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A08-76CA-4E0D-9867-0A9BC94617F3}" type="slidenum">
              <a:t>14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6AEC-E271-462F-B791-DDF333AAE6B3}" type="slidenum">
              <a:t>15</a:t>
            </a:fld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 dal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CAD-98AF-4DB4-BCB4-B251C08B2F0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6C4-9BD6-40A2-970E-64DB06F81F9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B4B-201C-4970-A9A7-637A83B0401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B2B2-86F4-4FD3-A0F8-17C1467151C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OD (řízený slovní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lektuální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utomatická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 dokumentu (přirozený jazy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ody vyhledávání nezávislé na SOD (věcné vyhledávání v plném textu dokument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KLE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A27-BE2B-4B11-8933-D8AC095C47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502-25CA-4BFD-B4D8-4FA56BAF004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67A-3914-43FA-B858-8AACC172129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072-0EEC-4205-948C-F8DD6C83FB3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D519-8AEB-4F3F-8F80-B471E4D78AB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191-B51D-48EC-8E2F-18E228F3D7F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8EC-F882-4ECE-B052-1A5D929D53C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E3A-CFCD-4EE3-8A92-F03CF5BEC13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554-A066-4214-B87E-14030C2C90D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AAE-C28C-4DCD-B2E0-3649ADB043D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2D3-72BC-442C-8254-2BA703567933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4C2-311F-49E5-B67D-9F56686E927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469-855D-4D21-8E4E-791A39E6E703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85B-5463-4F8C-8BD9-5CF16F245FDF}" type="slidenum">
              <a:t>32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F2C-ADC8-489C-90A3-F24E963EE74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1A7-2C5D-4DD0-94CC-173544FEC6A4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latentní sémantické indexování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16E-FEB2-42CB-9DD1-B1D781C54C85}" type="slidenum">
              <a:t>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derivátor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FA4-CF8B-498F-A3DE-6F0E6D5BE7E0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, obro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71E-36A2-483D-AB5E-9FB877C9490A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i v ŘS problémy s vyjádřením pojmů (příklad: 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4AB-46B6-4BD4-B24E-57347A175133}" type="slidenum">
              <a:t>9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zivatel</cp:lastModifiedBy>
  <dcterms:modified xsi:type="dcterms:W3CDTF">2006-03-24T14:01:27Z</dcterms:modified>
  <cp:revision>363</cp:revision>
  <dc:subject/>
  <dc:title>Selekční jazyky</dc:title>
</cp:coreProperties>
</file>