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A5C-8606-4AF3-8050-8AA929BF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CDE-8248-4071-BDB7-551A0E7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938-E559-4D91-A381-B50DA590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115-0F21-475C-AFC0-4DA69E15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3B22-6207-4264-AF65-03A48CF9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850D-D510-4654-93A9-2520B8C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40D-4EBE-4CF9-944E-48D4D7A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0B72-4D3B-4AC1-93BC-A8095D7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4478-6069-4076-A26B-0BD572E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63E-0FAB-4E75-9971-B3199BE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D043-FD90-45E3-81F7-C09D54F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690-CB55-44B0-8003-75E38A7C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AA86-9A8E-444F-8E97-D9DBFEF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CD12-0750-4263-B75A-917714A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3F8-C5BB-4292-B736-EC29DFB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2657-EADA-4EA1-A456-C1B036CC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66BB-D52B-4FEF-89C3-EAC8C5E3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56E-29A0-4BC1-9114-612FCDEB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204-8391-4A90-AC28-5E0CC366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078-2AFE-4630-96EA-58E355D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793-8D08-4B47-95F3-8FD2DFF1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463-F7E8-42D7-8141-C96E56C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673-05FB-4C3B-81BD-564F8AC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980-CC38-4B9B-BFC1-D90E85CF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3B81-4C70-497F-9904-904F16597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5F32-D260-4005-8AEF-BFF8272D99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Standardn&#237;%20form&#225;t_versus_marc.doc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ek&#225;&#269;%20Murat.doc" TargetMode="External"/><Relationship Id="rId2" Type="http://schemas.openxmlformats.org/officeDocument/2006/relationships/hyperlink" Target="file:///Sek&#225;&#269;%20Murat.doc" TargetMode="External"/><Relationship Id="rId3" Type="http://schemas.openxmlformats.org/officeDocument/2006/relationships/hyperlink" Target="file:///Sek&#225;&#269;%20Murat.doc" TargetMode="External"/><Relationship Id="rId4" Type="http://schemas.openxmlformats.org/officeDocument/2006/relationships/hyperlink" Target="file:///Sek&#225;&#269;%20Murat.doc" TargetMode="External"/><Relationship Id="rId5" Type="http://schemas.openxmlformats.org/officeDocument/2006/relationships/hyperlink" Target="file:///uzkazky_MARC.doc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gma.nkp.cz/F" TargetMode="External"/><Relationship Id="rId2" Type="http://schemas.openxmlformats.org/officeDocument/2006/relationships/oleObject" Target="../embeddings/oleObject1.bin"/><Relationship Id="rId3" Type="http://schemas.openxmlformats.org/officeDocument/2006/relationships/hyperlink" Target="http://sigma.nkp.cz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jib-info.cuni.cz/dokumenty/sec2004/sec2004_balikova.rtf" TargetMode="External"/><Relationship Id="rId2" Type="http://schemas.openxmlformats.org/officeDocument/2006/relationships/hyperlink" Target="http://full.nkp.cz/nkkr/NKKR0103/0103175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erb&#225;ln&#237;%20komunikace.doc" TargetMode="External"/><Relationship Id="rId2" Type="http://schemas.openxmlformats.org/officeDocument/2006/relationships/hyperlink" Target="file:///verb&#225;ln&#237;%20komunikace.doc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CVIČENÍ k SJ II – Indexace pomocí věcných autorit NK ČR (PH NK ČR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00"/>
                </a:solidFill>
                <a:latin typeface="Arial"/>
              </a:rPr>
              <a:t>23. 3.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Silvie Pres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presova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phil.muni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Kabinet knihovnictví, FF 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Arial"/>
              </a:rPr>
              <a:t>Dva možné způsoby indexa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lývají z toho, že se NK rozhodla pro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 autorizaci jednotlivých prvků předmětových h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e celých řetězců přemětových h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PRO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znikly dílčí báze tematických, geografických a formálních autor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Zápis PH NK ČR ve formátu MARC 2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00  Vedlejší věcné záhlaví - osobní jméno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10  Vedlejší věcné záhlaví - jméno korporace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11  Vedlejší věcné záhlaví - jméno akce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30  Vedlejší věcné záhlaví - unifikovaný název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8  Vedlejší věcné záhlaví- chronologický termín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50  Vedlejší věcné záhlaví - věcné téma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51  Vedlejší věcné záhlaví - geografické jméno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55  Rejstříkový termín - žánr/forma (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ukáz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Arial"/>
              </a:rPr>
              <a:t>Chronologický termí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ronologické termíny nejsou v autoritách, dle doporučení Mgr. Balíkové lze do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odpole y u pole 6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pisovat údaje shodné s těmi, jež jsou v nových bibliograf. záznamech 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pis samostatně (tj. u postkoordinované indexace) do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pole 6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Arial"/>
              </a:rPr>
              <a:t>Prekoordinovaný zápis PH NK ČR ve formátu MARC 2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pole 650 – věcný ter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zapsat následující řetěz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á publicistika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Československo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967-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5007  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litická publicistika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Československo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967-1970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ze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Arial"/>
              </a:rPr>
              <a:t>Důležitá podpole pole 65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5007  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litická publicistika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Československo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967-1970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|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cz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05000"/>
            <a:ext cx="1944720" cy="934920"/>
          </a:xfrm>
          <a:prstGeom prst="downArrowCallout">
            <a:avLst>
              <a:gd name="adj1" fmla="val 52007"/>
              <a:gd name="adj2" fmla="val 52002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27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stupní 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2205000"/>
            <a:ext cx="1944720" cy="934920"/>
          </a:xfrm>
          <a:prstGeom prst="downArrowCallout">
            <a:avLst>
              <a:gd name="adj1" fmla="val 52007"/>
              <a:gd name="adj2" fmla="val 52002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2205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ografické zpřes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149720"/>
            <a:ext cx="1873440" cy="934920"/>
          </a:xfrm>
          <a:prstGeom prst="upArrowCallout">
            <a:avLst>
              <a:gd name="adj1" fmla="val 50101"/>
              <a:gd name="adj2" fmla="val 500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4437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nologické zpřes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149720"/>
            <a:ext cx="1873440" cy="934920"/>
          </a:xfrm>
          <a:prstGeom prst="upArrowCallout">
            <a:avLst>
              <a:gd name="adj1" fmla="val 50101"/>
              <a:gd name="adj2" fmla="val 5009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užitý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Arial"/>
              </a:rPr>
              <a:t>Prekoord. versus postkoord. zápis v MARC 2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6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itická publicist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$z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Českoslovens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$y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967-19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czenas  (řetězec 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$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itická publicist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2cz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4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$a 1967-19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2cz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65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$a Českoslovens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2cze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2565360"/>
            <a:ext cx="647640" cy="21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427280" y="2492280"/>
            <a:ext cx="1152360" cy="151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Arial"/>
              </a:rPr>
              <a:t>Jak se dopracujeme k následujícímu záznamu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Sekáč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Murat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Bitstream Cyberbit"/>
                <a:hlinkClick r:id="rId4"/>
              </a:rPr>
              <a:t> </a:t>
            </a:r>
            <a:r>
              <a:rPr b="0" lang="cs-CZ" sz="2800" spc="-1" strike="noStrike">
                <a:solidFill>
                  <a:srgbClr val="212063"/>
                </a:solidFill>
                <a:latin typeface="Bitstream Cyberbi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12063"/>
                </a:solidFill>
                <a:latin typeface="Bitstream Cyberbit"/>
              </a:rPr>
              <a:t>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Bitstream Cyberbit"/>
                <a:hlinkClick r:id="rId5"/>
              </a:rPr>
              <a:t>věcným zpracov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Pravidla indexace pomocí PH NK Č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zyk předmětových hesel s minimální aplikační syntax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ová hesla podle neplatné normy ČSN 01 018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jednodušeně CO – JAK – KDE – KDY ... jakou form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Komunismus, levicová kultura a česká politika 1890-1938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omunisté - kultura - vlivy - stu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itika kulturní - Československo - r. 1890-1938 - stu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podle ČSN 01 0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71640" y="3933720"/>
            <a:ext cx="7416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komunistické strany -- Čes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kulturní politika -- Česko -- 1890-19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kultura a politika -- Česko -- 1890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stu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NK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2997360"/>
            <a:ext cx="1584360" cy="287280"/>
          </a:xfrm>
          <a:prstGeom prst="rightArrow">
            <a:avLst>
              <a:gd name="adj1" fmla="val 50000"/>
              <a:gd name="adj2" fmla="val 13787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5734080"/>
            <a:ext cx="1584360" cy="287280"/>
          </a:xfrm>
          <a:prstGeom prst="rightArrow">
            <a:avLst>
              <a:gd name="adj1" fmla="val 50000"/>
              <a:gd name="adj2" fmla="val 137876"/>
            </a:avLst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Šablona pro tvorbu NK ČR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č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mí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místo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téma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3645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jmen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708280"/>
            <a:ext cx="79236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5013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tandard pro věcný pop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365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340000" y="270828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1280" y="1772640"/>
            <a:ext cx="63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áze národních autorit NK Č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Pes a lidská duš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a zví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vá symbo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 -- mytologické poj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700280"/>
            <a:ext cx="2736720" cy="1079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35480" y="164772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184464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jednočlenné he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varianta – T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76720" y="3357720"/>
            <a:ext cx="2737080" cy="1079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50028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éma – t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ématické zpřes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Jak poznám tematické zpřesnění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v autoritním záznamu je toto užití uved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morodci – asimi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ov hospodářských zvířat -- etické a morální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aderné havárie – 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sko -- hospodářské pomě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Geografické a chronologické zpřesnění tématu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éma – místo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ulturní politika -- Česko -- 20. st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enská transformace -- Česko -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ředově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dební spolky -- Česko -- 19.-20. st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hraniční politika -- Spojené státy americké            – 20. st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Geografické zpřesnění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použití geografického zpřesnění věcného tématu se používá označení na úrovni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CO TO ZNAM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udební spolky v Brně a jejich role při utváření "hudebního obrazu" města 1860-1918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ební spolky -- Česko -- 19.-20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ební život -- Česko -- 19.-20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no (Če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066560" y="4076640"/>
            <a:ext cx="3384360" cy="830160"/>
          </a:xfrm>
          <a:prstGeom prst="wedgeRoundRectCallout">
            <a:avLst>
              <a:gd name="adj1" fmla="val 61162"/>
              <a:gd name="adj2" fmla="val 64148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773360"/>
            <a:ext cx="3743280" cy="1368360"/>
          </a:xfrm>
          <a:prstGeom prst="wedgeRoundRectCallout">
            <a:avLst>
              <a:gd name="adj1" fmla="val -71203"/>
              <a:gd name="adj2" fmla="val -6726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1916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cc00"/>
                </a:solidFill>
                <a:uFillTx/>
                <a:latin typeface="Arial"/>
              </a:rPr>
              <a:t>650</a:t>
            </a:r>
            <a:r>
              <a:rPr b="1" lang="cs-CZ" sz="1800" spc="-1" strike="noStrike">
                <a:solidFill>
                  <a:srgbClr val="00cc00"/>
                </a:solidFill>
                <a:latin typeface="Arial"/>
              </a:rPr>
              <a:t>07|a hudební spolky |2 czenas |z Česko |y 19.-20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149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cc00"/>
                </a:solidFill>
                <a:uFillTx/>
                <a:latin typeface="Arial"/>
              </a:rPr>
              <a:t>651</a:t>
            </a:r>
            <a:r>
              <a:rPr b="1" lang="cs-CZ" sz="1800" spc="-1" strike="noStrike">
                <a:solidFill>
                  <a:srgbClr val="00cc00"/>
                </a:solidFill>
                <a:latin typeface="Arial"/>
              </a:rPr>
              <a:t> 7|a Brno (Česko) |2 cz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Geografické jméno jako vstupní prve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formátu MARC 21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e 6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Čes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olečenské pomě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3. st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pojené státy ame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ahraniční vzta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sko – 12.-15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sko – dějiny - 12.-15. st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sko – děj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1700280"/>
            <a:ext cx="1297080" cy="28728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357720"/>
            <a:ext cx="4248360" cy="1726920"/>
          </a:xfrm>
          <a:prstGeom prst="wedgeRoundRectCallout">
            <a:avLst>
              <a:gd name="adj1" fmla="val -64611"/>
              <a:gd name="adj2" fmla="val 84189"/>
              <a:gd name="adj3" fmla="val 16667"/>
            </a:avLst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3500280"/>
            <a:ext cx="41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 označení větších dějinných úseků a úseků, které nelze přesně vymezit. Přesně vymezené dějinné úseky se vyjádří pomocí chronologického zpřesně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Šest miliard Amerik/Iva Pekárková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Šest miliard Amer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kniha na pomezí hodně nezvyklého cestopisu a hodně nezvyklého průvodce i po méně známých zákoutích Spojených států, zároveň i myslí „domorodců“. Autorka, která důvěrně zná oba světy, představuje českému čtenáři Ameriku tak, jak ji nelze poznat z filmů ani z několikatýdenní návštěv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ujatě, ale i vtipně a s nadhledem popisuje aspekty amerického života i „principy“ té země, krom toho rozevře nejeden vzrušující příběh. Próza zaujme jak čtenáře s rozsáhlými znalostmi o USA, tak i čtenáře s rozsáhlými neznalost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Cvičení – z množiny vyberte odpovídající autoritní termín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sychologie osob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ené státy americ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tura a společ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ču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žská sexua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ologické asp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á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st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vod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ůsob života [o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Pekárková, Iva, 1963-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 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Šest miliard Amer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kultura a společ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pojené státy americké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životní sty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 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pojené státy ame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pojené státy americk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eál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cestop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průvod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Tyranie okamžiku/Thomas Hylland Eriksen</a:t>
            </a: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é si lámete hlavu nad tím, proč musíte pořád odkládat zásadní a průlomové projekty, zatímco zvládat každodenní agendu se vám daří jen s nasazením všech si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oho by před čtvrtstoletím napadlo, že všechny úžasné technologie vynalezené k úspoře času povedou nezadržitelně k tomu, že budeme mít nevyvratitelný pocit, že času máme stále mé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rozumíme taylorizací rodinného života? Proč rychlý čas v konfrontaci s pomalým vždy vítězí? A co mají tyto jevy společného s tzv. vyhoření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to otázky rozebírá Tyranie okamžiku - originální komentář odborníka v oboru sociální antropologie, formulovaný s vtipem a nadhledem. Nudit se nebude nikdo, kdo se zamýšlí nad zákonitostmi naší epochy a vývojem informační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ský sociální antropolog Thopmas Hylland Eriksen (1962) přichází v knize Tyranie okamžiku s neotřelou perspektivou a nečekanými souvislostmi. Jeho esej však nabízí i několik originálních řešení, jak zvládat stres vyvolaný moderními technologi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Databáze věcných autorit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řízený a měnitelný abeced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spořádaný soubor věcných selekčních údajů (indexačních termínů, lexikálních jednotek SJ), mezi nimiž je možné definovat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ákladní sémantické vztah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ff"/>
                </a:solidFill>
                <a:latin typeface="Arial"/>
              </a:rPr>
              <a:t>ekvivalence, hierarchie, asoci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určen ke zpracování/indexaci a vyhledávání informační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64000" y="5084640"/>
          <a:ext cx="288612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5084640"/>
                    <a:ext cx="2886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Cvičení – z množiny vyberte odpovídající autoritní termín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á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ímání ča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asp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sychologické asp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m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tech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ládání stre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ční dál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ční společ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ální asp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m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Tyranie okamžiku</a:t>
            </a:r>
            <a:br>
              <a:rPr sz="2800"/>
            </a:b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Thomas Hylland Erik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informační spol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informační technologi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ociální asp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informační technologi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psychologické asp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vnímání ča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zvládání str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ese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Harmonizace věcné katalogizace v Česku: sen či realit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online]. [cit. 2004-09-22]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tupné z </a:t>
            </a:r>
            <a:r>
              <a:rPr b="0" lang="cs-CZ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jib-info.cuni.cz/dokumenty/sec2004/sec2004_balikova.rt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Problematika věcného pořádání informací a jejich zpřístupn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árodní knihov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2001, roč. 12, č. 3, s. 175–18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tupné též z </a:t>
            </a:r>
            <a:r>
              <a:rPr b="0" lang="cs-CZ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full.nkp.cz/nkkr/NKKR0103/010317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měna koncepce věcného zpracování v Národní knihov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Č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1. vyd. Praha : Národní knihovna České republiky, 1998. 22 s. ISBN 80-7050-302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33"/>
                </a:solidFill>
                <a:latin typeface="Arial"/>
              </a:rPr>
              <a:t>soubor tematických autor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dominantní; základním prvkem jsou tematické lexikální jednotky, mezi nimiž jsou vyjádřeny základní sémantic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33"/>
                </a:solidFill>
                <a:latin typeface="Arial"/>
              </a:rPr>
              <a:t>soubor formálních autor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termíny, označující formu, žánr či fyzické vlastnosti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cc33"/>
                </a:solidFill>
                <a:latin typeface="Arial"/>
              </a:rPr>
              <a:t>soubor geografických autor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správní celky, oblasti (nesprávní celky), přírodní geografické oblasti (kontinenty, moře, pohoří, hory apod.), umělé útvary (ulice, mosty, turistické  trasy, chráněná území, přírodní památ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33"/>
                </a:solidFill>
                <a:latin typeface="Arial"/>
              </a:rPr>
              <a:t>soubor skupin Konsp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á úroveň konspektového schématu, sj používaný pro hrubou kategorizaci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333360"/>
          <a:ext cx="2885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2885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639600" y="54936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e skládá z dílčích soub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bsahové charakteristice dokumentu se klade největší důraz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na zpřístupnění tematických inform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dokumentech obsažených, její součástí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 širším kontextu jsou však i údaje formální, geografické a chronologické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 se soubor věcných autorit skládá z několika dílčích soub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71640" y="404640"/>
          <a:ext cx="2886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04640"/>
                    <a:ext cx="2886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Arial"/>
              </a:rPr>
              <a:t>Autoritní prvek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utoritní záz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autoritního záznamu pro věcné téma </a:t>
            </a: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verbální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v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šímat si poznám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637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Arial"/>
              </a:rPr>
              <a:t>Dva způsoby indexa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rekoordinova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K ČR – uplatňuje minimální aplikační syntax - zachovává minimální řetězce předmětových hes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stkoordinovan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tlivé selekční údaje se zapisují zvlášť do příslušných pol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Pra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ž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ské jaro v médiích : výb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ě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r z dobové publicistiky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/Jiří Hoppe</a:t>
            </a: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žské jaro, 196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en, 196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á publicistik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Československ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eskoslovensk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a politik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7-197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 PRE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653000"/>
            <a:ext cx="1368360" cy="288720"/>
          </a:xfrm>
          <a:prstGeom prst="rightArrow">
            <a:avLst>
              <a:gd name="adj1" fmla="val 50000"/>
              <a:gd name="adj2" fmla="val 118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Pra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ž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ské jaro v médiích : výb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ě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r z dobové publicistiky</a:t>
            </a:r>
            <a:r>
              <a:rPr b="0" lang="cs-CZ" sz="3600" spc="-1" strike="noStrike">
                <a:solidFill>
                  <a:srgbClr val="990033"/>
                </a:solidFill>
                <a:latin typeface="Arial"/>
              </a:rPr>
              <a:t>/Jiří Hoppe</a:t>
            </a: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žské jaro, 196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pen, 196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á public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a poli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skoslove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67-197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 POST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5229360"/>
            <a:ext cx="1368360" cy="288720"/>
          </a:xfrm>
          <a:prstGeom prst="rightArrow">
            <a:avLst>
              <a:gd name="adj1" fmla="val 50000"/>
              <a:gd name="adj2" fmla="val 118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21:44Z</dcterms:created>
  <dc:creator>Silvie Presová</dc:creator>
  <dc:description/>
  <dc:language>en-US</dc:language>
  <cp:lastModifiedBy>kabinet knihovnictvi</cp:lastModifiedBy>
  <dcterms:modified xsi:type="dcterms:W3CDTF">2007-03-26T21:00:38Z</dcterms:modified>
  <cp:revision>25</cp:revision>
  <dc:subject/>
  <dc:title>Snímek 1</dc:title>
</cp:coreProperties>
</file>