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6C83-8930-4BF3-94F0-9B80902A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5ABE-C05B-4718-81CA-F9E1B4AE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1C6-0EEE-47C6-951A-6A9BD427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701-836E-4CBE-A073-F33BDD92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4F7E-C799-4E89-8AE2-58B24335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480F-C1D2-43A5-9E89-EF36D18E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0C60-0A7F-46DB-9F65-47C1106C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8BEA-7191-422D-A763-E7FD645C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AC1C-147F-4137-B735-86D51735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C666-2BA9-4C55-8FB8-F14BDFA9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5D6C-8FAF-4708-9ECD-7C812D88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5B0-33C1-46D8-93DF-38D77F02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F7DA-DFDF-48C6-9382-56E74962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D186-F9DF-4428-91D0-F745A5BC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7BF5-84D2-4E3C-AE7D-41273D30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161A-C544-4F7C-9F1D-89F828C8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F4B2-F9EF-4C97-90D0-4086D247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6A3-2DAA-4455-A127-D52D9DB3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784-8BCA-41B5-B98C-94927354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2E1C-D2C8-433C-84A4-48C5D567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7EF-66CD-4912-954D-18C97730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57A-02AC-4B3A-AB26-43781AD7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F70-9DA5-45B3-817F-F5166A93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AC7-3A13-470B-BD24-18DE7EE8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A7AE-1600-4B82-A35D-CBAF9FC0AE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14AB-BEF7-4DF8-BF71-2DCE59DA57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jib-info.cuni.cz/dokumenty/sec2004/sec2004_balikova.rtf" TargetMode="External"/><Relationship Id="rId2" Type="http://schemas.openxmlformats.org/officeDocument/2006/relationships/hyperlink" Target="http://full.nkp.cz/nkkr/NKKR0103/0103175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VIČENÍ k SJ II –  procvičování indexace pomocí věcných autorit NK ČR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00"/>
                </a:solidFill>
                <a:latin typeface="Arial"/>
              </a:rPr>
              <a:t>4. 5.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0033"/>
                </a:solidFill>
                <a:latin typeface="Arial"/>
              </a:rPr>
              <a:t>cvičící: Silvie Pres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0033"/>
                </a:solidFill>
                <a:latin typeface="Arial"/>
              </a:rPr>
              <a:t>presova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@</a:t>
            </a:r>
            <a:r>
              <a:rPr b="0" lang="cs-CZ" sz="2000" spc="-1" strike="noStrike">
                <a:solidFill>
                  <a:srgbClr val="990033"/>
                </a:solidFill>
                <a:latin typeface="Arial"/>
              </a:rPr>
              <a:t>phil.muni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0033"/>
                </a:solidFill>
                <a:latin typeface="Arial"/>
              </a:rPr>
              <a:t>Kabinet knihovnictví, FF 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</a:rPr>
              <a:t>Zadání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ákladě nakladatelské anotac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ozor ve skutečnosti se neindexuje pouze na základě anotace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identifikujte hlavní a dílčí témata dokumentu. Současně se pokuste pomocí klíčových slov postihnout i dotazy, které by se na dokument mohly staho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líčová slova převeďte na autoritní termí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tvořte PH NK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</a:rPr>
              <a:t>Šablona pro tvorbu NK ČR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ma – té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ma – č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ma – mí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ma – místo –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ísto – téma –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ísto – té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ísto –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Arial"/>
              </a:rPr>
              <a:t>Šest miliard Amerik/Iva Pekárková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Šest miliard Amer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 kniha na pomezí hodně nezvyklého cestopisu a hodně nezvyklého průvodce i po méně známých zákoutích Spojených států, zároveň i myslí „domorodců“. Autorka, která důvěrně zná oba světy, představuje českému čtenáři Ameriku tak, jak ji nelze poznat z filmů ani z několikatýdenní návštěvy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ujatě, ale i vtipně a s nadhledem popisuje aspekty amerického života i „principy“ té země, krom toho rozevře nejeden vzrušující příběh. Próza zaujme jak čtenáře s rozsáhlými znalostmi o USA, tak i čtenáře s rozsáhlými neznalost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</a:rPr>
              <a:t>AUTORITNÍ TERMÍN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sychologie osob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jené státy americ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ultura a společnost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ečuov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žská sexual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ologické aspek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ál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hl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stopi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vod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Pekárková, Iva, 1963-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  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Šest miliard Ameri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kultura a společn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-- 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pojené státy americké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pojené státy americk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-- 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reál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cestopi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průvod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</a:rPr>
              <a:t>Doporučená literatur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LÍKOVÁ, M.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Harmonizace věcné katalogizace v Česku: sen či realita?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[online]. [cit. 2004-09-22]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stupné z </a:t>
            </a:r>
            <a:r>
              <a:rPr b="0" lang="cs-CZ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jib-info.cuni.cz/dokumenty/sec2004/sec2004_balikova.rt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LÍKOVÁ, M.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Problematika věcného pořádání informací a jejich zpřístupně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Národní knihov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2001, roč. 12, č. 3, s. 175–186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stupné též z </a:t>
            </a:r>
            <a:r>
              <a:rPr b="0" lang="cs-CZ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full.nkp.cz/nkkr/NKKR0103/0103175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LÍKOVÁ, M.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Změna koncepce věcného zpracování v Národní knihovn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Č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1. vyd. Praha : Národní knihovna České republiky, 1998. 22 s. ISBN 80-7050-302-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9:21:44Z</dcterms:created>
  <dc:creator>Silvie Presová</dc:creator>
  <dc:description/>
  <dc:language>en-US</dc:language>
  <cp:lastModifiedBy>SilvieP.</cp:lastModifiedBy>
  <dcterms:modified xsi:type="dcterms:W3CDTF">2007-05-09T14:07:48Z</dcterms:modified>
  <cp:revision>22</cp:revision>
  <dc:subject/>
  <dc:title>Snímek 1</dc:title>
</cp:coreProperties>
</file>