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39960" y="76176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724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9524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9524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71DC-CC03-40B2-9372-9106625AFFB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39960" y="762120"/>
            <a:ext cx="4978080" cy="3733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724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abáni – hutterité, toufaři, novokřtěnci, mennon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9960" y="762120"/>
            <a:ext cx="4978080" cy="3733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724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Everest – nepálsky Čomolungma (Čumulangma), nepálsky Sagarmatha, tibetsky Qomolangma fe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2348-73BA-4A7E-A63F-BF77FC48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97D3-B8F6-49CB-9904-E0242221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3F85-E18E-4C69-94FD-6E840D61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7351-1134-4023-BE72-FE8741D6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2AAB-78FA-4DF8-9EE8-58869E10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19F6-82F1-4CBF-AC0B-549C33F7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4F91-C013-4A32-9407-DB472C01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F221-1573-4EB3-A494-EFEC8112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A9C9-2417-412E-853C-E240107C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4EEF-CF50-43B8-8863-90F665D8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E3F3-526F-49BF-8DA8-C6B16668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E840-0151-4E96-AF86-305E916B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B6AB-E0B2-4466-B028-8598A08C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A9F9-0A3E-41D0-BA07-FB18C8D2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25E0-21E7-4C5B-877B-09F73761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D72B-E332-41CA-B929-1B66B35A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44BF-8D11-41C0-8664-8361AB35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8262-27A7-47AB-B4AC-C332274F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879C-2D66-4738-B16C-B58E9685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EF8C-A37B-476F-8786-C3F3045B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1A1E-51E6-43C2-8BF9-9FDA5FDF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E415-0CB7-4857-A815-A2FD97B6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864F-6E24-4768-97E1-04778862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5C24-C45A-49FB-9F63-BA614E3B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F748-086E-4368-9F59-A4822108B86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E507-FD69-437F-86A0-CDC6E676E50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loc.gov/catdir/pcc/fictioninfo.htm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mailto:schwarzjv@seznam.cz" TargetMode="Externa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file:///2003-04/5.prednaska/indpravidla2_0.doc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1 (komb.) – 9.3.2007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6/2007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ýběr znaků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ce/klasifikace (PSJ/SSJ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poklad: znalost konkrétního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ost indexace/klasifik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sah zachycení hlavních a vedlejších té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čet znaků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pecifičnost indexace/klasifik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běr nejspecifičtějšího znaku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ční hledis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př. předmět/téma, čas, místo, entita, proces/činnost, vzta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ekoordinace/postkoordin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ubjektivní aspek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ční pravidl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pecifičnost indexace (příkl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la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1 složení parla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2 komory parla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3 jednokomorový systé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3 dvoukomorový systé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4 horní kom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4 dolní kom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4 federální sněmovn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ůvody indexac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á část fondu a výpůjček (veřejné knihovn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ást fondu odborných knihove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ožné uživatelské dotazy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eletrizovaný životopis van Gogh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ci-fi odehrávající se na Měsíc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mán situovaný do italského kláštera odehrávající se ve 14. stolet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íklady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co: Jméno růž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K, KJM, MZK: italské romány * detektivní romány * historické romány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KBBB: </a:t>
            </a: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historie - františkáni - Vilém z Baskervillu (františkáni - Vilém z Baskervillu - František z Assisi – benediktini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KMO: italská tvorba, 14.stol., benediktini, kláštery, detektivky, historické příběhy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MK Tábor: </a:t>
            </a:r>
            <a:r>
              <a:rPr b="0" lang="cs-CZ" sz="1800" spc="-1" strike="noStrike">
                <a:solidFill>
                  <a:srgbClr val="40458c"/>
                </a:solidFill>
                <a:latin typeface="Arial Unicode MS"/>
              </a:rPr>
              <a:t>detektivky - historické romány - středověk - teologie - 14. stol. – Itálie (historické román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spekty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edmě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kce, události, téma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sychologický vývoj postav, moti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ociální vztah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áme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ba (minulost, současnost, budoucnos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ísto (geografie, sociální prostředí, profes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utorský zámě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mocionální působe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zn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ístup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čti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yzické charakteristiky (velké písmo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iterární forma (žán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LA: 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Guidelines on Subject Access to Individual Works of Fiction, Drama, Etc. (1990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CLC/LC Fiction Pro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C, OCLC, 6 dalších amerických knihov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d r. 199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ěcný přístup k dílům krásné literat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CSH (rozšíření o 916 nových hese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4 000 zázna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Britská národní bibliografi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ace krásné literatury od r. 1997 dle pravidel A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tížnější indexace než u odborné literatury – problém identifikace základních obsahových charakteristik a poj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přítomnost pomocného aparátu (obsah, rejstřík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šší subjektiv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ízká konzist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dostatek specializovaných řízených slovník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ém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émantická redukce dokument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dnocení kvality a konzistence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rmonizace a standardizace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Časová osnova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00000" y="1447560"/>
            <a:ext cx="82440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udenti kombinovaného stud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9.3. přednáš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émantická redukce dokumentů – základní principy, indexace krásné litera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30.3. přednáš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20.4. e-learn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rozený jazyk vs řízený slovník z hlediska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1.5. přednáš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ákladní metody a postupy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8.5. závěrečná hodina, te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ŘEDPOKLADY KLASIFIK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2 povinné úko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1 nepovinný úko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ese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20 otáze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běr z variant a) až 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ktivita na přednáškách a cvičení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ůběžné získávání bodů (puzzle) (informace o získaných bodech zasílejte na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schwarzjv@seznam.cz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do předmětu uveďte „puzzle“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zbytné získat alespoň 1 bo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lovina studentů s nižším počtem bodů – doplňkový úko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émantická redukce dokument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émantická redukce dokument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prezentace plného textu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žnost vyhledávání podle obsah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ces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sahová analýz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dexace, klasifik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bstrahování/refero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ástroj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lekt/algoritm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J/P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Obecný proces věcného zprac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sahová analýz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dentifikace pojm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běr znaků SJ a tvorba selekčního obrazu dokumentu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ČSN ISO 5963. Dokumentace. Metody analýzy dokumentů, určování jejich obsahu a výběru lexikálních jednotek selekčního jazyka. 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Úč. 1.4.1996. 12 s.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avidla (indexační pravidla)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příklad: ČTT/UK-ETF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sahová analýz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</a:rPr>
              <a:t>content/subject analy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určení obsahu dokumentu na základě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(orientační, kurzorické/diagonální, selektivní, statarické, racionální čtení –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významy viz TDKI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eduk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abstrakt, resumé, výtah, anotac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lších adekvátních část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ázev, obsah, rejstřík, úvod, závěr, zvýrazněné části textu apo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zásadní význam pro kvalitu S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ozumění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azykové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odborné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dentifikace pojm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ýchodis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ohlednění funkce IS a potřeb uživate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ohlednění významu a rozsahu dokumen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ohlednění všech adekvátních obsahových hledis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anovení důležitosti pojmů/té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hlavní pojmy/téma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edlejší pojmy/téma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yjádře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líčová slo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řirozený jazy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7-03-13T06:38:08Z</dcterms:modified>
  <cp:revision>108</cp:revision>
  <dc:subject/>
  <dc:title>Selekční jazyky</dc:title>
</cp:coreProperties>
</file>