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8DD8-15F1-46C0-A8F5-3EF53529E00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abáni – hutterité, toufaři, novokřtěnci, menno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Everest – nepálsky Čomolungma (Čumulangma), nepálsky Sagarmatha, tibetsky Qomolangma fe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B0A-2855-427F-B92B-174E026F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F3C-DF26-44CE-BAC0-250C8559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9ED-2177-4500-AD26-CB3F53E0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66A-DC87-4841-8AAC-1FF7F026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FF46-E2A1-4602-931E-432129D2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BCDA-1C68-4C7E-8C29-37776C39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F76D-BEAC-4E7C-970E-209EE87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6409-FDAC-42AB-B597-38DD4537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0248-A31A-4965-81EC-53C689CB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9FC4-32D1-46C7-B58B-6BEDF038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C123-246C-405A-8A5E-949B553D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BA3-3910-4D86-9653-0E174791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454C-546D-48E0-8828-51EF7CF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6699-37E8-40F5-A11C-00B09AA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2750-6641-4F91-8F98-85F5D3D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0240-2F52-4C88-9863-45516A40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2DED-E564-4826-9170-603A2C74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0C9-7572-4938-AF3D-57725D0B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3D6-5ADD-401F-B304-BDD910E4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36C-571A-4A85-B251-67F03168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4B8-6F8D-49DF-829B-96CA763A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98A-C090-4473-918D-F255952B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7F8-518C-486D-AB03-AB230272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DB5-7592-4FDC-8FEC-2C6593B7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0D58-0C55-4D35-9112-EFD7EA5D3B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2DD8-F1B9-4234-870B-1FEA57875D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mailto:schwarzjv@seznam.cz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2003-04/5.prednaska/indpravidla2_0.doc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(komb.) – 9.3.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6/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émantická redukce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dnocení kvality a konzistence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monizace a standardizace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Časová osnov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447560"/>
            <a:ext cx="82440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denti kombinovaného stud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9.3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émantická redukce dokumentů – základní principy, indexace krásné litera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30.3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.4. e-lear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 jazyk vs řízený slovník z hlediska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1.5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 metody a postupy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8.5. závěrečná hodina, t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 povinné úko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1 nepovinný úk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ese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 otáz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 z variant a) až 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ktivita na přednáškách a cvičení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ůběžné získávání bodů (puzzle) (informace o získaných bodech zasílejte na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schwarzjv@seznam.cz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do předmětu uveďte „puzzle“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zbytné získat alespoň 1 b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lovina studentů s nižším počtem bodů – doplňkový úko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3-13T06:38:08Z</dcterms:modified>
  <cp:revision>108</cp:revision>
  <dc:subject/>
  <dc:title>Selekční jazyky</dc:title>
</cp:coreProperties>
</file>