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8EF0-28AF-43E7-ACDC-235AC2D770F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abáni – hutterité, toufaři, novokřtěnci, menno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verest – nepálsky Čomolungma (Čumulangma), nepálsky Sagarmatha, tibetsky Qomolangma fe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478-BB68-49AC-9A2A-FB7C5FEC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6A5-2DA0-46E7-83A1-4C9F65EE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2A1-F0BE-4659-9BD1-3CC7D579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5D9-62C4-414F-9AC0-2718C18D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6669-59F8-4B4D-B860-8705B510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0376-5311-4F56-8574-3159ED68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749F-2C60-4B4E-BAF7-D749F3E9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171E-B82D-49E0-880C-E3F8D03B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09DD-C3E3-49D3-9B8D-CFB4E04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3324-0B0A-4669-B0D3-68A99E9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B54B-8515-41AC-9B5C-C1B6AF3A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323-4532-4FCC-B373-B26C0594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84DB-7B7D-40CA-A4F4-0562C61E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FD1-8261-4A39-B26B-FF28DB9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CC26-36A9-4849-8B4D-26BDF8EB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D662-3DFA-4BE1-AE13-C654C231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62BE-1AD9-4EB0-9FD0-DB0EB45B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7A2-99C3-4EF0-9A38-A2E532D0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CE6-EA14-4FC8-8922-27D0B587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F81-41B8-4D6F-884B-2B9204AF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0AF-8296-4541-83F3-3F2E117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4CA-59DE-46A3-8392-3BABE849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DB9-2746-4769-B53D-B939279C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AAB-879A-433E-8174-B2F7606E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96D9-5E08-45B8-A7C6-85B4DC1C7F2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6B8B-2CC7-4FBF-ABF8-1DB24F5E78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mailto:schwarzjv@seznam.cz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2003-04/5.prednaska/indpravidla2_0.doc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(komb.) – 9.3.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6/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émantická redukce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dnocení kvality a konzistence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onizace a standardizace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Časová osnov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447560"/>
            <a:ext cx="82440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denti kombinovaného stu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9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émantická redukce dokumentů – základní principy, indexace krásné litera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30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.4. e-lear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 jazyk vs řízený slovník z hlediska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1.5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 metody a postupy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8.5. závěrečná hodina,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 povinné úko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1 nepovinný úk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ese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 otáz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 z variant a) až 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ktivita na přednáškách a cvičení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ůběžné získávání bodů (puzzle) (informace o získaných bodech zasílejte na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schwarzjv@seznam.cz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do předmětu uveďte „puzzle“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zbytné získat alespoň 1 b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lovina studentů s nižším počtem bodů – doplňkový úko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3-13T06:38:08Z</dcterms:modified>
  <cp:revision>108</cp:revision>
  <dc:subject/>
  <dc:title>Selekční jazyky</dc:title>
</cp:coreProperties>
</file>