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9166-6318-4CD8-9E79-6A46D90B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859-A8D2-4BB8-A48E-34CCD235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C08-6A54-4912-8513-544E2F5B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745-8D64-4275-B409-2CC4D3EF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11C6-B461-438E-B83F-CB1750F5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8AE2-41E8-4D01-81A0-852F82D1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28D2-30B7-45E4-B1DE-EBEBCEBD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F3E1-B1FB-4269-9792-824A8E14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B28D-6BD1-4265-84ED-06DF1D6E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E1A8-62AB-457F-9D54-57C68EF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8716-0B52-4F50-A0A8-CC07BB5A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E8E-3CE3-42B1-8A3F-1B101F43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F77A-4172-4ABC-98BD-71E762FD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CD42-093F-4775-887D-534298B7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F911-7B29-4635-850B-99D7E52D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7D46-2D59-42A7-9A07-928B9845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44FE-8F63-4ED9-8E8E-CAA4D29F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94C-7840-4939-9085-43E95E26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A26-EC20-46A3-9D21-92BFA97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039-EECC-4A38-9C05-5E265596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624-E77E-48C6-AB91-66E82D89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A26-72E9-48A6-9A04-E5AD9BE4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031-A1D7-46AF-A92D-0D5FA4D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D3C-7030-4950-92FD-93ADCD9C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65B3-BA36-44F2-9D38-862F64FADF6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DF3B-76C9-46F2-AD75-8E3A7016CA8E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hyperlink" Target="http://xxx.lanl.gov/" TargetMode="External"/><Relationship Id="rId4" Type="http://schemas.openxmlformats.org/officeDocument/2006/relationships/hyperlink" Target="http://xxx.lanl.gov/" TargetMode="External"/><Relationship Id="rId5" Type="http://schemas.openxmlformats.org/officeDocument/2006/relationships/hyperlink" Target="http://xxx.lanl.gov/" TargetMode="External"/><Relationship Id="rId6" Type="http://schemas.openxmlformats.org/officeDocument/2006/relationships/hyperlink" Target="http://www.ulrichsweb.com/ulrichsweb/" TargetMode="External"/><Relationship Id="rId7" Type="http://schemas.openxmlformats.org/officeDocument/2006/relationships/hyperlink" Target="http://www.wipo.int/classifications/fulltext/new_ipc/index.htm" TargetMode="External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b.cas.cz/www/cz/frame_knihovna.HTML" TargetMode="External"/><Relationship Id="rId3" Type="http://schemas.openxmlformats.org/officeDocument/2006/relationships/hyperlink" Target="http://www4.infotrieve.com/newmedline/search.asp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hyperlink" Target="http://www.scirus.com/" TargetMode="External"/><Relationship Id="rId6" Type="http://schemas.openxmlformats.org/officeDocument/2006/relationships/hyperlink" Target="http://www.lib.cas.cz/www/cz/frame_knihovna.HTML" TargetMode="External"/><Relationship Id="rId7" Type="http://schemas.openxmlformats.org/officeDocument/2006/relationships/hyperlink" Target="http://www4.infotrieve.com/newmedline/adv_search.asp" TargetMode="External"/><Relationship Id="rId8" Type="http://schemas.openxmlformats.org/officeDocument/2006/relationships/hyperlink" Target="http://www.google.cz/advanced_search?hl=cs" TargetMode="External"/><Relationship Id="rId9" Type="http://schemas.openxmlformats.org/officeDocument/2006/relationships/hyperlink" Target="http://www.scirus.com/srsapp/advanced/index.jsp" TargetMode="External"/><Relationship Id="rId10" Type="http://schemas.openxmlformats.org/officeDocument/2006/relationships/hyperlink" Target="http://www.lib.cas.cz/www/cz/frame_knihovna.HTML" TargetMode="External"/><Relationship Id="rId11" Type="http://schemas.openxmlformats.org/officeDocument/2006/relationships/hyperlink" Target="http://www4.infotrieve.com/newmedline/search.asp" TargetMode="External"/><Relationship Id="rId12" Type="http://schemas.openxmlformats.org/officeDocument/2006/relationships/hyperlink" Target="http://www.psp.cz/rapid/aRL/main.php?language=czech&amp;ictx=par" TargetMode="External"/><Relationship Id="rId13" Type="http://schemas.openxmlformats.org/officeDocument/2006/relationships/hyperlink" Target="http://df.stk.cz/cgi-bin/dflex/CZE/STK/FIND2" TargetMode="External"/><Relationship Id="rId14" Type="http://schemas.openxmlformats.org/officeDocument/2006/relationships/hyperlink" Target="http://www.ff.cuni.cz/tinweb/tw" TargetMode="External"/><Relationship Id="rId15" Type="http://schemas.openxmlformats.org/officeDocument/2006/relationships/hyperlink" Target="http://tinweb.upm.cz/" TargetMode="External"/><Relationship Id="rId16" Type="http://schemas.openxmlformats.org/officeDocument/2006/relationships/hyperlink" Target="http://www.psp.cz/eknih/" TargetMode="External"/><Relationship Id="rId1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3 (denní) – 27.4.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6/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6CD-413E-42CE-93F9-D0685426E078}" type="slidenum">
              <a:t>10</a:t>
            </a:fld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67A-867F-45B6-8F23-155E42E14B3B}" type="slidenum">
              <a:t>11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7D2-0948-45F2-9590-623EEE2902A4}" type="slidenum">
              <a:t>12</a:t>
            </a:fld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A53-A43C-4174-8337-ACAF03D743FF}" type="slidenum">
              <a:t>13</a:t>
            </a:fld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639-026B-48B9-B252-4B612D5DFA62}" type="slidenum">
              <a:t>14</a:t>
            </a:fld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738-9D2F-4DFF-9D22-F78B18F0ED6B}" type="slidenum">
              <a:t>15</a:t>
            </a:fld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8B1-143C-48B5-9DD6-B1BA88EB94F1}" type="slidenum">
              <a:t>16</a:t>
            </a:fld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FC3-5AD1-4E95-9AFA-2ABC991CC04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213-06EB-4811-A419-8DACF48E4C86}" type="slidenum">
              <a:t>19</a:t>
            </a:fld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andardizace a harmonizace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ícejazyčné SJ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E40-F7C4-471E-86B6-741F743CF1A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620-F5CA-450C-811A-AB445D243BC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BE0-FAFF-43D0-8797-12436951903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276-CB7B-43C6-BD5E-0BEE084205D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14D-412D-4A85-8C25-E2577949D55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e-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rin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zinárodní patentové třídění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9CB-9A06-4D0A-A862-426E1D940CB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E76-5183-4EC5-A722-6C387471679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B9B-C80C-42DF-A275-2B8346C9898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E47-4176-4F75-8181-7EC45310A1F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FB5-5CC8-44A8-8175-D7E9ABA970C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9E0-233D-4B04-B025-A90A56248A8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E0B3-054A-406A-A78E-65E28DDAC64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EB2-D758-4D0C-86DC-55245C1B28F2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CBF-0FAF-460A-8DFC-41231264FD7D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37D-8866-4C2C-926D-2DB231734394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9E4-3FA3-4817-9CAF-E722DED145BB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8A7-945C-418B-BA8B-358B345E2A0F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24B-ECFD-4E0F-9028-B7EE7635EFAE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16D-55BD-4136-AA2D-C16CAC0829A3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FF U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404-AC4D-4086-9CE6-5CC233E969A0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00A-C05D-4291-9DCB-E7AF2B248BC4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E95-6EC9-4462-9E5D-AD59EC021897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537-4FDF-4515-95C3-49EDE893B2D8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EC8-D2B8-4922-B282-ACD99C317C2B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EC4-8641-4397-9D8A-ACED107ABF2A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104-547C-4FC1-9AD8-F8412FAD2668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172-1A64-4885-96D4-AA390EDD97AF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76A-F67A-44A1-BC66-7E0C658504BA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F2D-02C6-44CE-B1FD-5989968D4DE0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564-B9E6-4878-838B-6EB3FB31641E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971-DBE9-4209-9E11-3526EA5B8FD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211-9AE9-4A9B-AE00-FC1304507DB7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8D6-1B92-4552-AD62-5CDA3BF349D9}" type="slidenum">
              <a:t>7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3A6-651F-4ED7-995C-4D0EAA2ED67E}" type="slidenum">
              <a:t>8</a:t>
            </a:fld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E65-7DCA-4754-9C00-67FCE24E730F}" type="slidenum">
              <a:t>9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5-07T04:55:40Z</dcterms:modified>
  <cp:revision>218</cp:revision>
  <dc:subject/>
  <dc:title>Selekční jazyky</dc:title>
</cp:coreProperties>
</file>