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F1A-6F08-490C-8259-C9C256A5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BDD-E6F2-44F7-8430-E4E7E74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306-21DF-4AAC-88F4-699AF2D6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B5F-DA1F-4059-B39A-A273D985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54A8-F6CD-4177-A4F4-00EFF846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7E55-D334-4B61-981F-15B3248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8677-EF0C-4349-A427-3CFD1F8D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1CD-F872-4780-BD0F-1454BAD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17F-66BC-4267-99DB-225B07B6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E123-6D01-4E95-A65A-B111343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3A82-EC12-40C0-A89E-4AA05C7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805-C417-419E-A007-A6EA8B3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D1EE-A8EC-44B4-9668-330AFAE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3DB5-358D-462F-891D-B2C6327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316-CF66-4D8E-9CDE-E4AC704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38F9-89A6-449F-ADFA-2E98BB2B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18EA-8366-4DAC-B422-BF3AB7E8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1ED-7D56-4EB8-89DE-41B4E49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C40-09E8-4C77-B7DD-2EDDC62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955-C91F-4AE9-98B0-6769D5E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432-2434-467E-AE6C-812AC3C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D74-9073-4EAF-9BD3-1BA6286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58B-24A6-4745-9DB3-8CE53BD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D95-610C-4971-A0DD-4798B0C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1E4-53BD-45FC-A049-7366C90D60C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EA30-762B-4D7F-8FDA-C0146418364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cas.cz/www/cz/frame_knihovna.HTML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www.lib.cas.cz/www/cz/frame_knihovna.HTML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www.lib.cas.cz/www/cz/frame_knihovna.HTML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www.ff.cuni.cz/tinweb/tw" TargetMode="External"/><Relationship Id="rId15" Type="http://schemas.openxmlformats.org/officeDocument/2006/relationships/hyperlink" Target="http://tinweb.upm.cz/" TargetMode="External"/><Relationship Id="rId16" Type="http://schemas.openxmlformats.org/officeDocument/2006/relationships/hyperlink" Target="http://www.psp.cz/eknih/" TargetMode="External"/><Relationship Id="rId1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(denní) – 27.4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ECE-CCE6-4A25-9305-2040EFA6ACB0}" type="slidenum">
              <a:t>10</a:t>
            </a:fld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EA1-3D78-4350-8839-1D1D007B706F}" type="slidenum">
              <a:t>11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9E3-1393-443F-B05B-ABDC897F6319}" type="slidenum">
              <a:t>12</a:t>
            </a:fld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BB2-6D77-454C-9691-F52F1CCA2869}" type="slidenum">
              <a:t>13</a:t>
            </a:fld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A88-3BE9-40AE-8211-0D823A09D9DE}" type="slidenum">
              <a:t>14</a:t>
            </a:fld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0FA-C914-4160-BED8-F7C460D29DEE}" type="slidenum">
              <a:t>15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380-8591-43BC-911B-D9E53A5E64BF}" type="slidenum">
              <a:t>16</a:t>
            </a:fld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8E1-AEB5-4B8C-A686-31A40A57481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C27-BB46-480D-AF7C-B7D90017F0FB}" type="slidenum">
              <a:t>19</a:t>
            </a:fld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dardizace a harmonizace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ícejazyčn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A87-7083-435D-96FA-B94E6DF17DB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F26-2641-412D-B824-FF957355B5ED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DD8-C229-4728-958D-F8F6B2D08D2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466-AAFB-4125-AF55-9B096EC2D1B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1C0-3C7F-4EB8-A66E-DA732980549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C77-7141-4821-BA5E-338BF20A7D8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2D2-404A-4D91-96F1-F52DC58D0B4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351-3F6B-427F-80DA-8F05EE0D446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76B-11E0-46BD-BB29-FD6B6EBA8DE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E29-E059-4351-8FEE-48DF3341CAF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FD8-209A-4C63-86FB-BDB6FFCAE35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329-8DB5-4220-ABDC-2F013346509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D87-434C-4AED-8AC8-E8DA72969B03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072-91A7-4A7A-8823-D4A124EBF23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910-2546-4F91-8835-43F72A20C85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437-B3D1-49F4-BA7C-AA2D8ED3B28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018-260E-4081-A44A-39A9BF25CD7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CE-7F9E-402C-90BE-3A687498DAB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520-7382-476D-A6C6-7DAA802DB754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FF U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EB4-53AD-4E35-BE1E-456E75B7DE2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AD7-C167-425A-B58A-6D577392E4C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694-D58E-4AB3-B96D-1BFEF16994D7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A14-7B72-4B11-A97F-22255B9D78F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0AD-FB04-49AB-8B1F-677F33BBB76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366-1289-46D8-A9F0-A6F66357B400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2F3-A0A0-4C8B-9276-04378A0E70E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34E-23FF-4E03-BEAD-EE5ABDF6A67F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828-41E2-4461-9516-079012AB757B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D26-9B71-4297-A1DE-6C87017D981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81A-50F5-442B-A3DC-65E75413CAB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911-D56B-4335-8EB8-B24157D4B3B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4C2-3036-4C93-B1BA-35152D720B04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827-F7CE-4BD7-B38F-EF05118EE5A4}" type="slidenum">
              <a:t>7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3F-8230-460E-9772-EA5A06642562}" type="slidenum">
              <a:t>8</a:t>
            </a:fld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4E9-62F2-41CA-BA04-94EF7D1159DF}" type="slidenum">
              <a:t>9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5-07T04:55:40Z</dcterms:modified>
  <cp:revision>218</cp:revision>
  <dc:subject/>
  <dc:title>Selekční jazyky</dc:title>
</cp:coreProperties>
</file>